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21.jpeg" ContentType="image/jpeg"/>
  <Override PartName="/ppt/media/image20.gif" ContentType="image/gif"/>
  <Override PartName="/ppt/media/Utopia%20Windows%20Start.wav" ContentType="audio/x-wav"/>
  <Override PartName="/ppt/media/image18.wmf" ContentType="image/x-wmf"/>
  <Override PartName="/ppt/media/image17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DA9-D273-4421-802D-0E7A55897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Calibri"/>
              <a:ea typeface="Cordia New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13D9-1769-48FF-9B04-4134546CD110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78F-5863-432D-A784-FB1F5A8A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42D-EF8A-4091-B762-68CBD035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ABD-0D22-4EB8-B68C-0986B1D0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2B2-4507-4270-874F-46E7914E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D1BB-3CF9-46DF-9AD5-D6A1276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581B-425B-46F5-B80C-DA09400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8C5E-C7A5-4343-A6FF-70A8FBF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4CEB-DFBF-48FA-A235-299C7E3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F222-6497-42A3-A28F-DBE41BC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EB38-98A2-424D-86EB-C3DAC7F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D49B-C723-4542-88D4-2B5877A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820-57B8-4605-A46C-22C4DEB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2041-7D37-4B91-9653-3BAE995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DBB3-6E89-418E-BB9C-BB1F6EC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E54-099B-4969-8711-EA33684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0CE-0A6A-4836-9E39-5D8FC92E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CB2-A8F0-47BA-9D29-DE738933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AA31-8B92-42C2-858A-449E3BF6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70CE-0C47-48E9-A82C-B1D4D423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3D06-18A3-4844-BCD0-9872F30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3019-091D-41BB-93CA-FB353EE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5480-AAEA-4924-9280-7169EF3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2A3-14B8-4242-B8B8-7A16060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26B6-A95C-4A2C-8874-050EDD0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1143-189D-4D1E-B3CD-0CAF511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F0CA0-19EC-49C5-9726-F77455D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FEB0-142C-40BC-90A1-8B49398B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6FD2-A728-4939-9B40-7C08B0AB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FD13-EF24-4D46-B9C6-AE0537D7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99AAD-92B1-4B5F-A5E1-D1338B7E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53DD-869A-40C7-A689-B9E44B35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8D06-B040-491C-A2A7-33C7385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3CE4-DF41-4A01-89E1-BBB9C04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C4E-2913-4522-91EA-E3C51D7C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C097-6030-47DC-8C03-AE02C86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6230-FECB-48B7-A5E0-272BEF2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65805-8FC2-4C22-8B96-65A8AE8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6AB31-06B3-4FDE-9465-57EC0C6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B00F-5A57-442F-A5DD-CFC5C76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36C5-5AC9-41E0-8A59-39F8985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2094-13F8-4F9F-B989-A334206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E58C-30DE-4C78-B538-52BF0CA7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A445-E00B-423F-9E9D-32DDA569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049D-7B0F-4396-BE2C-42C26AE5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ACD-3A32-4A91-8DCE-94BD1D1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802E-150B-4114-A1D2-6B76597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4F108-7625-4D54-A4AD-1FA154B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98B5-3D07-4425-994A-1487BC01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E8519-AE0B-431A-9AF2-F3BD8B39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071B-02C6-4B25-B5CA-DA9659C8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535B-3619-44B5-8D61-1735F93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52B9-D397-4F00-A22B-61F5B191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0E61-7818-4366-AA17-79146A6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3FA7-0B87-411F-9956-1C56D745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E585B-1DC1-462A-98B2-650E033F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90A-E2DB-4F60-B13F-C2E39AF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DFF4E-E3A4-4F5B-9A3C-16981AB0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9DDD-EF37-4169-B135-83077264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EE02-8A9D-4E01-B81C-F4EE984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8247-822C-4860-800D-7EE998EF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035C-EBD8-4F25-A49B-00E72CF9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F714-1597-4DF1-BFF0-280A7EC7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79C8-0519-4B60-9579-B0208C89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A997C-0DD9-4130-8EDC-903AC94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D1BEB-561E-48E2-969C-0605292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1582-D9E2-46EE-BDCA-9D8B35D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927-23CB-4BC6-8C06-C795755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D2E5D-AD7A-49EA-B3FA-7CE0AC78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80FF-C506-4672-966A-2ED8E7F2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63B13-75D8-4D09-969F-CFE4A096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9D5-EE17-4AF4-87F7-BF923BD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94D-7694-4DF0-AC1B-5943EA1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800E-4F97-4A76-B9EF-F927CF9DA9A5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126-A9CF-4A1F-8F53-3F6ED7D9CED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4BE-23E4-496A-8B73-B666A56ADFA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434-603A-4CCD-8681-F09961FF117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FE58-F876-47EC-A0EA-463A6973BB36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5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6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84C-A3D0-40D6-9500-49BEA78F178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audio" Target="../media/Utopia%20Windows%20Start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200" spc="-1" strike="noStrike">
              <a:solidFill>
                <a:srgbClr val="212745"/>
              </a:solidFill>
              <a:latin typeface="Trebuchet MS"/>
              <a:ea typeface="IrisUP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5400" spc="-1" strike="noStrike">
              <a:solidFill>
                <a:srgbClr val="000000"/>
              </a:solidFill>
              <a:latin typeface="Trebuchet MS"/>
              <a:ea typeface="IrisUPC"/>
            </a:endParaRPr>
          </a:p>
        </p:txBody>
      </p:sp>
      <p:pic>
        <p:nvPicPr>
          <p:cNvPr id="316" name="Picture 1" descr="คำอธิบาย: C:\Users\Administrator\Desktop\uy16 (1).jpg"/>
          <p:cNvPicPr/>
          <p:nvPr/>
        </p:nvPicPr>
        <p:blipFill>
          <a:blip r:embed="rId1"/>
          <a:stretch/>
        </p:blipFill>
        <p:spPr>
          <a:xfrm>
            <a:off x="152280" y="246240"/>
            <a:ext cx="8693280" cy="6351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คำอธิบาย: D:\TonZA\Documents\งานต้น\รูปภาพข้อมูล ทำปก\recruitmentpagexsmall.jpg"/>
          <p:cNvPicPr/>
          <p:nvPr/>
        </p:nvPicPr>
        <p:blipFill>
          <a:blip r:embed="rId2"/>
          <a:stretch/>
        </p:blipFill>
        <p:spPr>
          <a:xfrm>
            <a:off x="7227720" y="2714760"/>
            <a:ext cx="1916280" cy="2817720"/>
          </a:xfrm>
          <a:prstGeom prst="rect">
            <a:avLst/>
          </a:prstGeom>
          <a:ln w="0">
            <a:noFill/>
          </a:ln>
        </p:spPr>
      </p:pic>
      <p:pic>
        <p:nvPicPr>
          <p:cNvPr id="318" name="รูปภาพ 11" descr="คำอธิบาย: D:\TonZA\Documents\งานต้นที่กระทรวง\รูปภาพ\สัญลักษณ์ สพฐ..jpg"/>
          <p:cNvPicPr/>
          <p:nvPr/>
        </p:nvPicPr>
        <p:blipFill>
          <a:blip r:embed="rId3"/>
          <a:stretch/>
        </p:blipFill>
        <p:spPr>
          <a:xfrm>
            <a:off x="1187280" y="404640"/>
            <a:ext cx="868680" cy="1236960"/>
          </a:xfrm>
          <a:prstGeom prst="rect">
            <a:avLst/>
          </a:prstGeom>
          <a:ln w="0">
            <a:noFill/>
          </a:ln>
        </p:spPr>
      </p:pic>
      <p:sp>
        <p:nvSpPr>
          <p:cNvPr id="319" name="สี่เหลี่ยมผืนผ้า 7"/>
          <p:cNvSpPr/>
          <p:nvPr/>
        </p:nvSpPr>
        <p:spPr>
          <a:xfrm>
            <a:off x="274680" y="5011560"/>
            <a:ext cx="8448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00000"/>
                </a:solidFill>
                <a:latin typeface="Angsana New"/>
                <a:cs typeface="Calibri"/>
              </a:rPr>
              <a:t>สำนักบริหารงานการศึกษาพิเศ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ff"/>
                </a:solidFill>
                <a:latin typeface="Angsana New"/>
                <a:cs typeface="Calibri"/>
              </a:rPr>
              <a:t>สำนักงานคณะกรรมการการศึกษาขั้นพื้นฐา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สี่เหลี่ยมผืนผ้า 11"/>
          <p:cNvSpPr/>
          <p:nvPr/>
        </p:nvSpPr>
        <p:spPr>
          <a:xfrm>
            <a:off x="379440" y="246240"/>
            <a:ext cx="857232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โครงการ</a:t>
            </a:r>
            <a:br>
              <a:rPr sz="6000"/>
            </a:br>
            <a:r>
              <a:rPr b="1" lang="th-TH" sz="54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“ พัฒนาคุณภาพ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การจัดการศึกษา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เรียนร่วมและเรียนรวม”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-181080" y="0"/>
            <a:ext cx="9577080" cy="6896160"/>
            <a:chOff x="-181080" y="0"/>
            <a:chExt cx="9577080" cy="6896160"/>
          </a:xfrm>
        </p:grpSpPr>
        <p:sp>
          <p:nvSpPr>
            <p:cNvPr id="364" name="AutoShape 3"/>
            <p:cNvSpPr/>
            <p:nvPr/>
          </p:nvSpPr>
          <p:spPr>
            <a:xfrm>
              <a:off x="-181080" y="0"/>
              <a:ext cx="95770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1440" y="5153040"/>
              <a:ext cx="9211320" cy="1450800"/>
            </a:xfrm>
            <a:custGeom>
              <a:avLst/>
              <a:gdLst>
                <a:gd name="textAreaLeft" fmla="*/ 0 w 9211320"/>
                <a:gd name="textAreaRight" fmla="*/ 9211680 w 921132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5540" h="914">
                  <a:moveTo>
                    <a:pt x="2771" y="190"/>
                  </a:moveTo>
                  <a:lnTo>
                    <a:pt x="2794" y="190"/>
                  </a:lnTo>
                  <a:lnTo>
                    <a:pt x="2822" y="184"/>
                  </a:lnTo>
                  <a:lnTo>
                    <a:pt x="2862" y="179"/>
                  </a:lnTo>
                  <a:lnTo>
                    <a:pt x="2904" y="166"/>
                  </a:lnTo>
                  <a:lnTo>
                    <a:pt x="2955" y="150"/>
                  </a:lnTo>
                  <a:lnTo>
                    <a:pt x="3011" y="126"/>
                  </a:lnTo>
                  <a:lnTo>
                    <a:pt x="3070" y="96"/>
                  </a:lnTo>
                  <a:lnTo>
                    <a:pt x="3135" y="59"/>
                  </a:lnTo>
                  <a:lnTo>
                    <a:pt x="3169" y="40"/>
                  </a:lnTo>
                  <a:lnTo>
                    <a:pt x="3203" y="24"/>
                  </a:lnTo>
                  <a:lnTo>
                    <a:pt x="3239" y="13"/>
                  </a:lnTo>
                  <a:lnTo>
                    <a:pt x="3276" y="5"/>
                  </a:lnTo>
                  <a:lnTo>
                    <a:pt x="3313" y="0"/>
                  </a:lnTo>
                  <a:lnTo>
                    <a:pt x="3352" y="0"/>
                  </a:lnTo>
                  <a:lnTo>
                    <a:pt x="3389" y="0"/>
                  </a:lnTo>
                  <a:lnTo>
                    <a:pt x="3431" y="5"/>
                  </a:lnTo>
                  <a:lnTo>
                    <a:pt x="3471" y="13"/>
                  </a:lnTo>
                  <a:lnTo>
                    <a:pt x="3513" y="21"/>
                  </a:lnTo>
                  <a:lnTo>
                    <a:pt x="3555" y="35"/>
                  </a:lnTo>
                  <a:lnTo>
                    <a:pt x="3600" y="48"/>
                  </a:lnTo>
                  <a:lnTo>
                    <a:pt x="3645" y="61"/>
                  </a:lnTo>
                  <a:lnTo>
                    <a:pt x="3691" y="80"/>
                  </a:lnTo>
                  <a:lnTo>
                    <a:pt x="3738" y="99"/>
                  </a:lnTo>
                  <a:lnTo>
                    <a:pt x="3786" y="118"/>
                  </a:lnTo>
                  <a:lnTo>
                    <a:pt x="3834" y="136"/>
                  </a:lnTo>
                  <a:lnTo>
                    <a:pt x="3885" y="150"/>
                  </a:lnTo>
                  <a:lnTo>
                    <a:pt x="3933" y="163"/>
                  </a:lnTo>
                  <a:lnTo>
                    <a:pt x="3978" y="171"/>
                  </a:lnTo>
                  <a:lnTo>
                    <a:pt x="4026" y="174"/>
                  </a:lnTo>
                  <a:lnTo>
                    <a:pt x="4071" y="176"/>
                  </a:lnTo>
                  <a:lnTo>
                    <a:pt x="4116" y="174"/>
                  </a:lnTo>
                  <a:lnTo>
                    <a:pt x="4161" y="171"/>
                  </a:lnTo>
                  <a:lnTo>
                    <a:pt x="4204" y="163"/>
                  </a:lnTo>
                  <a:lnTo>
                    <a:pt x="4246" y="155"/>
                  </a:lnTo>
                  <a:lnTo>
                    <a:pt x="4285" y="144"/>
                  </a:lnTo>
                  <a:lnTo>
                    <a:pt x="4325" y="131"/>
                  </a:lnTo>
                  <a:lnTo>
                    <a:pt x="4364" y="115"/>
                  </a:lnTo>
                  <a:lnTo>
                    <a:pt x="4401" y="99"/>
                  </a:lnTo>
                  <a:lnTo>
                    <a:pt x="4435" y="83"/>
                  </a:lnTo>
                  <a:lnTo>
                    <a:pt x="4469" y="64"/>
                  </a:lnTo>
                  <a:lnTo>
                    <a:pt x="4503" y="45"/>
                  </a:lnTo>
                  <a:lnTo>
                    <a:pt x="4536" y="32"/>
                  </a:lnTo>
                  <a:lnTo>
                    <a:pt x="4573" y="21"/>
                  </a:lnTo>
                  <a:lnTo>
                    <a:pt x="4607" y="13"/>
                  </a:lnTo>
                  <a:lnTo>
                    <a:pt x="4643" y="8"/>
                  </a:lnTo>
                  <a:lnTo>
                    <a:pt x="4677" y="5"/>
                  </a:lnTo>
                  <a:lnTo>
                    <a:pt x="4714" y="5"/>
                  </a:lnTo>
                  <a:lnTo>
                    <a:pt x="4751" y="8"/>
                  </a:lnTo>
                  <a:lnTo>
                    <a:pt x="4784" y="13"/>
                  </a:lnTo>
                  <a:lnTo>
                    <a:pt x="4821" y="21"/>
                  </a:lnTo>
                  <a:lnTo>
                    <a:pt x="4855" y="29"/>
                  </a:lnTo>
                  <a:lnTo>
                    <a:pt x="4889" y="43"/>
                  </a:lnTo>
                  <a:lnTo>
                    <a:pt x="4920" y="56"/>
                  </a:lnTo>
                  <a:lnTo>
                    <a:pt x="4951" y="72"/>
                  </a:lnTo>
                  <a:lnTo>
                    <a:pt x="4982" y="88"/>
                  </a:lnTo>
                  <a:lnTo>
                    <a:pt x="5010" y="107"/>
                  </a:lnTo>
                  <a:lnTo>
                    <a:pt x="5033" y="120"/>
                  </a:lnTo>
                  <a:lnTo>
                    <a:pt x="5058" y="134"/>
                  </a:lnTo>
                  <a:lnTo>
                    <a:pt x="5086" y="147"/>
                  </a:lnTo>
                  <a:lnTo>
                    <a:pt x="5120" y="160"/>
                  </a:lnTo>
                  <a:lnTo>
                    <a:pt x="5154" y="171"/>
                  </a:lnTo>
                  <a:lnTo>
                    <a:pt x="5190" y="182"/>
                  </a:lnTo>
                  <a:lnTo>
                    <a:pt x="5227" y="192"/>
                  </a:lnTo>
                  <a:lnTo>
                    <a:pt x="5264" y="200"/>
                  </a:lnTo>
                  <a:lnTo>
                    <a:pt x="5303" y="206"/>
                  </a:lnTo>
                  <a:lnTo>
                    <a:pt x="5340" y="211"/>
                  </a:lnTo>
                  <a:lnTo>
                    <a:pt x="5379" y="214"/>
                  </a:lnTo>
                  <a:lnTo>
                    <a:pt x="5416" y="214"/>
                  </a:lnTo>
                  <a:lnTo>
                    <a:pt x="5450" y="214"/>
                  </a:lnTo>
                  <a:lnTo>
                    <a:pt x="5484" y="208"/>
                  </a:lnTo>
                  <a:lnTo>
                    <a:pt x="5512" y="200"/>
                  </a:lnTo>
                  <a:lnTo>
                    <a:pt x="5540" y="190"/>
                  </a:lnTo>
                  <a:lnTo>
                    <a:pt x="5540" y="395"/>
                  </a:lnTo>
                  <a:lnTo>
                    <a:pt x="5520" y="371"/>
                  </a:lnTo>
                  <a:lnTo>
                    <a:pt x="5498" y="347"/>
                  </a:lnTo>
                  <a:lnTo>
                    <a:pt x="5472" y="329"/>
                  </a:lnTo>
                  <a:lnTo>
                    <a:pt x="5444" y="313"/>
                  </a:lnTo>
                  <a:lnTo>
                    <a:pt x="5416" y="299"/>
                  </a:lnTo>
                  <a:lnTo>
                    <a:pt x="5385" y="289"/>
                  </a:lnTo>
                  <a:lnTo>
                    <a:pt x="5354" y="280"/>
                  </a:lnTo>
                  <a:lnTo>
                    <a:pt x="5323" y="275"/>
                  </a:lnTo>
                  <a:lnTo>
                    <a:pt x="5289" y="272"/>
                  </a:lnTo>
                  <a:lnTo>
                    <a:pt x="5258" y="272"/>
                  </a:lnTo>
                  <a:lnTo>
                    <a:pt x="5224" y="278"/>
                  </a:lnTo>
                  <a:lnTo>
                    <a:pt x="5193" y="286"/>
                  </a:lnTo>
                  <a:lnTo>
                    <a:pt x="5162" y="297"/>
                  </a:lnTo>
                  <a:lnTo>
                    <a:pt x="5134" y="310"/>
                  </a:lnTo>
                  <a:lnTo>
                    <a:pt x="5106" y="329"/>
                  </a:lnTo>
                  <a:lnTo>
                    <a:pt x="5080" y="350"/>
                  </a:lnTo>
                  <a:lnTo>
                    <a:pt x="5049" y="387"/>
                  </a:lnTo>
                  <a:lnTo>
                    <a:pt x="5021" y="435"/>
                  </a:lnTo>
                  <a:lnTo>
                    <a:pt x="5002" y="489"/>
                  </a:lnTo>
                  <a:lnTo>
                    <a:pt x="4990" y="545"/>
                  </a:lnTo>
                  <a:lnTo>
                    <a:pt x="4987" y="604"/>
                  </a:lnTo>
                  <a:lnTo>
                    <a:pt x="4999" y="660"/>
                  </a:lnTo>
                  <a:lnTo>
                    <a:pt x="5021" y="713"/>
                  </a:lnTo>
                  <a:lnTo>
                    <a:pt x="5061" y="761"/>
                  </a:lnTo>
                  <a:lnTo>
                    <a:pt x="5111" y="799"/>
                  </a:lnTo>
                  <a:lnTo>
                    <a:pt x="5162" y="823"/>
                  </a:lnTo>
                  <a:lnTo>
                    <a:pt x="5213" y="834"/>
                  </a:lnTo>
                  <a:lnTo>
                    <a:pt x="5261" y="831"/>
                  </a:lnTo>
                  <a:lnTo>
                    <a:pt x="5306" y="820"/>
                  </a:lnTo>
                  <a:lnTo>
                    <a:pt x="5346" y="801"/>
                  </a:lnTo>
                  <a:lnTo>
                    <a:pt x="5374" y="775"/>
                  </a:lnTo>
                  <a:lnTo>
                    <a:pt x="5396" y="748"/>
                  </a:lnTo>
                  <a:lnTo>
                    <a:pt x="5408" y="716"/>
                  </a:lnTo>
                  <a:lnTo>
                    <a:pt x="5416" y="681"/>
                  </a:lnTo>
                  <a:lnTo>
                    <a:pt x="5416" y="647"/>
                  </a:lnTo>
                  <a:lnTo>
                    <a:pt x="5410" y="612"/>
                  </a:lnTo>
                  <a:lnTo>
                    <a:pt x="5399" y="580"/>
                  </a:lnTo>
                  <a:lnTo>
                    <a:pt x="5379" y="553"/>
                  </a:lnTo>
                  <a:lnTo>
                    <a:pt x="5351" y="532"/>
                  </a:lnTo>
                  <a:lnTo>
                    <a:pt x="5317" y="518"/>
                  </a:lnTo>
                  <a:lnTo>
                    <a:pt x="5278" y="518"/>
                  </a:lnTo>
                  <a:lnTo>
                    <a:pt x="5244" y="529"/>
                  </a:lnTo>
                  <a:lnTo>
                    <a:pt x="5219" y="553"/>
                  </a:lnTo>
                  <a:lnTo>
                    <a:pt x="5205" y="585"/>
                  </a:lnTo>
                  <a:lnTo>
                    <a:pt x="5196" y="617"/>
                  </a:lnTo>
                  <a:lnTo>
                    <a:pt x="5202" y="647"/>
                  </a:lnTo>
                  <a:lnTo>
                    <a:pt x="5216" y="671"/>
                  </a:lnTo>
                  <a:lnTo>
                    <a:pt x="5241" y="684"/>
                  </a:lnTo>
                  <a:lnTo>
                    <a:pt x="5219" y="681"/>
                  </a:lnTo>
                  <a:lnTo>
                    <a:pt x="5196" y="671"/>
                  </a:lnTo>
                  <a:lnTo>
                    <a:pt x="5176" y="652"/>
                  </a:lnTo>
                  <a:lnTo>
                    <a:pt x="5162" y="628"/>
                  </a:lnTo>
                  <a:lnTo>
                    <a:pt x="5151" y="596"/>
                  </a:lnTo>
                  <a:lnTo>
                    <a:pt x="5151" y="564"/>
                  </a:lnTo>
                  <a:lnTo>
                    <a:pt x="5157" y="529"/>
                  </a:lnTo>
                  <a:lnTo>
                    <a:pt x="5176" y="494"/>
                  </a:lnTo>
                  <a:lnTo>
                    <a:pt x="5207" y="465"/>
                  </a:lnTo>
                  <a:lnTo>
                    <a:pt x="5241" y="446"/>
                  </a:lnTo>
                  <a:lnTo>
                    <a:pt x="5281" y="435"/>
                  </a:lnTo>
                  <a:lnTo>
                    <a:pt x="5320" y="435"/>
                  </a:lnTo>
                  <a:lnTo>
                    <a:pt x="5360" y="446"/>
                  </a:lnTo>
                  <a:lnTo>
                    <a:pt x="5396" y="462"/>
                  </a:lnTo>
                  <a:lnTo>
                    <a:pt x="5427" y="486"/>
                  </a:lnTo>
                  <a:lnTo>
                    <a:pt x="5455" y="516"/>
                  </a:lnTo>
                  <a:lnTo>
                    <a:pt x="5472" y="548"/>
                  </a:lnTo>
                  <a:lnTo>
                    <a:pt x="5486" y="582"/>
                  </a:lnTo>
                  <a:lnTo>
                    <a:pt x="5495" y="625"/>
                  </a:lnTo>
                  <a:lnTo>
                    <a:pt x="5498" y="668"/>
                  </a:lnTo>
                  <a:lnTo>
                    <a:pt x="5492" y="713"/>
                  </a:lnTo>
                  <a:lnTo>
                    <a:pt x="5481" y="756"/>
                  </a:lnTo>
                  <a:lnTo>
                    <a:pt x="5461" y="799"/>
                  </a:lnTo>
                  <a:lnTo>
                    <a:pt x="5430" y="834"/>
                  </a:lnTo>
                  <a:lnTo>
                    <a:pt x="5391" y="866"/>
                  </a:lnTo>
                  <a:lnTo>
                    <a:pt x="5348" y="890"/>
                  </a:lnTo>
                  <a:lnTo>
                    <a:pt x="5303" y="906"/>
                  </a:lnTo>
                  <a:lnTo>
                    <a:pt x="5255" y="914"/>
                  </a:lnTo>
                  <a:lnTo>
                    <a:pt x="5207" y="914"/>
                  </a:lnTo>
                  <a:lnTo>
                    <a:pt x="5159" y="906"/>
                  </a:lnTo>
                  <a:lnTo>
                    <a:pt x="5111" y="890"/>
                  </a:lnTo>
                  <a:lnTo>
                    <a:pt x="5066" y="866"/>
                  </a:lnTo>
                  <a:lnTo>
                    <a:pt x="5049" y="855"/>
                  </a:lnTo>
                  <a:lnTo>
                    <a:pt x="5033" y="842"/>
                  </a:lnTo>
                  <a:lnTo>
                    <a:pt x="5018" y="831"/>
                  </a:lnTo>
                  <a:lnTo>
                    <a:pt x="5004" y="820"/>
                  </a:lnTo>
                  <a:lnTo>
                    <a:pt x="4993" y="807"/>
                  </a:lnTo>
                  <a:lnTo>
                    <a:pt x="4982" y="793"/>
                  </a:lnTo>
                  <a:lnTo>
                    <a:pt x="4968" y="780"/>
                  </a:lnTo>
                  <a:lnTo>
                    <a:pt x="4956" y="767"/>
                  </a:lnTo>
                  <a:lnTo>
                    <a:pt x="4928" y="753"/>
                  </a:lnTo>
                  <a:lnTo>
                    <a:pt x="4900" y="743"/>
                  </a:lnTo>
                  <a:lnTo>
                    <a:pt x="4872" y="732"/>
                  </a:lnTo>
                  <a:lnTo>
                    <a:pt x="4841" y="721"/>
                  </a:lnTo>
                  <a:lnTo>
                    <a:pt x="4810" y="713"/>
                  </a:lnTo>
                  <a:lnTo>
                    <a:pt x="4779" y="708"/>
                  </a:lnTo>
                  <a:lnTo>
                    <a:pt x="4748" y="703"/>
                  </a:lnTo>
                  <a:lnTo>
                    <a:pt x="4717" y="700"/>
                  </a:lnTo>
                  <a:lnTo>
                    <a:pt x="4686" y="700"/>
                  </a:lnTo>
                  <a:lnTo>
                    <a:pt x="4655" y="700"/>
                  </a:lnTo>
                  <a:lnTo>
                    <a:pt x="4621" y="703"/>
                  </a:lnTo>
                  <a:lnTo>
                    <a:pt x="4590" y="708"/>
                  </a:lnTo>
                  <a:lnTo>
                    <a:pt x="4559" y="716"/>
                  </a:lnTo>
                  <a:lnTo>
                    <a:pt x="4528" y="727"/>
                  </a:lnTo>
                  <a:lnTo>
                    <a:pt x="4500" y="740"/>
                  </a:lnTo>
                  <a:lnTo>
                    <a:pt x="4469" y="756"/>
                  </a:lnTo>
                  <a:lnTo>
                    <a:pt x="4435" y="775"/>
                  </a:lnTo>
                  <a:lnTo>
                    <a:pt x="4401" y="793"/>
                  </a:lnTo>
                  <a:lnTo>
                    <a:pt x="4364" y="809"/>
                  </a:lnTo>
                  <a:lnTo>
                    <a:pt x="4325" y="823"/>
                  </a:lnTo>
                  <a:lnTo>
                    <a:pt x="4285" y="836"/>
                  </a:lnTo>
                  <a:lnTo>
                    <a:pt x="4246" y="847"/>
                  </a:lnTo>
                  <a:lnTo>
                    <a:pt x="4204" y="858"/>
                  </a:lnTo>
                  <a:lnTo>
                    <a:pt x="4161" y="863"/>
                  </a:lnTo>
                  <a:lnTo>
                    <a:pt x="4116" y="866"/>
                  </a:lnTo>
                  <a:lnTo>
                    <a:pt x="4071" y="868"/>
                  </a:lnTo>
                  <a:lnTo>
                    <a:pt x="4026" y="866"/>
                  </a:lnTo>
                  <a:lnTo>
                    <a:pt x="3978" y="863"/>
                  </a:lnTo>
                  <a:lnTo>
                    <a:pt x="3933" y="855"/>
                  </a:lnTo>
                  <a:lnTo>
                    <a:pt x="3885" y="844"/>
                  </a:lnTo>
                  <a:lnTo>
                    <a:pt x="3834" y="828"/>
                  </a:lnTo>
                  <a:lnTo>
                    <a:pt x="3786" y="809"/>
                  </a:lnTo>
                  <a:lnTo>
                    <a:pt x="3738" y="791"/>
                  </a:lnTo>
                  <a:lnTo>
                    <a:pt x="3691" y="772"/>
                  </a:lnTo>
                  <a:lnTo>
                    <a:pt x="3645" y="753"/>
                  </a:lnTo>
                  <a:lnTo>
                    <a:pt x="3600" y="740"/>
                  </a:lnTo>
                  <a:lnTo>
                    <a:pt x="3555" y="727"/>
                  </a:lnTo>
                  <a:lnTo>
                    <a:pt x="3513" y="713"/>
                  </a:lnTo>
                  <a:lnTo>
                    <a:pt x="3471" y="705"/>
                  </a:lnTo>
                  <a:lnTo>
                    <a:pt x="3431" y="697"/>
                  </a:lnTo>
                  <a:lnTo>
                    <a:pt x="3389" y="692"/>
                  </a:lnTo>
                  <a:lnTo>
                    <a:pt x="3352" y="692"/>
                  </a:lnTo>
                  <a:lnTo>
                    <a:pt x="3313" y="692"/>
                  </a:lnTo>
                  <a:lnTo>
                    <a:pt x="3276" y="697"/>
                  </a:lnTo>
                  <a:lnTo>
                    <a:pt x="3239" y="705"/>
                  </a:lnTo>
                  <a:lnTo>
                    <a:pt x="3203" y="716"/>
                  </a:lnTo>
                  <a:lnTo>
                    <a:pt x="3169" y="732"/>
                  </a:lnTo>
                  <a:lnTo>
                    <a:pt x="3135" y="751"/>
                  </a:lnTo>
                  <a:lnTo>
                    <a:pt x="3070" y="788"/>
                  </a:lnTo>
                  <a:lnTo>
                    <a:pt x="3011" y="820"/>
                  </a:lnTo>
                  <a:lnTo>
                    <a:pt x="2955" y="844"/>
                  </a:lnTo>
                  <a:lnTo>
                    <a:pt x="2904" y="860"/>
                  </a:lnTo>
                  <a:lnTo>
                    <a:pt x="2862" y="874"/>
                  </a:lnTo>
                  <a:lnTo>
                    <a:pt x="2822" y="879"/>
                  </a:lnTo>
                  <a:lnTo>
                    <a:pt x="2794" y="884"/>
                  </a:lnTo>
                  <a:lnTo>
                    <a:pt x="2771" y="884"/>
                  </a:lnTo>
                  <a:lnTo>
                    <a:pt x="2749" y="884"/>
                  </a:lnTo>
                  <a:lnTo>
                    <a:pt x="2721" y="879"/>
                  </a:lnTo>
                  <a:lnTo>
                    <a:pt x="2684" y="874"/>
                  </a:lnTo>
                  <a:lnTo>
                    <a:pt x="2639" y="860"/>
                  </a:lnTo>
                  <a:lnTo>
                    <a:pt x="2588" y="844"/>
                  </a:lnTo>
                  <a:lnTo>
                    <a:pt x="2532" y="820"/>
                  </a:lnTo>
                  <a:lnTo>
                    <a:pt x="2473" y="788"/>
                  </a:lnTo>
                  <a:lnTo>
                    <a:pt x="2408" y="751"/>
                  </a:lnTo>
                  <a:lnTo>
                    <a:pt x="2374" y="732"/>
                  </a:lnTo>
                  <a:lnTo>
                    <a:pt x="2340" y="716"/>
                  </a:lnTo>
                  <a:lnTo>
                    <a:pt x="2303" y="705"/>
                  </a:lnTo>
                  <a:lnTo>
                    <a:pt x="2267" y="697"/>
                  </a:lnTo>
                  <a:lnTo>
                    <a:pt x="2230" y="692"/>
                  </a:lnTo>
                  <a:lnTo>
                    <a:pt x="2191" y="692"/>
                  </a:lnTo>
                  <a:lnTo>
                    <a:pt x="2154" y="692"/>
                  </a:lnTo>
                  <a:lnTo>
                    <a:pt x="2112" y="697"/>
                  </a:lnTo>
                  <a:lnTo>
                    <a:pt x="2072" y="705"/>
                  </a:lnTo>
                  <a:lnTo>
                    <a:pt x="2030" y="713"/>
                  </a:lnTo>
                  <a:lnTo>
                    <a:pt x="1988" y="727"/>
                  </a:lnTo>
                  <a:lnTo>
                    <a:pt x="1943" y="740"/>
                  </a:lnTo>
                  <a:lnTo>
                    <a:pt x="1897" y="753"/>
                  </a:lnTo>
                  <a:lnTo>
                    <a:pt x="1852" y="772"/>
                  </a:lnTo>
                  <a:lnTo>
                    <a:pt x="1804" y="791"/>
                  </a:lnTo>
                  <a:lnTo>
                    <a:pt x="1756" y="809"/>
                  </a:lnTo>
                  <a:lnTo>
                    <a:pt x="1709" y="828"/>
                  </a:lnTo>
                  <a:lnTo>
                    <a:pt x="1658" y="844"/>
                  </a:lnTo>
                  <a:lnTo>
                    <a:pt x="1610" y="855"/>
                  </a:lnTo>
                  <a:lnTo>
                    <a:pt x="1565" y="863"/>
                  </a:lnTo>
                  <a:lnTo>
                    <a:pt x="1517" y="866"/>
                  </a:lnTo>
                  <a:lnTo>
                    <a:pt x="1472" y="868"/>
                  </a:lnTo>
                  <a:lnTo>
                    <a:pt x="1427" y="866"/>
                  </a:lnTo>
                  <a:lnTo>
                    <a:pt x="1381" y="863"/>
                  </a:lnTo>
                  <a:lnTo>
                    <a:pt x="1339" y="858"/>
                  </a:lnTo>
                  <a:lnTo>
                    <a:pt x="1297" y="847"/>
                  </a:lnTo>
                  <a:lnTo>
                    <a:pt x="1255" y="836"/>
                  </a:lnTo>
                  <a:lnTo>
                    <a:pt x="1215" y="823"/>
                  </a:lnTo>
                  <a:lnTo>
                    <a:pt x="1176" y="809"/>
                  </a:lnTo>
                  <a:lnTo>
                    <a:pt x="1139" y="793"/>
                  </a:lnTo>
                  <a:lnTo>
                    <a:pt x="1105" y="775"/>
                  </a:lnTo>
                  <a:lnTo>
                    <a:pt x="1071" y="756"/>
                  </a:lnTo>
                  <a:lnTo>
                    <a:pt x="1040" y="740"/>
                  </a:lnTo>
                  <a:lnTo>
                    <a:pt x="1012" y="727"/>
                  </a:lnTo>
                  <a:lnTo>
                    <a:pt x="981" y="716"/>
                  </a:lnTo>
                  <a:lnTo>
                    <a:pt x="950" y="708"/>
                  </a:lnTo>
                  <a:lnTo>
                    <a:pt x="919" y="703"/>
                  </a:lnTo>
                  <a:lnTo>
                    <a:pt x="885" y="700"/>
                  </a:lnTo>
                  <a:lnTo>
                    <a:pt x="854" y="700"/>
                  </a:lnTo>
                  <a:lnTo>
                    <a:pt x="823" y="700"/>
                  </a:lnTo>
                  <a:lnTo>
                    <a:pt x="792" y="703"/>
                  </a:lnTo>
                  <a:lnTo>
                    <a:pt x="761" y="708"/>
                  </a:lnTo>
                  <a:lnTo>
                    <a:pt x="730" y="713"/>
                  </a:lnTo>
                  <a:lnTo>
                    <a:pt x="699" y="721"/>
                  </a:lnTo>
                  <a:lnTo>
                    <a:pt x="668" y="732"/>
                  </a:lnTo>
                  <a:lnTo>
                    <a:pt x="640" y="743"/>
                  </a:lnTo>
                  <a:lnTo>
                    <a:pt x="612" y="753"/>
                  </a:lnTo>
                  <a:lnTo>
                    <a:pt x="584" y="767"/>
                  </a:lnTo>
                  <a:lnTo>
                    <a:pt x="572" y="780"/>
                  </a:lnTo>
                  <a:lnTo>
                    <a:pt x="558" y="793"/>
                  </a:lnTo>
                  <a:lnTo>
                    <a:pt x="547" y="807"/>
                  </a:lnTo>
                  <a:lnTo>
                    <a:pt x="536" y="820"/>
                  </a:lnTo>
                  <a:lnTo>
                    <a:pt x="522" y="831"/>
                  </a:lnTo>
                  <a:lnTo>
                    <a:pt x="507" y="842"/>
                  </a:lnTo>
                  <a:lnTo>
                    <a:pt x="491" y="855"/>
                  </a:lnTo>
                  <a:lnTo>
                    <a:pt x="474" y="866"/>
                  </a:lnTo>
                  <a:lnTo>
                    <a:pt x="429" y="890"/>
                  </a:lnTo>
                  <a:lnTo>
                    <a:pt x="381" y="906"/>
                  </a:lnTo>
                  <a:lnTo>
                    <a:pt x="333" y="914"/>
                  </a:lnTo>
                  <a:lnTo>
                    <a:pt x="285" y="914"/>
                  </a:lnTo>
                  <a:lnTo>
                    <a:pt x="237" y="906"/>
                  </a:lnTo>
                  <a:lnTo>
                    <a:pt x="192" y="890"/>
                  </a:lnTo>
                  <a:lnTo>
                    <a:pt x="149" y="866"/>
                  </a:lnTo>
                  <a:lnTo>
                    <a:pt x="110" y="834"/>
                  </a:lnTo>
                  <a:lnTo>
                    <a:pt x="79" y="799"/>
                  </a:lnTo>
                  <a:lnTo>
                    <a:pt x="59" y="756"/>
                  </a:lnTo>
                  <a:lnTo>
                    <a:pt x="48" y="713"/>
                  </a:lnTo>
                  <a:lnTo>
                    <a:pt x="42" y="668"/>
                  </a:lnTo>
                  <a:lnTo>
                    <a:pt x="45" y="625"/>
                  </a:lnTo>
                  <a:lnTo>
                    <a:pt x="54" y="582"/>
                  </a:lnTo>
                  <a:lnTo>
                    <a:pt x="68" y="548"/>
                  </a:lnTo>
                  <a:lnTo>
                    <a:pt x="85" y="516"/>
                  </a:lnTo>
                  <a:lnTo>
                    <a:pt x="113" y="486"/>
                  </a:lnTo>
                  <a:lnTo>
                    <a:pt x="144" y="462"/>
                  </a:lnTo>
                  <a:lnTo>
                    <a:pt x="180" y="446"/>
                  </a:lnTo>
                  <a:lnTo>
                    <a:pt x="220" y="435"/>
                  </a:lnTo>
                  <a:lnTo>
                    <a:pt x="259" y="435"/>
                  </a:lnTo>
                  <a:lnTo>
                    <a:pt x="299" y="446"/>
                  </a:lnTo>
                  <a:lnTo>
                    <a:pt x="333" y="465"/>
                  </a:lnTo>
                  <a:lnTo>
                    <a:pt x="364" y="494"/>
                  </a:lnTo>
                  <a:lnTo>
                    <a:pt x="383" y="529"/>
                  </a:lnTo>
                  <a:lnTo>
                    <a:pt x="389" y="564"/>
                  </a:lnTo>
                  <a:lnTo>
                    <a:pt x="389" y="596"/>
                  </a:lnTo>
                  <a:lnTo>
                    <a:pt x="378" y="628"/>
                  </a:lnTo>
                  <a:lnTo>
                    <a:pt x="364" y="652"/>
                  </a:lnTo>
                  <a:lnTo>
                    <a:pt x="344" y="671"/>
                  </a:lnTo>
                  <a:lnTo>
                    <a:pt x="321" y="681"/>
                  </a:lnTo>
                  <a:lnTo>
                    <a:pt x="299" y="684"/>
                  </a:lnTo>
                  <a:lnTo>
                    <a:pt x="324" y="671"/>
                  </a:lnTo>
                  <a:lnTo>
                    <a:pt x="338" y="647"/>
                  </a:lnTo>
                  <a:lnTo>
                    <a:pt x="344" y="617"/>
                  </a:lnTo>
                  <a:lnTo>
                    <a:pt x="338" y="585"/>
                  </a:lnTo>
                  <a:lnTo>
                    <a:pt x="321" y="553"/>
                  </a:lnTo>
                  <a:lnTo>
                    <a:pt x="296" y="529"/>
                  </a:lnTo>
                  <a:lnTo>
                    <a:pt x="262" y="518"/>
                  </a:lnTo>
                  <a:lnTo>
                    <a:pt x="223" y="518"/>
                  </a:lnTo>
                  <a:lnTo>
                    <a:pt x="189" y="532"/>
                  </a:lnTo>
                  <a:lnTo>
                    <a:pt x="161" y="553"/>
                  </a:lnTo>
                  <a:lnTo>
                    <a:pt x="141" y="580"/>
                  </a:lnTo>
                  <a:lnTo>
                    <a:pt x="130" y="612"/>
                  </a:lnTo>
                  <a:lnTo>
                    <a:pt x="124" y="647"/>
                  </a:lnTo>
                  <a:lnTo>
                    <a:pt x="124" y="681"/>
                  </a:lnTo>
                  <a:lnTo>
                    <a:pt x="132" y="716"/>
                  </a:lnTo>
                  <a:lnTo>
                    <a:pt x="144" y="748"/>
                  </a:lnTo>
                  <a:lnTo>
                    <a:pt x="166" y="775"/>
                  </a:lnTo>
                  <a:lnTo>
                    <a:pt x="194" y="801"/>
                  </a:lnTo>
                  <a:lnTo>
                    <a:pt x="234" y="820"/>
                  </a:lnTo>
                  <a:lnTo>
                    <a:pt x="279" y="831"/>
                  </a:lnTo>
                  <a:lnTo>
                    <a:pt x="327" y="834"/>
                  </a:lnTo>
                  <a:lnTo>
                    <a:pt x="378" y="823"/>
                  </a:lnTo>
                  <a:lnTo>
                    <a:pt x="429" y="799"/>
                  </a:lnTo>
                  <a:lnTo>
                    <a:pt x="479" y="761"/>
                  </a:lnTo>
                  <a:lnTo>
                    <a:pt x="519" y="713"/>
                  </a:lnTo>
                  <a:lnTo>
                    <a:pt x="541" y="660"/>
                  </a:lnTo>
                  <a:lnTo>
                    <a:pt x="553" y="604"/>
                  </a:lnTo>
                  <a:lnTo>
                    <a:pt x="550" y="545"/>
                  </a:lnTo>
                  <a:lnTo>
                    <a:pt x="538" y="489"/>
                  </a:lnTo>
                  <a:lnTo>
                    <a:pt x="519" y="435"/>
                  </a:lnTo>
                  <a:lnTo>
                    <a:pt x="491" y="387"/>
                  </a:lnTo>
                  <a:lnTo>
                    <a:pt x="460" y="350"/>
                  </a:lnTo>
                  <a:lnTo>
                    <a:pt x="434" y="329"/>
                  </a:lnTo>
                  <a:lnTo>
                    <a:pt x="406" y="310"/>
                  </a:lnTo>
                  <a:lnTo>
                    <a:pt x="378" y="297"/>
                  </a:lnTo>
                  <a:lnTo>
                    <a:pt x="347" y="286"/>
                  </a:lnTo>
                  <a:lnTo>
                    <a:pt x="316" y="278"/>
                  </a:lnTo>
                  <a:lnTo>
                    <a:pt x="282" y="272"/>
                  </a:lnTo>
                  <a:lnTo>
                    <a:pt x="251" y="272"/>
                  </a:lnTo>
                  <a:lnTo>
                    <a:pt x="217" y="275"/>
                  </a:lnTo>
                  <a:lnTo>
                    <a:pt x="186" y="280"/>
                  </a:lnTo>
                  <a:lnTo>
                    <a:pt x="155" y="289"/>
                  </a:lnTo>
                  <a:lnTo>
                    <a:pt x="124" y="299"/>
                  </a:lnTo>
                  <a:lnTo>
                    <a:pt x="96" y="313"/>
                  </a:lnTo>
                  <a:lnTo>
                    <a:pt x="68" y="329"/>
                  </a:lnTo>
                  <a:lnTo>
                    <a:pt x="42" y="347"/>
                  </a:lnTo>
                  <a:lnTo>
                    <a:pt x="20" y="371"/>
                  </a:lnTo>
                  <a:lnTo>
                    <a:pt x="0" y="395"/>
                  </a:lnTo>
                  <a:lnTo>
                    <a:pt x="0" y="190"/>
                  </a:lnTo>
                  <a:lnTo>
                    <a:pt x="28" y="200"/>
                  </a:lnTo>
                  <a:lnTo>
                    <a:pt x="56" y="208"/>
                  </a:lnTo>
                  <a:lnTo>
                    <a:pt x="90" y="214"/>
                  </a:lnTo>
                  <a:lnTo>
                    <a:pt x="124" y="214"/>
                  </a:lnTo>
                  <a:lnTo>
                    <a:pt x="161" y="214"/>
                  </a:lnTo>
                  <a:lnTo>
                    <a:pt x="200" y="211"/>
                  </a:lnTo>
                  <a:lnTo>
                    <a:pt x="237" y="206"/>
                  </a:lnTo>
                  <a:lnTo>
                    <a:pt x="276" y="200"/>
                  </a:lnTo>
                  <a:lnTo>
                    <a:pt x="313" y="192"/>
                  </a:lnTo>
                  <a:lnTo>
                    <a:pt x="350" y="182"/>
                  </a:lnTo>
                  <a:lnTo>
                    <a:pt x="386" y="171"/>
                  </a:lnTo>
                  <a:lnTo>
                    <a:pt x="420" y="160"/>
                  </a:lnTo>
                  <a:lnTo>
                    <a:pt x="454" y="147"/>
                  </a:lnTo>
                  <a:lnTo>
                    <a:pt x="482" y="134"/>
                  </a:lnTo>
                  <a:lnTo>
                    <a:pt x="507" y="120"/>
                  </a:lnTo>
                  <a:lnTo>
                    <a:pt x="530" y="107"/>
                  </a:lnTo>
                  <a:lnTo>
                    <a:pt x="558" y="88"/>
                  </a:lnTo>
                  <a:lnTo>
                    <a:pt x="589" y="72"/>
                  </a:lnTo>
                  <a:lnTo>
                    <a:pt x="620" y="56"/>
                  </a:lnTo>
                  <a:lnTo>
                    <a:pt x="654" y="43"/>
                  </a:lnTo>
                  <a:lnTo>
                    <a:pt x="685" y="29"/>
                  </a:lnTo>
                  <a:lnTo>
                    <a:pt x="719" y="21"/>
                  </a:lnTo>
                  <a:lnTo>
                    <a:pt x="756" y="13"/>
                  </a:lnTo>
                  <a:lnTo>
                    <a:pt x="789" y="8"/>
                  </a:lnTo>
                  <a:lnTo>
                    <a:pt x="826" y="5"/>
                  </a:lnTo>
                  <a:lnTo>
                    <a:pt x="863" y="5"/>
                  </a:lnTo>
                  <a:lnTo>
                    <a:pt x="897" y="8"/>
                  </a:lnTo>
                  <a:lnTo>
                    <a:pt x="933" y="13"/>
                  </a:lnTo>
                  <a:lnTo>
                    <a:pt x="967" y="21"/>
                  </a:lnTo>
                  <a:lnTo>
                    <a:pt x="1004" y="32"/>
                  </a:lnTo>
                  <a:lnTo>
                    <a:pt x="1037" y="45"/>
                  </a:lnTo>
                  <a:lnTo>
                    <a:pt x="1071" y="64"/>
                  </a:lnTo>
                  <a:lnTo>
                    <a:pt x="1105" y="83"/>
                  </a:lnTo>
                  <a:lnTo>
                    <a:pt x="1139" y="99"/>
                  </a:lnTo>
                  <a:lnTo>
                    <a:pt x="1176" y="115"/>
                  </a:lnTo>
                  <a:lnTo>
                    <a:pt x="1215" y="131"/>
                  </a:lnTo>
                  <a:lnTo>
                    <a:pt x="1255" y="144"/>
                  </a:lnTo>
                  <a:lnTo>
                    <a:pt x="1297" y="155"/>
                  </a:lnTo>
                  <a:lnTo>
                    <a:pt x="1339" y="163"/>
                  </a:lnTo>
                  <a:lnTo>
                    <a:pt x="1381" y="171"/>
                  </a:lnTo>
                  <a:lnTo>
                    <a:pt x="1427" y="174"/>
                  </a:lnTo>
                  <a:lnTo>
                    <a:pt x="1472" y="176"/>
                  </a:lnTo>
                  <a:lnTo>
                    <a:pt x="1517" y="174"/>
                  </a:lnTo>
                  <a:lnTo>
                    <a:pt x="1565" y="171"/>
                  </a:lnTo>
                  <a:lnTo>
                    <a:pt x="1610" y="163"/>
                  </a:lnTo>
                  <a:lnTo>
                    <a:pt x="1658" y="150"/>
                  </a:lnTo>
                  <a:lnTo>
                    <a:pt x="1709" y="136"/>
                  </a:lnTo>
                  <a:lnTo>
                    <a:pt x="1756" y="118"/>
                  </a:lnTo>
                  <a:lnTo>
                    <a:pt x="1804" y="99"/>
                  </a:lnTo>
                  <a:lnTo>
                    <a:pt x="1852" y="80"/>
                  </a:lnTo>
                  <a:lnTo>
                    <a:pt x="1897" y="61"/>
                  </a:lnTo>
                  <a:lnTo>
                    <a:pt x="1943" y="48"/>
                  </a:lnTo>
                  <a:lnTo>
                    <a:pt x="1988" y="35"/>
                  </a:lnTo>
                  <a:lnTo>
                    <a:pt x="2030" y="21"/>
                  </a:lnTo>
                  <a:lnTo>
                    <a:pt x="2072" y="13"/>
                  </a:lnTo>
                  <a:lnTo>
                    <a:pt x="2112" y="5"/>
                  </a:lnTo>
                  <a:lnTo>
                    <a:pt x="2154" y="0"/>
                  </a:lnTo>
                  <a:lnTo>
                    <a:pt x="2191" y="0"/>
                  </a:lnTo>
                  <a:lnTo>
                    <a:pt x="2230" y="0"/>
                  </a:lnTo>
                  <a:lnTo>
                    <a:pt x="2267" y="5"/>
                  </a:lnTo>
                  <a:lnTo>
                    <a:pt x="2303" y="13"/>
                  </a:lnTo>
                  <a:lnTo>
                    <a:pt x="2340" y="24"/>
                  </a:lnTo>
                  <a:lnTo>
                    <a:pt x="2374" y="40"/>
                  </a:lnTo>
                  <a:lnTo>
                    <a:pt x="2408" y="59"/>
                  </a:lnTo>
                  <a:lnTo>
                    <a:pt x="2473" y="96"/>
                  </a:lnTo>
                  <a:lnTo>
                    <a:pt x="2532" y="126"/>
                  </a:lnTo>
                  <a:lnTo>
                    <a:pt x="2588" y="150"/>
                  </a:lnTo>
                  <a:lnTo>
                    <a:pt x="2639" y="166"/>
                  </a:lnTo>
                  <a:lnTo>
                    <a:pt x="2684" y="179"/>
                  </a:lnTo>
                  <a:lnTo>
                    <a:pt x="2721" y="184"/>
                  </a:lnTo>
                  <a:lnTo>
                    <a:pt x="2749" y="190"/>
                  </a:lnTo>
                  <a:lnTo>
                    <a:pt x="2771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882720" y="5475240"/>
              <a:ext cx="7449120" cy="916200"/>
            </a:xfrm>
            <a:custGeom>
              <a:avLst/>
              <a:gdLst>
                <a:gd name="textAreaLeft" fmla="*/ 0 w 7449120"/>
                <a:gd name="textAreaRight" fmla="*/ 7449480 w 74491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4480" h="577">
                  <a:moveTo>
                    <a:pt x="2241" y="192"/>
                  </a:moveTo>
                  <a:lnTo>
                    <a:pt x="2264" y="192"/>
                  </a:lnTo>
                  <a:lnTo>
                    <a:pt x="2292" y="187"/>
                  </a:lnTo>
                  <a:lnTo>
                    <a:pt x="2332" y="182"/>
                  </a:lnTo>
                  <a:lnTo>
                    <a:pt x="2374" y="168"/>
                  </a:lnTo>
                  <a:lnTo>
                    <a:pt x="2425" y="152"/>
                  </a:lnTo>
                  <a:lnTo>
                    <a:pt x="2481" y="128"/>
                  </a:lnTo>
                  <a:lnTo>
                    <a:pt x="2540" y="96"/>
                  </a:lnTo>
                  <a:lnTo>
                    <a:pt x="2605" y="59"/>
                  </a:lnTo>
                  <a:lnTo>
                    <a:pt x="2639" y="40"/>
                  </a:lnTo>
                  <a:lnTo>
                    <a:pt x="2673" y="24"/>
                  </a:lnTo>
                  <a:lnTo>
                    <a:pt x="2709" y="13"/>
                  </a:lnTo>
                  <a:lnTo>
                    <a:pt x="2746" y="5"/>
                  </a:lnTo>
                  <a:lnTo>
                    <a:pt x="2783" y="0"/>
                  </a:lnTo>
                  <a:lnTo>
                    <a:pt x="2822" y="0"/>
                  </a:lnTo>
                  <a:lnTo>
                    <a:pt x="2859" y="0"/>
                  </a:lnTo>
                  <a:lnTo>
                    <a:pt x="2901" y="5"/>
                  </a:lnTo>
                  <a:lnTo>
                    <a:pt x="2941" y="13"/>
                  </a:lnTo>
                  <a:lnTo>
                    <a:pt x="2983" y="21"/>
                  </a:lnTo>
                  <a:lnTo>
                    <a:pt x="3025" y="35"/>
                  </a:lnTo>
                  <a:lnTo>
                    <a:pt x="3070" y="48"/>
                  </a:lnTo>
                  <a:lnTo>
                    <a:pt x="3115" y="64"/>
                  </a:lnTo>
                  <a:lnTo>
                    <a:pt x="3161" y="80"/>
                  </a:lnTo>
                  <a:lnTo>
                    <a:pt x="3208" y="102"/>
                  </a:lnTo>
                  <a:lnTo>
                    <a:pt x="3256" y="120"/>
                  </a:lnTo>
                  <a:lnTo>
                    <a:pt x="3304" y="139"/>
                  </a:lnTo>
                  <a:lnTo>
                    <a:pt x="3355" y="152"/>
                  </a:lnTo>
                  <a:lnTo>
                    <a:pt x="3403" y="163"/>
                  </a:lnTo>
                  <a:lnTo>
                    <a:pt x="3448" y="171"/>
                  </a:lnTo>
                  <a:lnTo>
                    <a:pt x="3496" y="176"/>
                  </a:lnTo>
                  <a:lnTo>
                    <a:pt x="3541" y="176"/>
                  </a:lnTo>
                  <a:lnTo>
                    <a:pt x="3586" y="176"/>
                  </a:lnTo>
                  <a:lnTo>
                    <a:pt x="3631" y="171"/>
                  </a:lnTo>
                  <a:lnTo>
                    <a:pt x="3674" y="166"/>
                  </a:lnTo>
                  <a:lnTo>
                    <a:pt x="3716" y="158"/>
                  </a:lnTo>
                  <a:lnTo>
                    <a:pt x="3755" y="147"/>
                  </a:lnTo>
                  <a:lnTo>
                    <a:pt x="3795" y="134"/>
                  </a:lnTo>
                  <a:lnTo>
                    <a:pt x="3834" y="118"/>
                  </a:lnTo>
                  <a:lnTo>
                    <a:pt x="3871" y="102"/>
                  </a:lnTo>
                  <a:lnTo>
                    <a:pt x="3905" y="86"/>
                  </a:lnTo>
                  <a:lnTo>
                    <a:pt x="3939" y="67"/>
                  </a:lnTo>
                  <a:lnTo>
                    <a:pt x="3973" y="48"/>
                  </a:lnTo>
                  <a:lnTo>
                    <a:pt x="4006" y="35"/>
                  </a:lnTo>
                  <a:lnTo>
                    <a:pt x="4043" y="24"/>
                  </a:lnTo>
                  <a:lnTo>
                    <a:pt x="4077" y="13"/>
                  </a:lnTo>
                  <a:lnTo>
                    <a:pt x="4113" y="8"/>
                  </a:lnTo>
                  <a:lnTo>
                    <a:pt x="4147" y="5"/>
                  </a:lnTo>
                  <a:lnTo>
                    <a:pt x="4184" y="5"/>
                  </a:lnTo>
                  <a:lnTo>
                    <a:pt x="4221" y="8"/>
                  </a:lnTo>
                  <a:lnTo>
                    <a:pt x="4254" y="13"/>
                  </a:lnTo>
                  <a:lnTo>
                    <a:pt x="4291" y="21"/>
                  </a:lnTo>
                  <a:lnTo>
                    <a:pt x="4325" y="29"/>
                  </a:lnTo>
                  <a:lnTo>
                    <a:pt x="4359" y="43"/>
                  </a:lnTo>
                  <a:lnTo>
                    <a:pt x="4390" y="56"/>
                  </a:lnTo>
                  <a:lnTo>
                    <a:pt x="4421" y="72"/>
                  </a:lnTo>
                  <a:lnTo>
                    <a:pt x="4452" y="88"/>
                  </a:lnTo>
                  <a:lnTo>
                    <a:pt x="4480" y="107"/>
                  </a:lnTo>
                  <a:lnTo>
                    <a:pt x="4455" y="134"/>
                  </a:lnTo>
                  <a:lnTo>
                    <a:pt x="4435" y="171"/>
                  </a:lnTo>
                  <a:lnTo>
                    <a:pt x="4412" y="214"/>
                  </a:lnTo>
                  <a:lnTo>
                    <a:pt x="4398" y="262"/>
                  </a:lnTo>
                  <a:lnTo>
                    <a:pt x="4387" y="313"/>
                  </a:lnTo>
                  <a:lnTo>
                    <a:pt x="4384" y="361"/>
                  </a:lnTo>
                  <a:lnTo>
                    <a:pt x="4387" y="409"/>
                  </a:lnTo>
                  <a:lnTo>
                    <a:pt x="4398" y="449"/>
                  </a:lnTo>
                  <a:lnTo>
                    <a:pt x="4373" y="438"/>
                  </a:lnTo>
                  <a:lnTo>
                    <a:pt x="4345" y="427"/>
                  </a:lnTo>
                  <a:lnTo>
                    <a:pt x="4316" y="417"/>
                  </a:lnTo>
                  <a:lnTo>
                    <a:pt x="4288" y="411"/>
                  </a:lnTo>
                  <a:lnTo>
                    <a:pt x="4260" y="403"/>
                  </a:lnTo>
                  <a:lnTo>
                    <a:pt x="4229" y="398"/>
                  </a:lnTo>
                  <a:lnTo>
                    <a:pt x="4201" y="395"/>
                  </a:lnTo>
                  <a:lnTo>
                    <a:pt x="4170" y="393"/>
                  </a:lnTo>
                  <a:lnTo>
                    <a:pt x="4142" y="395"/>
                  </a:lnTo>
                  <a:lnTo>
                    <a:pt x="4111" y="395"/>
                  </a:lnTo>
                  <a:lnTo>
                    <a:pt x="4082" y="401"/>
                  </a:lnTo>
                  <a:lnTo>
                    <a:pt x="4051" y="406"/>
                  </a:lnTo>
                  <a:lnTo>
                    <a:pt x="4023" y="414"/>
                  </a:lnTo>
                  <a:lnTo>
                    <a:pt x="3995" y="425"/>
                  </a:lnTo>
                  <a:lnTo>
                    <a:pt x="3967" y="435"/>
                  </a:lnTo>
                  <a:lnTo>
                    <a:pt x="3939" y="452"/>
                  </a:lnTo>
                  <a:lnTo>
                    <a:pt x="3905" y="470"/>
                  </a:lnTo>
                  <a:lnTo>
                    <a:pt x="3871" y="486"/>
                  </a:lnTo>
                  <a:lnTo>
                    <a:pt x="3834" y="502"/>
                  </a:lnTo>
                  <a:lnTo>
                    <a:pt x="3795" y="518"/>
                  </a:lnTo>
                  <a:lnTo>
                    <a:pt x="3755" y="532"/>
                  </a:lnTo>
                  <a:lnTo>
                    <a:pt x="3716" y="542"/>
                  </a:lnTo>
                  <a:lnTo>
                    <a:pt x="3674" y="550"/>
                  </a:lnTo>
                  <a:lnTo>
                    <a:pt x="3631" y="558"/>
                  </a:lnTo>
                  <a:lnTo>
                    <a:pt x="3586" y="561"/>
                  </a:lnTo>
                  <a:lnTo>
                    <a:pt x="3541" y="564"/>
                  </a:lnTo>
                  <a:lnTo>
                    <a:pt x="3496" y="561"/>
                  </a:lnTo>
                  <a:lnTo>
                    <a:pt x="3448" y="558"/>
                  </a:lnTo>
                  <a:lnTo>
                    <a:pt x="3403" y="550"/>
                  </a:lnTo>
                  <a:lnTo>
                    <a:pt x="3355" y="537"/>
                  </a:lnTo>
                  <a:lnTo>
                    <a:pt x="3304" y="524"/>
                  </a:lnTo>
                  <a:lnTo>
                    <a:pt x="3256" y="505"/>
                  </a:lnTo>
                  <a:lnTo>
                    <a:pt x="3208" y="486"/>
                  </a:lnTo>
                  <a:lnTo>
                    <a:pt x="3161" y="468"/>
                  </a:lnTo>
                  <a:lnTo>
                    <a:pt x="3115" y="449"/>
                  </a:lnTo>
                  <a:lnTo>
                    <a:pt x="3070" y="435"/>
                  </a:lnTo>
                  <a:lnTo>
                    <a:pt x="3025" y="422"/>
                  </a:lnTo>
                  <a:lnTo>
                    <a:pt x="2983" y="409"/>
                  </a:lnTo>
                  <a:lnTo>
                    <a:pt x="2941" y="401"/>
                  </a:lnTo>
                  <a:lnTo>
                    <a:pt x="2901" y="393"/>
                  </a:lnTo>
                  <a:lnTo>
                    <a:pt x="2859" y="387"/>
                  </a:lnTo>
                  <a:lnTo>
                    <a:pt x="2822" y="387"/>
                  </a:lnTo>
                  <a:lnTo>
                    <a:pt x="2783" y="387"/>
                  </a:lnTo>
                  <a:lnTo>
                    <a:pt x="2746" y="393"/>
                  </a:lnTo>
                  <a:lnTo>
                    <a:pt x="2709" y="401"/>
                  </a:lnTo>
                  <a:lnTo>
                    <a:pt x="2673" y="411"/>
                  </a:lnTo>
                  <a:lnTo>
                    <a:pt x="2639" y="427"/>
                  </a:lnTo>
                  <a:lnTo>
                    <a:pt x="2605" y="446"/>
                  </a:lnTo>
                  <a:lnTo>
                    <a:pt x="2540" y="484"/>
                  </a:lnTo>
                  <a:lnTo>
                    <a:pt x="2481" y="513"/>
                  </a:lnTo>
                  <a:lnTo>
                    <a:pt x="2425" y="537"/>
                  </a:lnTo>
                  <a:lnTo>
                    <a:pt x="2374" y="553"/>
                  </a:lnTo>
                  <a:lnTo>
                    <a:pt x="2332" y="566"/>
                  </a:lnTo>
                  <a:lnTo>
                    <a:pt x="2292" y="572"/>
                  </a:lnTo>
                  <a:lnTo>
                    <a:pt x="2264" y="577"/>
                  </a:lnTo>
                  <a:lnTo>
                    <a:pt x="2241" y="577"/>
                  </a:lnTo>
                  <a:lnTo>
                    <a:pt x="2219" y="577"/>
                  </a:lnTo>
                  <a:lnTo>
                    <a:pt x="2191" y="572"/>
                  </a:lnTo>
                  <a:lnTo>
                    <a:pt x="2154" y="566"/>
                  </a:lnTo>
                  <a:lnTo>
                    <a:pt x="2109" y="553"/>
                  </a:lnTo>
                  <a:lnTo>
                    <a:pt x="2058" y="537"/>
                  </a:lnTo>
                  <a:lnTo>
                    <a:pt x="2002" y="513"/>
                  </a:lnTo>
                  <a:lnTo>
                    <a:pt x="1943" y="484"/>
                  </a:lnTo>
                  <a:lnTo>
                    <a:pt x="1878" y="446"/>
                  </a:lnTo>
                  <a:lnTo>
                    <a:pt x="1844" y="427"/>
                  </a:lnTo>
                  <a:lnTo>
                    <a:pt x="1810" y="411"/>
                  </a:lnTo>
                  <a:lnTo>
                    <a:pt x="1773" y="401"/>
                  </a:lnTo>
                  <a:lnTo>
                    <a:pt x="1737" y="393"/>
                  </a:lnTo>
                  <a:lnTo>
                    <a:pt x="1700" y="387"/>
                  </a:lnTo>
                  <a:lnTo>
                    <a:pt x="1661" y="387"/>
                  </a:lnTo>
                  <a:lnTo>
                    <a:pt x="1624" y="387"/>
                  </a:lnTo>
                  <a:lnTo>
                    <a:pt x="1582" y="393"/>
                  </a:lnTo>
                  <a:lnTo>
                    <a:pt x="1542" y="401"/>
                  </a:lnTo>
                  <a:lnTo>
                    <a:pt x="1500" y="409"/>
                  </a:lnTo>
                  <a:lnTo>
                    <a:pt x="1458" y="422"/>
                  </a:lnTo>
                  <a:lnTo>
                    <a:pt x="1413" y="435"/>
                  </a:lnTo>
                  <a:lnTo>
                    <a:pt x="1367" y="449"/>
                  </a:lnTo>
                  <a:lnTo>
                    <a:pt x="1322" y="468"/>
                  </a:lnTo>
                  <a:lnTo>
                    <a:pt x="1274" y="486"/>
                  </a:lnTo>
                  <a:lnTo>
                    <a:pt x="1226" y="505"/>
                  </a:lnTo>
                  <a:lnTo>
                    <a:pt x="1179" y="524"/>
                  </a:lnTo>
                  <a:lnTo>
                    <a:pt x="1128" y="537"/>
                  </a:lnTo>
                  <a:lnTo>
                    <a:pt x="1080" y="550"/>
                  </a:lnTo>
                  <a:lnTo>
                    <a:pt x="1035" y="558"/>
                  </a:lnTo>
                  <a:lnTo>
                    <a:pt x="987" y="561"/>
                  </a:lnTo>
                  <a:lnTo>
                    <a:pt x="942" y="564"/>
                  </a:lnTo>
                  <a:lnTo>
                    <a:pt x="897" y="561"/>
                  </a:lnTo>
                  <a:lnTo>
                    <a:pt x="851" y="558"/>
                  </a:lnTo>
                  <a:lnTo>
                    <a:pt x="809" y="550"/>
                  </a:lnTo>
                  <a:lnTo>
                    <a:pt x="767" y="542"/>
                  </a:lnTo>
                  <a:lnTo>
                    <a:pt x="725" y="532"/>
                  </a:lnTo>
                  <a:lnTo>
                    <a:pt x="685" y="518"/>
                  </a:lnTo>
                  <a:lnTo>
                    <a:pt x="646" y="502"/>
                  </a:lnTo>
                  <a:lnTo>
                    <a:pt x="609" y="486"/>
                  </a:lnTo>
                  <a:lnTo>
                    <a:pt x="575" y="470"/>
                  </a:lnTo>
                  <a:lnTo>
                    <a:pt x="541" y="452"/>
                  </a:lnTo>
                  <a:lnTo>
                    <a:pt x="513" y="435"/>
                  </a:lnTo>
                  <a:lnTo>
                    <a:pt x="485" y="425"/>
                  </a:lnTo>
                  <a:lnTo>
                    <a:pt x="457" y="414"/>
                  </a:lnTo>
                  <a:lnTo>
                    <a:pt x="429" y="406"/>
                  </a:lnTo>
                  <a:lnTo>
                    <a:pt x="398" y="401"/>
                  </a:lnTo>
                  <a:lnTo>
                    <a:pt x="369" y="395"/>
                  </a:lnTo>
                  <a:lnTo>
                    <a:pt x="341" y="395"/>
                  </a:lnTo>
                  <a:lnTo>
                    <a:pt x="310" y="393"/>
                  </a:lnTo>
                  <a:lnTo>
                    <a:pt x="282" y="395"/>
                  </a:lnTo>
                  <a:lnTo>
                    <a:pt x="251" y="398"/>
                  </a:lnTo>
                  <a:lnTo>
                    <a:pt x="223" y="403"/>
                  </a:lnTo>
                  <a:lnTo>
                    <a:pt x="195" y="411"/>
                  </a:lnTo>
                  <a:lnTo>
                    <a:pt x="166" y="417"/>
                  </a:lnTo>
                  <a:lnTo>
                    <a:pt x="138" y="427"/>
                  </a:lnTo>
                  <a:lnTo>
                    <a:pt x="110" y="438"/>
                  </a:lnTo>
                  <a:lnTo>
                    <a:pt x="82" y="449"/>
                  </a:lnTo>
                  <a:lnTo>
                    <a:pt x="93" y="409"/>
                  </a:lnTo>
                  <a:lnTo>
                    <a:pt x="96" y="361"/>
                  </a:lnTo>
                  <a:lnTo>
                    <a:pt x="93" y="313"/>
                  </a:lnTo>
                  <a:lnTo>
                    <a:pt x="82" y="262"/>
                  </a:lnTo>
                  <a:lnTo>
                    <a:pt x="68" y="214"/>
                  </a:lnTo>
                  <a:lnTo>
                    <a:pt x="45" y="171"/>
                  </a:lnTo>
                  <a:lnTo>
                    <a:pt x="25" y="134"/>
                  </a:lnTo>
                  <a:lnTo>
                    <a:pt x="0" y="107"/>
                  </a:lnTo>
                  <a:lnTo>
                    <a:pt x="28" y="88"/>
                  </a:lnTo>
                  <a:lnTo>
                    <a:pt x="59" y="72"/>
                  </a:lnTo>
                  <a:lnTo>
                    <a:pt x="90" y="56"/>
                  </a:lnTo>
                  <a:lnTo>
                    <a:pt x="124" y="43"/>
                  </a:lnTo>
                  <a:lnTo>
                    <a:pt x="155" y="29"/>
                  </a:lnTo>
                  <a:lnTo>
                    <a:pt x="189" y="21"/>
                  </a:lnTo>
                  <a:lnTo>
                    <a:pt x="226" y="13"/>
                  </a:lnTo>
                  <a:lnTo>
                    <a:pt x="259" y="8"/>
                  </a:lnTo>
                  <a:lnTo>
                    <a:pt x="296" y="5"/>
                  </a:lnTo>
                  <a:lnTo>
                    <a:pt x="333" y="5"/>
                  </a:lnTo>
                  <a:lnTo>
                    <a:pt x="367" y="8"/>
                  </a:lnTo>
                  <a:lnTo>
                    <a:pt x="403" y="13"/>
                  </a:lnTo>
                  <a:lnTo>
                    <a:pt x="437" y="24"/>
                  </a:lnTo>
                  <a:lnTo>
                    <a:pt x="474" y="35"/>
                  </a:lnTo>
                  <a:lnTo>
                    <a:pt x="507" y="48"/>
                  </a:lnTo>
                  <a:lnTo>
                    <a:pt x="541" y="67"/>
                  </a:lnTo>
                  <a:lnTo>
                    <a:pt x="575" y="86"/>
                  </a:lnTo>
                  <a:lnTo>
                    <a:pt x="609" y="102"/>
                  </a:lnTo>
                  <a:lnTo>
                    <a:pt x="646" y="118"/>
                  </a:lnTo>
                  <a:lnTo>
                    <a:pt x="685" y="134"/>
                  </a:lnTo>
                  <a:lnTo>
                    <a:pt x="725" y="147"/>
                  </a:lnTo>
                  <a:lnTo>
                    <a:pt x="767" y="158"/>
                  </a:lnTo>
                  <a:lnTo>
                    <a:pt x="809" y="166"/>
                  </a:lnTo>
                  <a:lnTo>
                    <a:pt x="851" y="171"/>
                  </a:lnTo>
                  <a:lnTo>
                    <a:pt x="897" y="176"/>
                  </a:lnTo>
                  <a:lnTo>
                    <a:pt x="942" y="176"/>
                  </a:lnTo>
                  <a:lnTo>
                    <a:pt x="987" y="176"/>
                  </a:lnTo>
                  <a:lnTo>
                    <a:pt x="1035" y="171"/>
                  </a:lnTo>
                  <a:lnTo>
                    <a:pt x="1080" y="163"/>
                  </a:lnTo>
                  <a:lnTo>
                    <a:pt x="1128" y="152"/>
                  </a:lnTo>
                  <a:lnTo>
                    <a:pt x="1179" y="139"/>
                  </a:lnTo>
                  <a:lnTo>
                    <a:pt x="1226" y="120"/>
                  </a:lnTo>
                  <a:lnTo>
                    <a:pt x="1274" y="102"/>
                  </a:lnTo>
                  <a:lnTo>
                    <a:pt x="1322" y="80"/>
                  </a:lnTo>
                  <a:lnTo>
                    <a:pt x="1367" y="64"/>
                  </a:lnTo>
                  <a:lnTo>
                    <a:pt x="1413" y="48"/>
                  </a:lnTo>
                  <a:lnTo>
                    <a:pt x="1458" y="35"/>
                  </a:lnTo>
                  <a:lnTo>
                    <a:pt x="1500" y="21"/>
                  </a:lnTo>
                  <a:lnTo>
                    <a:pt x="1542" y="13"/>
                  </a:lnTo>
                  <a:lnTo>
                    <a:pt x="1582" y="5"/>
                  </a:lnTo>
                  <a:lnTo>
                    <a:pt x="1624" y="0"/>
                  </a:lnTo>
                  <a:lnTo>
                    <a:pt x="1661" y="0"/>
                  </a:lnTo>
                  <a:lnTo>
                    <a:pt x="1700" y="0"/>
                  </a:lnTo>
                  <a:lnTo>
                    <a:pt x="1737" y="5"/>
                  </a:lnTo>
                  <a:lnTo>
                    <a:pt x="1773" y="13"/>
                  </a:lnTo>
                  <a:lnTo>
                    <a:pt x="1810" y="24"/>
                  </a:lnTo>
                  <a:lnTo>
                    <a:pt x="1844" y="40"/>
                  </a:lnTo>
                  <a:lnTo>
                    <a:pt x="1878" y="59"/>
                  </a:lnTo>
                  <a:lnTo>
                    <a:pt x="1943" y="96"/>
                  </a:lnTo>
                  <a:lnTo>
                    <a:pt x="2002" y="128"/>
                  </a:lnTo>
                  <a:lnTo>
                    <a:pt x="2058" y="152"/>
                  </a:lnTo>
                  <a:lnTo>
                    <a:pt x="2109" y="168"/>
                  </a:lnTo>
                  <a:lnTo>
                    <a:pt x="2154" y="182"/>
                  </a:lnTo>
                  <a:lnTo>
                    <a:pt x="2191" y="187"/>
                  </a:lnTo>
                  <a:lnTo>
                    <a:pt x="2219" y="192"/>
                  </a:lnTo>
                  <a:lnTo>
                    <a:pt x="2241" y="192"/>
                  </a:lnTo>
                  <a:close/>
                </a:path>
              </a:pathLst>
            </a:custGeom>
            <a:solidFill>
              <a:srgbClr val="5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1440" y="0"/>
              <a:ext cx="9211320" cy="5492880"/>
            </a:xfrm>
            <a:custGeom>
              <a:avLst/>
              <a:gdLst>
                <a:gd name="textAreaLeft" fmla="*/ 0 w 9211320"/>
                <a:gd name="textAreaRight" fmla="*/ 9211680 w 9211320"/>
                <a:gd name="textAreaTop" fmla="*/ 0 h 5492880"/>
                <a:gd name="textAreaBottom" fmla="*/ 5493240 h 5492880"/>
              </a:gdLst>
              <a:ahLst/>
              <a:rect l="textAreaLeft" t="textAreaTop" r="textAreaRight" b="textAreaBottom"/>
              <a:pathLst>
                <a:path w="5540" h="3460">
                  <a:moveTo>
                    <a:pt x="0" y="3436"/>
                  </a:moveTo>
                  <a:lnTo>
                    <a:pt x="28" y="3446"/>
                  </a:lnTo>
                  <a:lnTo>
                    <a:pt x="56" y="3454"/>
                  </a:lnTo>
                  <a:lnTo>
                    <a:pt x="90" y="3460"/>
                  </a:lnTo>
                  <a:lnTo>
                    <a:pt x="124" y="3460"/>
                  </a:lnTo>
                  <a:lnTo>
                    <a:pt x="161" y="3460"/>
                  </a:lnTo>
                  <a:lnTo>
                    <a:pt x="200" y="3457"/>
                  </a:lnTo>
                  <a:lnTo>
                    <a:pt x="237" y="3452"/>
                  </a:lnTo>
                  <a:lnTo>
                    <a:pt x="276" y="3446"/>
                  </a:lnTo>
                  <a:lnTo>
                    <a:pt x="313" y="3438"/>
                  </a:lnTo>
                  <a:lnTo>
                    <a:pt x="350" y="3428"/>
                  </a:lnTo>
                  <a:lnTo>
                    <a:pt x="386" y="3417"/>
                  </a:lnTo>
                  <a:lnTo>
                    <a:pt x="420" y="3406"/>
                  </a:lnTo>
                  <a:lnTo>
                    <a:pt x="454" y="3393"/>
                  </a:lnTo>
                  <a:lnTo>
                    <a:pt x="482" y="3380"/>
                  </a:lnTo>
                  <a:lnTo>
                    <a:pt x="507" y="3366"/>
                  </a:lnTo>
                  <a:lnTo>
                    <a:pt x="530" y="3353"/>
                  </a:lnTo>
                  <a:lnTo>
                    <a:pt x="558" y="3334"/>
                  </a:lnTo>
                  <a:lnTo>
                    <a:pt x="589" y="3318"/>
                  </a:lnTo>
                  <a:lnTo>
                    <a:pt x="620" y="3302"/>
                  </a:lnTo>
                  <a:lnTo>
                    <a:pt x="654" y="3289"/>
                  </a:lnTo>
                  <a:lnTo>
                    <a:pt x="685" y="3275"/>
                  </a:lnTo>
                  <a:lnTo>
                    <a:pt x="719" y="3267"/>
                  </a:lnTo>
                  <a:lnTo>
                    <a:pt x="756" y="3259"/>
                  </a:lnTo>
                  <a:lnTo>
                    <a:pt x="789" y="3254"/>
                  </a:lnTo>
                  <a:lnTo>
                    <a:pt x="826" y="3251"/>
                  </a:lnTo>
                  <a:lnTo>
                    <a:pt x="863" y="3251"/>
                  </a:lnTo>
                  <a:lnTo>
                    <a:pt x="897" y="3254"/>
                  </a:lnTo>
                  <a:lnTo>
                    <a:pt x="933" y="3259"/>
                  </a:lnTo>
                  <a:lnTo>
                    <a:pt x="967" y="3267"/>
                  </a:lnTo>
                  <a:lnTo>
                    <a:pt x="1004" y="3278"/>
                  </a:lnTo>
                  <a:lnTo>
                    <a:pt x="1037" y="3291"/>
                  </a:lnTo>
                  <a:lnTo>
                    <a:pt x="1071" y="3310"/>
                  </a:lnTo>
                  <a:lnTo>
                    <a:pt x="1105" y="3329"/>
                  </a:lnTo>
                  <a:lnTo>
                    <a:pt x="1139" y="3345"/>
                  </a:lnTo>
                  <a:lnTo>
                    <a:pt x="1176" y="3361"/>
                  </a:lnTo>
                  <a:lnTo>
                    <a:pt x="1215" y="3377"/>
                  </a:lnTo>
                  <a:lnTo>
                    <a:pt x="1255" y="3390"/>
                  </a:lnTo>
                  <a:lnTo>
                    <a:pt x="1297" y="3401"/>
                  </a:lnTo>
                  <a:lnTo>
                    <a:pt x="1339" y="3409"/>
                  </a:lnTo>
                  <a:lnTo>
                    <a:pt x="1381" y="3417"/>
                  </a:lnTo>
                  <a:lnTo>
                    <a:pt x="1427" y="3420"/>
                  </a:lnTo>
                  <a:lnTo>
                    <a:pt x="1472" y="3422"/>
                  </a:lnTo>
                  <a:lnTo>
                    <a:pt x="1517" y="3420"/>
                  </a:lnTo>
                  <a:lnTo>
                    <a:pt x="1565" y="3417"/>
                  </a:lnTo>
                  <a:lnTo>
                    <a:pt x="1610" y="3409"/>
                  </a:lnTo>
                  <a:lnTo>
                    <a:pt x="1658" y="3396"/>
                  </a:lnTo>
                  <a:lnTo>
                    <a:pt x="1709" y="3382"/>
                  </a:lnTo>
                  <a:lnTo>
                    <a:pt x="1756" y="3364"/>
                  </a:lnTo>
                  <a:lnTo>
                    <a:pt x="1804" y="3345"/>
                  </a:lnTo>
                  <a:lnTo>
                    <a:pt x="1852" y="3326"/>
                  </a:lnTo>
                  <a:lnTo>
                    <a:pt x="1897" y="3307"/>
                  </a:lnTo>
                  <a:lnTo>
                    <a:pt x="1943" y="3294"/>
                  </a:lnTo>
                  <a:lnTo>
                    <a:pt x="1988" y="3281"/>
                  </a:lnTo>
                  <a:lnTo>
                    <a:pt x="2030" y="3267"/>
                  </a:lnTo>
                  <a:lnTo>
                    <a:pt x="2072" y="3259"/>
                  </a:lnTo>
                  <a:lnTo>
                    <a:pt x="2112" y="3251"/>
                  </a:lnTo>
                  <a:lnTo>
                    <a:pt x="2154" y="3246"/>
                  </a:lnTo>
                  <a:lnTo>
                    <a:pt x="2191" y="3246"/>
                  </a:lnTo>
                  <a:lnTo>
                    <a:pt x="2230" y="3246"/>
                  </a:lnTo>
                  <a:lnTo>
                    <a:pt x="2267" y="3251"/>
                  </a:lnTo>
                  <a:lnTo>
                    <a:pt x="2303" y="3259"/>
                  </a:lnTo>
                  <a:lnTo>
                    <a:pt x="2340" y="3270"/>
                  </a:lnTo>
                  <a:lnTo>
                    <a:pt x="2374" y="3286"/>
                  </a:lnTo>
                  <a:lnTo>
                    <a:pt x="2408" y="3305"/>
                  </a:lnTo>
                  <a:lnTo>
                    <a:pt x="2473" y="3342"/>
                  </a:lnTo>
                  <a:lnTo>
                    <a:pt x="2532" y="3372"/>
                  </a:lnTo>
                  <a:lnTo>
                    <a:pt x="2588" y="3396"/>
                  </a:lnTo>
                  <a:lnTo>
                    <a:pt x="2639" y="3412"/>
                  </a:lnTo>
                  <a:lnTo>
                    <a:pt x="2684" y="3425"/>
                  </a:lnTo>
                  <a:lnTo>
                    <a:pt x="2721" y="3430"/>
                  </a:lnTo>
                  <a:lnTo>
                    <a:pt x="2749" y="3436"/>
                  </a:lnTo>
                  <a:lnTo>
                    <a:pt x="2771" y="3436"/>
                  </a:lnTo>
                  <a:lnTo>
                    <a:pt x="2794" y="3436"/>
                  </a:lnTo>
                  <a:lnTo>
                    <a:pt x="2822" y="3430"/>
                  </a:lnTo>
                  <a:lnTo>
                    <a:pt x="2862" y="3425"/>
                  </a:lnTo>
                  <a:lnTo>
                    <a:pt x="2904" y="3412"/>
                  </a:lnTo>
                  <a:lnTo>
                    <a:pt x="2955" y="3396"/>
                  </a:lnTo>
                  <a:lnTo>
                    <a:pt x="3011" y="3372"/>
                  </a:lnTo>
                  <a:lnTo>
                    <a:pt x="3070" y="3342"/>
                  </a:lnTo>
                  <a:lnTo>
                    <a:pt x="3135" y="3305"/>
                  </a:lnTo>
                  <a:lnTo>
                    <a:pt x="3169" y="3286"/>
                  </a:lnTo>
                  <a:lnTo>
                    <a:pt x="3203" y="3270"/>
                  </a:lnTo>
                  <a:lnTo>
                    <a:pt x="3239" y="3259"/>
                  </a:lnTo>
                  <a:lnTo>
                    <a:pt x="3276" y="3251"/>
                  </a:lnTo>
                  <a:lnTo>
                    <a:pt x="3313" y="3246"/>
                  </a:lnTo>
                  <a:lnTo>
                    <a:pt x="3352" y="3246"/>
                  </a:lnTo>
                  <a:lnTo>
                    <a:pt x="3389" y="3246"/>
                  </a:lnTo>
                  <a:lnTo>
                    <a:pt x="3431" y="3251"/>
                  </a:lnTo>
                  <a:lnTo>
                    <a:pt x="3471" y="3259"/>
                  </a:lnTo>
                  <a:lnTo>
                    <a:pt x="3513" y="3267"/>
                  </a:lnTo>
                  <a:lnTo>
                    <a:pt x="3555" y="3281"/>
                  </a:lnTo>
                  <a:lnTo>
                    <a:pt x="3600" y="3294"/>
                  </a:lnTo>
                  <a:lnTo>
                    <a:pt x="3645" y="3307"/>
                  </a:lnTo>
                  <a:lnTo>
                    <a:pt x="3691" y="3326"/>
                  </a:lnTo>
                  <a:lnTo>
                    <a:pt x="3738" y="3345"/>
                  </a:lnTo>
                  <a:lnTo>
                    <a:pt x="3786" y="3364"/>
                  </a:lnTo>
                  <a:lnTo>
                    <a:pt x="3834" y="3382"/>
                  </a:lnTo>
                  <a:lnTo>
                    <a:pt x="3885" y="3396"/>
                  </a:lnTo>
                  <a:lnTo>
                    <a:pt x="3933" y="3409"/>
                  </a:lnTo>
                  <a:lnTo>
                    <a:pt x="3978" y="3417"/>
                  </a:lnTo>
                  <a:lnTo>
                    <a:pt x="4026" y="3420"/>
                  </a:lnTo>
                  <a:lnTo>
                    <a:pt x="4071" y="3422"/>
                  </a:lnTo>
                  <a:lnTo>
                    <a:pt x="4116" y="3420"/>
                  </a:lnTo>
                  <a:lnTo>
                    <a:pt x="4161" y="3417"/>
                  </a:lnTo>
                  <a:lnTo>
                    <a:pt x="4204" y="3409"/>
                  </a:lnTo>
                  <a:lnTo>
                    <a:pt x="4246" y="3401"/>
                  </a:lnTo>
                  <a:lnTo>
                    <a:pt x="4285" y="3390"/>
                  </a:lnTo>
                  <a:lnTo>
                    <a:pt x="4325" y="3377"/>
                  </a:lnTo>
                  <a:lnTo>
                    <a:pt x="4364" y="3361"/>
                  </a:lnTo>
                  <a:lnTo>
                    <a:pt x="4401" y="3345"/>
                  </a:lnTo>
                  <a:lnTo>
                    <a:pt x="4435" y="3329"/>
                  </a:lnTo>
                  <a:lnTo>
                    <a:pt x="4469" y="3310"/>
                  </a:lnTo>
                  <a:lnTo>
                    <a:pt x="4503" y="3291"/>
                  </a:lnTo>
                  <a:lnTo>
                    <a:pt x="4536" y="3278"/>
                  </a:lnTo>
                  <a:lnTo>
                    <a:pt x="4573" y="3267"/>
                  </a:lnTo>
                  <a:lnTo>
                    <a:pt x="4607" y="3259"/>
                  </a:lnTo>
                  <a:lnTo>
                    <a:pt x="4643" y="3254"/>
                  </a:lnTo>
                  <a:lnTo>
                    <a:pt x="4677" y="3251"/>
                  </a:lnTo>
                  <a:lnTo>
                    <a:pt x="4714" y="3251"/>
                  </a:lnTo>
                  <a:lnTo>
                    <a:pt x="4751" y="3254"/>
                  </a:lnTo>
                  <a:lnTo>
                    <a:pt x="4784" y="3259"/>
                  </a:lnTo>
                  <a:lnTo>
                    <a:pt x="4821" y="3267"/>
                  </a:lnTo>
                  <a:lnTo>
                    <a:pt x="4855" y="3275"/>
                  </a:lnTo>
                  <a:lnTo>
                    <a:pt x="4889" y="3289"/>
                  </a:lnTo>
                  <a:lnTo>
                    <a:pt x="4920" y="3302"/>
                  </a:lnTo>
                  <a:lnTo>
                    <a:pt x="4951" y="3318"/>
                  </a:lnTo>
                  <a:lnTo>
                    <a:pt x="4982" y="3334"/>
                  </a:lnTo>
                  <a:lnTo>
                    <a:pt x="5010" y="3353"/>
                  </a:lnTo>
                  <a:lnTo>
                    <a:pt x="5033" y="3366"/>
                  </a:lnTo>
                  <a:lnTo>
                    <a:pt x="5058" y="3380"/>
                  </a:lnTo>
                  <a:lnTo>
                    <a:pt x="5086" y="3393"/>
                  </a:lnTo>
                  <a:lnTo>
                    <a:pt x="5120" y="3406"/>
                  </a:lnTo>
                  <a:lnTo>
                    <a:pt x="5154" y="3417"/>
                  </a:lnTo>
                  <a:lnTo>
                    <a:pt x="5190" y="3428"/>
                  </a:lnTo>
                  <a:lnTo>
                    <a:pt x="5227" y="3438"/>
                  </a:lnTo>
                  <a:lnTo>
                    <a:pt x="5264" y="3446"/>
                  </a:lnTo>
                  <a:lnTo>
                    <a:pt x="5303" y="3452"/>
                  </a:lnTo>
                  <a:lnTo>
                    <a:pt x="5340" y="3457"/>
                  </a:lnTo>
                  <a:lnTo>
                    <a:pt x="5379" y="3460"/>
                  </a:lnTo>
                  <a:lnTo>
                    <a:pt x="5416" y="3460"/>
                  </a:lnTo>
                  <a:lnTo>
                    <a:pt x="5450" y="3460"/>
                  </a:lnTo>
                  <a:lnTo>
                    <a:pt x="5484" y="3454"/>
                  </a:lnTo>
                  <a:lnTo>
                    <a:pt x="5512" y="3446"/>
                  </a:lnTo>
                  <a:lnTo>
                    <a:pt x="5540" y="3436"/>
                  </a:lnTo>
                  <a:lnTo>
                    <a:pt x="5540" y="0"/>
                  </a:lnTo>
                  <a:lnTo>
                    <a:pt x="0" y="0"/>
                  </a:lnTo>
                  <a:lnTo>
                    <a:pt x="0" y="3436"/>
                  </a:lnTo>
                  <a:close/>
                </a:path>
              </a:pathLst>
            </a:custGeom>
            <a:solidFill>
              <a:srgbClr val="ffd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-134640" y="5584680"/>
              <a:ext cx="9484560" cy="1252800"/>
            </a:xfrm>
            <a:custGeom>
              <a:avLst/>
              <a:gdLst>
                <a:gd name="textAreaLeft" fmla="*/ 0 w 9484560"/>
                <a:gd name="textAreaRight" fmla="*/ 9484920 w 948456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5704" h="789">
                  <a:moveTo>
                    <a:pt x="82" y="123"/>
                  </a:moveTo>
                  <a:lnTo>
                    <a:pt x="102" y="99"/>
                  </a:lnTo>
                  <a:lnTo>
                    <a:pt x="124" y="75"/>
                  </a:lnTo>
                  <a:lnTo>
                    <a:pt x="150" y="57"/>
                  </a:lnTo>
                  <a:lnTo>
                    <a:pt x="178" y="41"/>
                  </a:lnTo>
                  <a:lnTo>
                    <a:pt x="206" y="27"/>
                  </a:lnTo>
                  <a:lnTo>
                    <a:pt x="237" y="17"/>
                  </a:lnTo>
                  <a:lnTo>
                    <a:pt x="268" y="8"/>
                  </a:lnTo>
                  <a:lnTo>
                    <a:pt x="299" y="3"/>
                  </a:lnTo>
                  <a:lnTo>
                    <a:pt x="333" y="0"/>
                  </a:lnTo>
                  <a:lnTo>
                    <a:pt x="364" y="0"/>
                  </a:lnTo>
                  <a:lnTo>
                    <a:pt x="398" y="6"/>
                  </a:lnTo>
                  <a:lnTo>
                    <a:pt x="429" y="14"/>
                  </a:lnTo>
                  <a:lnTo>
                    <a:pt x="460" y="25"/>
                  </a:lnTo>
                  <a:lnTo>
                    <a:pt x="488" y="38"/>
                  </a:lnTo>
                  <a:lnTo>
                    <a:pt x="516" y="57"/>
                  </a:lnTo>
                  <a:lnTo>
                    <a:pt x="542" y="78"/>
                  </a:lnTo>
                  <a:lnTo>
                    <a:pt x="573" y="115"/>
                  </a:lnTo>
                  <a:lnTo>
                    <a:pt x="601" y="163"/>
                  </a:lnTo>
                  <a:lnTo>
                    <a:pt x="620" y="217"/>
                  </a:lnTo>
                  <a:lnTo>
                    <a:pt x="632" y="273"/>
                  </a:lnTo>
                  <a:lnTo>
                    <a:pt x="635" y="332"/>
                  </a:lnTo>
                  <a:lnTo>
                    <a:pt x="623" y="388"/>
                  </a:lnTo>
                  <a:lnTo>
                    <a:pt x="601" y="441"/>
                  </a:lnTo>
                  <a:lnTo>
                    <a:pt x="561" y="489"/>
                  </a:lnTo>
                  <a:lnTo>
                    <a:pt x="511" y="527"/>
                  </a:lnTo>
                  <a:lnTo>
                    <a:pt x="460" y="551"/>
                  </a:lnTo>
                  <a:lnTo>
                    <a:pt x="409" y="562"/>
                  </a:lnTo>
                  <a:lnTo>
                    <a:pt x="361" y="559"/>
                  </a:lnTo>
                  <a:lnTo>
                    <a:pt x="316" y="548"/>
                  </a:lnTo>
                  <a:lnTo>
                    <a:pt x="276" y="529"/>
                  </a:lnTo>
                  <a:lnTo>
                    <a:pt x="248" y="503"/>
                  </a:lnTo>
                  <a:lnTo>
                    <a:pt x="226" y="476"/>
                  </a:lnTo>
                  <a:lnTo>
                    <a:pt x="214" y="444"/>
                  </a:lnTo>
                  <a:lnTo>
                    <a:pt x="206" y="409"/>
                  </a:lnTo>
                  <a:lnTo>
                    <a:pt x="206" y="375"/>
                  </a:lnTo>
                  <a:lnTo>
                    <a:pt x="212" y="340"/>
                  </a:lnTo>
                  <a:lnTo>
                    <a:pt x="223" y="308"/>
                  </a:lnTo>
                  <a:lnTo>
                    <a:pt x="243" y="281"/>
                  </a:lnTo>
                  <a:lnTo>
                    <a:pt x="271" y="260"/>
                  </a:lnTo>
                  <a:lnTo>
                    <a:pt x="305" y="246"/>
                  </a:lnTo>
                  <a:lnTo>
                    <a:pt x="344" y="246"/>
                  </a:lnTo>
                  <a:lnTo>
                    <a:pt x="378" y="257"/>
                  </a:lnTo>
                  <a:lnTo>
                    <a:pt x="403" y="281"/>
                  </a:lnTo>
                  <a:lnTo>
                    <a:pt x="420" y="313"/>
                  </a:lnTo>
                  <a:lnTo>
                    <a:pt x="426" y="345"/>
                  </a:lnTo>
                  <a:lnTo>
                    <a:pt x="420" y="375"/>
                  </a:lnTo>
                  <a:lnTo>
                    <a:pt x="406" y="399"/>
                  </a:lnTo>
                  <a:lnTo>
                    <a:pt x="381" y="412"/>
                  </a:lnTo>
                  <a:lnTo>
                    <a:pt x="403" y="409"/>
                  </a:lnTo>
                  <a:lnTo>
                    <a:pt x="426" y="399"/>
                  </a:lnTo>
                  <a:lnTo>
                    <a:pt x="446" y="380"/>
                  </a:lnTo>
                  <a:lnTo>
                    <a:pt x="460" y="356"/>
                  </a:lnTo>
                  <a:lnTo>
                    <a:pt x="471" y="324"/>
                  </a:lnTo>
                  <a:lnTo>
                    <a:pt x="471" y="292"/>
                  </a:lnTo>
                  <a:lnTo>
                    <a:pt x="465" y="257"/>
                  </a:lnTo>
                  <a:lnTo>
                    <a:pt x="446" y="222"/>
                  </a:lnTo>
                  <a:lnTo>
                    <a:pt x="415" y="193"/>
                  </a:lnTo>
                  <a:lnTo>
                    <a:pt x="381" y="174"/>
                  </a:lnTo>
                  <a:lnTo>
                    <a:pt x="341" y="163"/>
                  </a:lnTo>
                  <a:lnTo>
                    <a:pt x="302" y="163"/>
                  </a:lnTo>
                  <a:lnTo>
                    <a:pt x="262" y="174"/>
                  </a:lnTo>
                  <a:lnTo>
                    <a:pt x="226" y="190"/>
                  </a:lnTo>
                  <a:lnTo>
                    <a:pt x="195" y="214"/>
                  </a:lnTo>
                  <a:lnTo>
                    <a:pt x="167" y="244"/>
                  </a:lnTo>
                  <a:lnTo>
                    <a:pt x="150" y="276"/>
                  </a:lnTo>
                  <a:lnTo>
                    <a:pt x="136" y="310"/>
                  </a:lnTo>
                  <a:lnTo>
                    <a:pt x="127" y="353"/>
                  </a:lnTo>
                  <a:lnTo>
                    <a:pt x="124" y="396"/>
                  </a:lnTo>
                  <a:lnTo>
                    <a:pt x="130" y="441"/>
                  </a:lnTo>
                  <a:lnTo>
                    <a:pt x="141" y="484"/>
                  </a:lnTo>
                  <a:lnTo>
                    <a:pt x="161" y="527"/>
                  </a:lnTo>
                  <a:lnTo>
                    <a:pt x="192" y="562"/>
                  </a:lnTo>
                  <a:lnTo>
                    <a:pt x="231" y="594"/>
                  </a:lnTo>
                  <a:lnTo>
                    <a:pt x="274" y="618"/>
                  </a:lnTo>
                  <a:lnTo>
                    <a:pt x="319" y="634"/>
                  </a:lnTo>
                  <a:lnTo>
                    <a:pt x="367" y="642"/>
                  </a:lnTo>
                  <a:lnTo>
                    <a:pt x="415" y="642"/>
                  </a:lnTo>
                  <a:lnTo>
                    <a:pt x="463" y="634"/>
                  </a:lnTo>
                  <a:lnTo>
                    <a:pt x="511" y="618"/>
                  </a:lnTo>
                  <a:lnTo>
                    <a:pt x="556" y="594"/>
                  </a:lnTo>
                  <a:lnTo>
                    <a:pt x="573" y="583"/>
                  </a:lnTo>
                  <a:lnTo>
                    <a:pt x="589" y="570"/>
                  </a:lnTo>
                  <a:lnTo>
                    <a:pt x="604" y="559"/>
                  </a:lnTo>
                  <a:lnTo>
                    <a:pt x="618" y="548"/>
                  </a:lnTo>
                  <a:lnTo>
                    <a:pt x="629" y="535"/>
                  </a:lnTo>
                  <a:lnTo>
                    <a:pt x="640" y="521"/>
                  </a:lnTo>
                  <a:lnTo>
                    <a:pt x="654" y="508"/>
                  </a:lnTo>
                  <a:lnTo>
                    <a:pt x="666" y="495"/>
                  </a:lnTo>
                  <a:lnTo>
                    <a:pt x="694" y="481"/>
                  </a:lnTo>
                  <a:lnTo>
                    <a:pt x="722" y="471"/>
                  </a:lnTo>
                  <a:lnTo>
                    <a:pt x="750" y="460"/>
                  </a:lnTo>
                  <a:lnTo>
                    <a:pt x="781" y="449"/>
                  </a:lnTo>
                  <a:lnTo>
                    <a:pt x="812" y="441"/>
                  </a:lnTo>
                  <a:lnTo>
                    <a:pt x="843" y="436"/>
                  </a:lnTo>
                  <a:lnTo>
                    <a:pt x="874" y="431"/>
                  </a:lnTo>
                  <a:lnTo>
                    <a:pt x="905" y="428"/>
                  </a:lnTo>
                  <a:lnTo>
                    <a:pt x="936" y="428"/>
                  </a:lnTo>
                  <a:lnTo>
                    <a:pt x="967" y="428"/>
                  </a:lnTo>
                  <a:lnTo>
                    <a:pt x="1001" y="431"/>
                  </a:lnTo>
                  <a:lnTo>
                    <a:pt x="1032" y="436"/>
                  </a:lnTo>
                  <a:lnTo>
                    <a:pt x="1063" y="444"/>
                  </a:lnTo>
                  <a:lnTo>
                    <a:pt x="1094" y="455"/>
                  </a:lnTo>
                  <a:lnTo>
                    <a:pt x="1122" y="468"/>
                  </a:lnTo>
                  <a:lnTo>
                    <a:pt x="1153" y="484"/>
                  </a:lnTo>
                  <a:lnTo>
                    <a:pt x="1187" y="503"/>
                  </a:lnTo>
                  <a:lnTo>
                    <a:pt x="1221" y="521"/>
                  </a:lnTo>
                  <a:lnTo>
                    <a:pt x="1258" y="537"/>
                  </a:lnTo>
                  <a:lnTo>
                    <a:pt x="1297" y="551"/>
                  </a:lnTo>
                  <a:lnTo>
                    <a:pt x="1337" y="564"/>
                  </a:lnTo>
                  <a:lnTo>
                    <a:pt x="1379" y="575"/>
                  </a:lnTo>
                  <a:lnTo>
                    <a:pt x="1421" y="586"/>
                  </a:lnTo>
                  <a:lnTo>
                    <a:pt x="1463" y="591"/>
                  </a:lnTo>
                  <a:lnTo>
                    <a:pt x="1509" y="594"/>
                  </a:lnTo>
                  <a:lnTo>
                    <a:pt x="1554" y="596"/>
                  </a:lnTo>
                  <a:lnTo>
                    <a:pt x="1599" y="594"/>
                  </a:lnTo>
                  <a:lnTo>
                    <a:pt x="1647" y="591"/>
                  </a:lnTo>
                  <a:lnTo>
                    <a:pt x="1692" y="583"/>
                  </a:lnTo>
                  <a:lnTo>
                    <a:pt x="1740" y="572"/>
                  </a:lnTo>
                  <a:lnTo>
                    <a:pt x="1791" y="556"/>
                  </a:lnTo>
                  <a:lnTo>
                    <a:pt x="1838" y="537"/>
                  </a:lnTo>
                  <a:lnTo>
                    <a:pt x="1886" y="519"/>
                  </a:lnTo>
                  <a:lnTo>
                    <a:pt x="1934" y="500"/>
                  </a:lnTo>
                  <a:lnTo>
                    <a:pt x="1979" y="481"/>
                  </a:lnTo>
                  <a:lnTo>
                    <a:pt x="2025" y="468"/>
                  </a:lnTo>
                  <a:lnTo>
                    <a:pt x="2070" y="455"/>
                  </a:lnTo>
                  <a:lnTo>
                    <a:pt x="2112" y="441"/>
                  </a:lnTo>
                  <a:lnTo>
                    <a:pt x="2154" y="433"/>
                  </a:lnTo>
                  <a:lnTo>
                    <a:pt x="2194" y="425"/>
                  </a:lnTo>
                  <a:lnTo>
                    <a:pt x="2236" y="420"/>
                  </a:lnTo>
                  <a:lnTo>
                    <a:pt x="2273" y="420"/>
                  </a:lnTo>
                  <a:lnTo>
                    <a:pt x="2312" y="420"/>
                  </a:lnTo>
                  <a:lnTo>
                    <a:pt x="2349" y="425"/>
                  </a:lnTo>
                  <a:lnTo>
                    <a:pt x="2385" y="433"/>
                  </a:lnTo>
                  <a:lnTo>
                    <a:pt x="2422" y="444"/>
                  </a:lnTo>
                  <a:lnTo>
                    <a:pt x="2456" y="460"/>
                  </a:lnTo>
                  <a:lnTo>
                    <a:pt x="2490" y="479"/>
                  </a:lnTo>
                  <a:lnTo>
                    <a:pt x="2555" y="516"/>
                  </a:lnTo>
                  <a:lnTo>
                    <a:pt x="2614" y="548"/>
                  </a:lnTo>
                  <a:lnTo>
                    <a:pt x="2670" y="572"/>
                  </a:lnTo>
                  <a:lnTo>
                    <a:pt x="2721" y="588"/>
                  </a:lnTo>
                  <a:lnTo>
                    <a:pt x="2766" y="602"/>
                  </a:lnTo>
                  <a:lnTo>
                    <a:pt x="2803" y="607"/>
                  </a:lnTo>
                  <a:lnTo>
                    <a:pt x="2831" y="612"/>
                  </a:lnTo>
                  <a:lnTo>
                    <a:pt x="2853" y="612"/>
                  </a:lnTo>
                  <a:lnTo>
                    <a:pt x="2876" y="612"/>
                  </a:lnTo>
                  <a:lnTo>
                    <a:pt x="2904" y="607"/>
                  </a:lnTo>
                  <a:lnTo>
                    <a:pt x="2944" y="602"/>
                  </a:lnTo>
                  <a:lnTo>
                    <a:pt x="2986" y="588"/>
                  </a:lnTo>
                  <a:lnTo>
                    <a:pt x="3037" y="572"/>
                  </a:lnTo>
                  <a:lnTo>
                    <a:pt x="3093" y="548"/>
                  </a:lnTo>
                  <a:lnTo>
                    <a:pt x="3152" y="516"/>
                  </a:lnTo>
                  <a:lnTo>
                    <a:pt x="3217" y="479"/>
                  </a:lnTo>
                  <a:lnTo>
                    <a:pt x="3251" y="460"/>
                  </a:lnTo>
                  <a:lnTo>
                    <a:pt x="3285" y="444"/>
                  </a:lnTo>
                  <a:lnTo>
                    <a:pt x="3321" y="433"/>
                  </a:lnTo>
                  <a:lnTo>
                    <a:pt x="3358" y="425"/>
                  </a:lnTo>
                  <a:lnTo>
                    <a:pt x="3395" y="420"/>
                  </a:lnTo>
                  <a:lnTo>
                    <a:pt x="3434" y="420"/>
                  </a:lnTo>
                  <a:lnTo>
                    <a:pt x="3471" y="420"/>
                  </a:lnTo>
                  <a:lnTo>
                    <a:pt x="3513" y="425"/>
                  </a:lnTo>
                  <a:lnTo>
                    <a:pt x="3553" y="433"/>
                  </a:lnTo>
                  <a:lnTo>
                    <a:pt x="3595" y="441"/>
                  </a:lnTo>
                  <a:lnTo>
                    <a:pt x="3637" y="455"/>
                  </a:lnTo>
                  <a:lnTo>
                    <a:pt x="3682" y="468"/>
                  </a:lnTo>
                  <a:lnTo>
                    <a:pt x="3727" y="481"/>
                  </a:lnTo>
                  <a:lnTo>
                    <a:pt x="3773" y="500"/>
                  </a:lnTo>
                  <a:lnTo>
                    <a:pt x="3820" y="519"/>
                  </a:lnTo>
                  <a:lnTo>
                    <a:pt x="3868" y="537"/>
                  </a:lnTo>
                  <a:lnTo>
                    <a:pt x="3916" y="556"/>
                  </a:lnTo>
                  <a:lnTo>
                    <a:pt x="3967" y="572"/>
                  </a:lnTo>
                  <a:lnTo>
                    <a:pt x="4015" y="583"/>
                  </a:lnTo>
                  <a:lnTo>
                    <a:pt x="4060" y="591"/>
                  </a:lnTo>
                  <a:lnTo>
                    <a:pt x="4108" y="594"/>
                  </a:lnTo>
                  <a:lnTo>
                    <a:pt x="4153" y="596"/>
                  </a:lnTo>
                  <a:lnTo>
                    <a:pt x="4198" y="594"/>
                  </a:lnTo>
                  <a:lnTo>
                    <a:pt x="4243" y="591"/>
                  </a:lnTo>
                  <a:lnTo>
                    <a:pt x="4286" y="586"/>
                  </a:lnTo>
                  <a:lnTo>
                    <a:pt x="4328" y="575"/>
                  </a:lnTo>
                  <a:lnTo>
                    <a:pt x="4367" y="564"/>
                  </a:lnTo>
                  <a:lnTo>
                    <a:pt x="4407" y="551"/>
                  </a:lnTo>
                  <a:lnTo>
                    <a:pt x="4446" y="537"/>
                  </a:lnTo>
                  <a:lnTo>
                    <a:pt x="4483" y="521"/>
                  </a:lnTo>
                  <a:lnTo>
                    <a:pt x="4517" y="503"/>
                  </a:lnTo>
                  <a:lnTo>
                    <a:pt x="4551" y="484"/>
                  </a:lnTo>
                  <a:lnTo>
                    <a:pt x="4582" y="468"/>
                  </a:lnTo>
                  <a:lnTo>
                    <a:pt x="4610" y="455"/>
                  </a:lnTo>
                  <a:lnTo>
                    <a:pt x="4641" y="444"/>
                  </a:lnTo>
                  <a:lnTo>
                    <a:pt x="4672" y="436"/>
                  </a:lnTo>
                  <a:lnTo>
                    <a:pt x="4703" y="431"/>
                  </a:lnTo>
                  <a:lnTo>
                    <a:pt x="4737" y="428"/>
                  </a:lnTo>
                  <a:lnTo>
                    <a:pt x="4768" y="428"/>
                  </a:lnTo>
                  <a:lnTo>
                    <a:pt x="4799" y="428"/>
                  </a:lnTo>
                  <a:lnTo>
                    <a:pt x="4830" y="431"/>
                  </a:lnTo>
                  <a:lnTo>
                    <a:pt x="4861" y="436"/>
                  </a:lnTo>
                  <a:lnTo>
                    <a:pt x="4892" y="441"/>
                  </a:lnTo>
                  <a:lnTo>
                    <a:pt x="4923" y="449"/>
                  </a:lnTo>
                  <a:lnTo>
                    <a:pt x="4954" y="460"/>
                  </a:lnTo>
                  <a:lnTo>
                    <a:pt x="4982" y="471"/>
                  </a:lnTo>
                  <a:lnTo>
                    <a:pt x="5010" y="481"/>
                  </a:lnTo>
                  <a:lnTo>
                    <a:pt x="5038" y="495"/>
                  </a:lnTo>
                  <a:lnTo>
                    <a:pt x="5050" y="508"/>
                  </a:lnTo>
                  <a:lnTo>
                    <a:pt x="5064" y="521"/>
                  </a:lnTo>
                  <a:lnTo>
                    <a:pt x="5075" y="535"/>
                  </a:lnTo>
                  <a:lnTo>
                    <a:pt x="5086" y="548"/>
                  </a:lnTo>
                  <a:lnTo>
                    <a:pt x="5100" y="559"/>
                  </a:lnTo>
                  <a:lnTo>
                    <a:pt x="5115" y="570"/>
                  </a:lnTo>
                  <a:lnTo>
                    <a:pt x="5131" y="583"/>
                  </a:lnTo>
                  <a:lnTo>
                    <a:pt x="5148" y="594"/>
                  </a:lnTo>
                  <a:lnTo>
                    <a:pt x="5193" y="618"/>
                  </a:lnTo>
                  <a:lnTo>
                    <a:pt x="5241" y="634"/>
                  </a:lnTo>
                  <a:lnTo>
                    <a:pt x="5289" y="642"/>
                  </a:lnTo>
                  <a:lnTo>
                    <a:pt x="5337" y="642"/>
                  </a:lnTo>
                  <a:lnTo>
                    <a:pt x="5385" y="634"/>
                  </a:lnTo>
                  <a:lnTo>
                    <a:pt x="5430" y="618"/>
                  </a:lnTo>
                  <a:lnTo>
                    <a:pt x="5473" y="594"/>
                  </a:lnTo>
                  <a:lnTo>
                    <a:pt x="5512" y="562"/>
                  </a:lnTo>
                  <a:lnTo>
                    <a:pt x="5543" y="527"/>
                  </a:lnTo>
                  <a:lnTo>
                    <a:pt x="5563" y="484"/>
                  </a:lnTo>
                  <a:lnTo>
                    <a:pt x="5574" y="441"/>
                  </a:lnTo>
                  <a:lnTo>
                    <a:pt x="5580" y="396"/>
                  </a:lnTo>
                  <a:lnTo>
                    <a:pt x="5577" y="353"/>
                  </a:lnTo>
                  <a:lnTo>
                    <a:pt x="5568" y="310"/>
                  </a:lnTo>
                  <a:lnTo>
                    <a:pt x="5554" y="276"/>
                  </a:lnTo>
                  <a:lnTo>
                    <a:pt x="5537" y="244"/>
                  </a:lnTo>
                  <a:lnTo>
                    <a:pt x="5509" y="214"/>
                  </a:lnTo>
                  <a:lnTo>
                    <a:pt x="5478" y="190"/>
                  </a:lnTo>
                  <a:lnTo>
                    <a:pt x="5442" y="174"/>
                  </a:lnTo>
                  <a:lnTo>
                    <a:pt x="5402" y="163"/>
                  </a:lnTo>
                  <a:lnTo>
                    <a:pt x="5363" y="163"/>
                  </a:lnTo>
                  <a:lnTo>
                    <a:pt x="5323" y="174"/>
                  </a:lnTo>
                  <a:lnTo>
                    <a:pt x="5289" y="193"/>
                  </a:lnTo>
                  <a:lnTo>
                    <a:pt x="5258" y="222"/>
                  </a:lnTo>
                  <a:lnTo>
                    <a:pt x="5239" y="257"/>
                  </a:lnTo>
                  <a:lnTo>
                    <a:pt x="5233" y="292"/>
                  </a:lnTo>
                  <a:lnTo>
                    <a:pt x="5233" y="324"/>
                  </a:lnTo>
                  <a:lnTo>
                    <a:pt x="5244" y="356"/>
                  </a:lnTo>
                  <a:lnTo>
                    <a:pt x="5258" y="380"/>
                  </a:lnTo>
                  <a:lnTo>
                    <a:pt x="5278" y="399"/>
                  </a:lnTo>
                  <a:lnTo>
                    <a:pt x="5301" y="409"/>
                  </a:lnTo>
                  <a:lnTo>
                    <a:pt x="5323" y="412"/>
                  </a:lnTo>
                  <a:lnTo>
                    <a:pt x="5298" y="399"/>
                  </a:lnTo>
                  <a:lnTo>
                    <a:pt x="5284" y="375"/>
                  </a:lnTo>
                  <a:lnTo>
                    <a:pt x="5278" y="345"/>
                  </a:lnTo>
                  <a:lnTo>
                    <a:pt x="5287" y="313"/>
                  </a:lnTo>
                  <a:lnTo>
                    <a:pt x="5301" y="281"/>
                  </a:lnTo>
                  <a:lnTo>
                    <a:pt x="5326" y="257"/>
                  </a:lnTo>
                  <a:lnTo>
                    <a:pt x="5360" y="246"/>
                  </a:lnTo>
                  <a:lnTo>
                    <a:pt x="5399" y="246"/>
                  </a:lnTo>
                  <a:lnTo>
                    <a:pt x="5433" y="260"/>
                  </a:lnTo>
                  <a:lnTo>
                    <a:pt x="5461" y="281"/>
                  </a:lnTo>
                  <a:lnTo>
                    <a:pt x="5481" y="308"/>
                  </a:lnTo>
                  <a:lnTo>
                    <a:pt x="5492" y="340"/>
                  </a:lnTo>
                  <a:lnTo>
                    <a:pt x="5498" y="375"/>
                  </a:lnTo>
                  <a:lnTo>
                    <a:pt x="5498" y="409"/>
                  </a:lnTo>
                  <a:lnTo>
                    <a:pt x="5490" y="444"/>
                  </a:lnTo>
                  <a:lnTo>
                    <a:pt x="5478" y="476"/>
                  </a:lnTo>
                  <a:lnTo>
                    <a:pt x="5456" y="503"/>
                  </a:lnTo>
                  <a:lnTo>
                    <a:pt x="5428" y="529"/>
                  </a:lnTo>
                  <a:lnTo>
                    <a:pt x="5388" y="548"/>
                  </a:lnTo>
                  <a:lnTo>
                    <a:pt x="5343" y="559"/>
                  </a:lnTo>
                  <a:lnTo>
                    <a:pt x="5295" y="562"/>
                  </a:lnTo>
                  <a:lnTo>
                    <a:pt x="5244" y="551"/>
                  </a:lnTo>
                  <a:lnTo>
                    <a:pt x="5193" y="527"/>
                  </a:lnTo>
                  <a:lnTo>
                    <a:pt x="5143" y="489"/>
                  </a:lnTo>
                  <a:lnTo>
                    <a:pt x="5103" y="441"/>
                  </a:lnTo>
                  <a:lnTo>
                    <a:pt x="5081" y="388"/>
                  </a:lnTo>
                  <a:lnTo>
                    <a:pt x="5069" y="332"/>
                  </a:lnTo>
                  <a:lnTo>
                    <a:pt x="5072" y="273"/>
                  </a:lnTo>
                  <a:lnTo>
                    <a:pt x="5084" y="217"/>
                  </a:lnTo>
                  <a:lnTo>
                    <a:pt x="5103" y="163"/>
                  </a:lnTo>
                  <a:lnTo>
                    <a:pt x="5131" y="115"/>
                  </a:lnTo>
                  <a:lnTo>
                    <a:pt x="5162" y="78"/>
                  </a:lnTo>
                  <a:lnTo>
                    <a:pt x="5188" y="57"/>
                  </a:lnTo>
                  <a:lnTo>
                    <a:pt x="5216" y="38"/>
                  </a:lnTo>
                  <a:lnTo>
                    <a:pt x="5244" y="25"/>
                  </a:lnTo>
                  <a:lnTo>
                    <a:pt x="5275" y="14"/>
                  </a:lnTo>
                  <a:lnTo>
                    <a:pt x="5306" y="6"/>
                  </a:lnTo>
                  <a:lnTo>
                    <a:pt x="5340" y="0"/>
                  </a:lnTo>
                  <a:lnTo>
                    <a:pt x="5371" y="0"/>
                  </a:lnTo>
                  <a:lnTo>
                    <a:pt x="5405" y="3"/>
                  </a:lnTo>
                  <a:lnTo>
                    <a:pt x="5436" y="8"/>
                  </a:lnTo>
                  <a:lnTo>
                    <a:pt x="5467" y="17"/>
                  </a:lnTo>
                  <a:lnTo>
                    <a:pt x="5498" y="27"/>
                  </a:lnTo>
                  <a:lnTo>
                    <a:pt x="5526" y="41"/>
                  </a:lnTo>
                  <a:lnTo>
                    <a:pt x="5554" y="57"/>
                  </a:lnTo>
                  <a:lnTo>
                    <a:pt x="5580" y="75"/>
                  </a:lnTo>
                  <a:lnTo>
                    <a:pt x="5602" y="99"/>
                  </a:lnTo>
                  <a:lnTo>
                    <a:pt x="5622" y="123"/>
                  </a:lnTo>
                  <a:lnTo>
                    <a:pt x="5659" y="185"/>
                  </a:lnTo>
                  <a:lnTo>
                    <a:pt x="5684" y="246"/>
                  </a:lnTo>
                  <a:lnTo>
                    <a:pt x="5698" y="310"/>
                  </a:lnTo>
                  <a:lnTo>
                    <a:pt x="5704" y="372"/>
                  </a:lnTo>
                  <a:lnTo>
                    <a:pt x="5701" y="436"/>
                  </a:lnTo>
                  <a:lnTo>
                    <a:pt x="5687" y="497"/>
                  </a:lnTo>
                  <a:lnTo>
                    <a:pt x="5664" y="556"/>
                  </a:lnTo>
                  <a:lnTo>
                    <a:pt x="5633" y="612"/>
                  </a:lnTo>
                  <a:lnTo>
                    <a:pt x="5611" y="642"/>
                  </a:lnTo>
                  <a:lnTo>
                    <a:pt x="5583" y="668"/>
                  </a:lnTo>
                  <a:lnTo>
                    <a:pt x="5554" y="692"/>
                  </a:lnTo>
                  <a:lnTo>
                    <a:pt x="5523" y="714"/>
                  </a:lnTo>
                  <a:lnTo>
                    <a:pt x="5490" y="730"/>
                  </a:lnTo>
                  <a:lnTo>
                    <a:pt x="5456" y="743"/>
                  </a:lnTo>
                  <a:lnTo>
                    <a:pt x="5419" y="754"/>
                  </a:lnTo>
                  <a:lnTo>
                    <a:pt x="5380" y="759"/>
                  </a:lnTo>
                  <a:lnTo>
                    <a:pt x="5343" y="765"/>
                  </a:lnTo>
                  <a:lnTo>
                    <a:pt x="5303" y="765"/>
                  </a:lnTo>
                  <a:lnTo>
                    <a:pt x="5267" y="762"/>
                  </a:lnTo>
                  <a:lnTo>
                    <a:pt x="5230" y="757"/>
                  </a:lnTo>
                  <a:lnTo>
                    <a:pt x="5193" y="749"/>
                  </a:lnTo>
                  <a:lnTo>
                    <a:pt x="5157" y="738"/>
                  </a:lnTo>
                  <a:lnTo>
                    <a:pt x="5123" y="722"/>
                  </a:lnTo>
                  <a:lnTo>
                    <a:pt x="5092" y="706"/>
                  </a:lnTo>
                  <a:lnTo>
                    <a:pt x="5064" y="690"/>
                  </a:lnTo>
                  <a:lnTo>
                    <a:pt x="5033" y="674"/>
                  </a:lnTo>
                  <a:lnTo>
                    <a:pt x="5002" y="658"/>
                  </a:lnTo>
                  <a:lnTo>
                    <a:pt x="4968" y="644"/>
                  </a:lnTo>
                  <a:lnTo>
                    <a:pt x="4934" y="634"/>
                  </a:lnTo>
                  <a:lnTo>
                    <a:pt x="4900" y="626"/>
                  </a:lnTo>
                  <a:lnTo>
                    <a:pt x="4866" y="618"/>
                  </a:lnTo>
                  <a:lnTo>
                    <a:pt x="4830" y="612"/>
                  </a:lnTo>
                  <a:lnTo>
                    <a:pt x="4796" y="610"/>
                  </a:lnTo>
                  <a:lnTo>
                    <a:pt x="4759" y="607"/>
                  </a:lnTo>
                  <a:lnTo>
                    <a:pt x="4725" y="610"/>
                  </a:lnTo>
                  <a:lnTo>
                    <a:pt x="4689" y="615"/>
                  </a:lnTo>
                  <a:lnTo>
                    <a:pt x="4652" y="623"/>
                  </a:lnTo>
                  <a:lnTo>
                    <a:pt x="4618" y="634"/>
                  </a:lnTo>
                  <a:lnTo>
                    <a:pt x="4585" y="647"/>
                  </a:lnTo>
                  <a:lnTo>
                    <a:pt x="4551" y="666"/>
                  </a:lnTo>
                  <a:lnTo>
                    <a:pt x="4517" y="684"/>
                  </a:lnTo>
                  <a:lnTo>
                    <a:pt x="4483" y="700"/>
                  </a:lnTo>
                  <a:lnTo>
                    <a:pt x="4446" y="716"/>
                  </a:lnTo>
                  <a:lnTo>
                    <a:pt x="4407" y="730"/>
                  </a:lnTo>
                  <a:lnTo>
                    <a:pt x="4367" y="743"/>
                  </a:lnTo>
                  <a:lnTo>
                    <a:pt x="4328" y="754"/>
                  </a:lnTo>
                  <a:lnTo>
                    <a:pt x="4286" y="762"/>
                  </a:lnTo>
                  <a:lnTo>
                    <a:pt x="4243" y="770"/>
                  </a:lnTo>
                  <a:lnTo>
                    <a:pt x="4198" y="773"/>
                  </a:lnTo>
                  <a:lnTo>
                    <a:pt x="4153" y="775"/>
                  </a:lnTo>
                  <a:lnTo>
                    <a:pt x="4108" y="773"/>
                  </a:lnTo>
                  <a:lnTo>
                    <a:pt x="4060" y="770"/>
                  </a:lnTo>
                  <a:lnTo>
                    <a:pt x="4015" y="762"/>
                  </a:lnTo>
                  <a:lnTo>
                    <a:pt x="3967" y="749"/>
                  </a:lnTo>
                  <a:lnTo>
                    <a:pt x="3916" y="735"/>
                  </a:lnTo>
                  <a:lnTo>
                    <a:pt x="3868" y="716"/>
                  </a:lnTo>
                  <a:lnTo>
                    <a:pt x="3820" y="698"/>
                  </a:lnTo>
                  <a:lnTo>
                    <a:pt x="3773" y="679"/>
                  </a:lnTo>
                  <a:lnTo>
                    <a:pt x="3727" y="663"/>
                  </a:lnTo>
                  <a:lnTo>
                    <a:pt x="3682" y="647"/>
                  </a:lnTo>
                  <a:lnTo>
                    <a:pt x="3637" y="634"/>
                  </a:lnTo>
                  <a:lnTo>
                    <a:pt x="3595" y="623"/>
                  </a:lnTo>
                  <a:lnTo>
                    <a:pt x="3553" y="612"/>
                  </a:lnTo>
                  <a:lnTo>
                    <a:pt x="3513" y="607"/>
                  </a:lnTo>
                  <a:lnTo>
                    <a:pt x="3471" y="602"/>
                  </a:lnTo>
                  <a:lnTo>
                    <a:pt x="3434" y="599"/>
                  </a:lnTo>
                  <a:lnTo>
                    <a:pt x="3395" y="602"/>
                  </a:lnTo>
                  <a:lnTo>
                    <a:pt x="3358" y="607"/>
                  </a:lnTo>
                  <a:lnTo>
                    <a:pt x="3321" y="615"/>
                  </a:lnTo>
                  <a:lnTo>
                    <a:pt x="3285" y="626"/>
                  </a:lnTo>
                  <a:lnTo>
                    <a:pt x="3251" y="642"/>
                  </a:lnTo>
                  <a:lnTo>
                    <a:pt x="3217" y="660"/>
                  </a:lnTo>
                  <a:lnTo>
                    <a:pt x="3152" y="698"/>
                  </a:lnTo>
                  <a:lnTo>
                    <a:pt x="3093" y="727"/>
                  </a:lnTo>
                  <a:lnTo>
                    <a:pt x="3037" y="749"/>
                  </a:lnTo>
                  <a:lnTo>
                    <a:pt x="2986" y="765"/>
                  </a:lnTo>
                  <a:lnTo>
                    <a:pt x="2944" y="778"/>
                  </a:lnTo>
                  <a:lnTo>
                    <a:pt x="2904" y="783"/>
                  </a:lnTo>
                  <a:lnTo>
                    <a:pt x="2876" y="789"/>
                  </a:lnTo>
                  <a:lnTo>
                    <a:pt x="2853" y="789"/>
                  </a:lnTo>
                  <a:lnTo>
                    <a:pt x="2831" y="789"/>
                  </a:lnTo>
                  <a:lnTo>
                    <a:pt x="2803" y="783"/>
                  </a:lnTo>
                  <a:lnTo>
                    <a:pt x="2766" y="778"/>
                  </a:lnTo>
                  <a:lnTo>
                    <a:pt x="2721" y="765"/>
                  </a:lnTo>
                  <a:lnTo>
                    <a:pt x="2670" y="749"/>
                  </a:lnTo>
                  <a:lnTo>
                    <a:pt x="2614" y="727"/>
                  </a:lnTo>
                  <a:lnTo>
                    <a:pt x="2555" y="698"/>
                  </a:lnTo>
                  <a:lnTo>
                    <a:pt x="2490" y="660"/>
                  </a:lnTo>
                  <a:lnTo>
                    <a:pt x="2456" y="642"/>
                  </a:lnTo>
                  <a:lnTo>
                    <a:pt x="2422" y="626"/>
                  </a:lnTo>
                  <a:lnTo>
                    <a:pt x="2385" y="615"/>
                  </a:lnTo>
                  <a:lnTo>
                    <a:pt x="2349" y="607"/>
                  </a:lnTo>
                  <a:lnTo>
                    <a:pt x="2312" y="602"/>
                  </a:lnTo>
                  <a:lnTo>
                    <a:pt x="2273" y="599"/>
                  </a:lnTo>
                  <a:lnTo>
                    <a:pt x="2236" y="602"/>
                  </a:lnTo>
                  <a:lnTo>
                    <a:pt x="2194" y="607"/>
                  </a:lnTo>
                  <a:lnTo>
                    <a:pt x="2154" y="612"/>
                  </a:lnTo>
                  <a:lnTo>
                    <a:pt x="2112" y="623"/>
                  </a:lnTo>
                  <a:lnTo>
                    <a:pt x="2070" y="634"/>
                  </a:lnTo>
                  <a:lnTo>
                    <a:pt x="2025" y="647"/>
                  </a:lnTo>
                  <a:lnTo>
                    <a:pt x="1979" y="663"/>
                  </a:lnTo>
                  <a:lnTo>
                    <a:pt x="1934" y="679"/>
                  </a:lnTo>
                  <a:lnTo>
                    <a:pt x="1886" y="698"/>
                  </a:lnTo>
                  <a:lnTo>
                    <a:pt x="1838" y="716"/>
                  </a:lnTo>
                  <a:lnTo>
                    <a:pt x="1791" y="735"/>
                  </a:lnTo>
                  <a:lnTo>
                    <a:pt x="1740" y="749"/>
                  </a:lnTo>
                  <a:lnTo>
                    <a:pt x="1692" y="762"/>
                  </a:lnTo>
                  <a:lnTo>
                    <a:pt x="1647" y="770"/>
                  </a:lnTo>
                  <a:lnTo>
                    <a:pt x="1599" y="773"/>
                  </a:lnTo>
                  <a:lnTo>
                    <a:pt x="1554" y="775"/>
                  </a:lnTo>
                  <a:lnTo>
                    <a:pt x="1509" y="773"/>
                  </a:lnTo>
                  <a:lnTo>
                    <a:pt x="1463" y="770"/>
                  </a:lnTo>
                  <a:lnTo>
                    <a:pt x="1421" y="762"/>
                  </a:lnTo>
                  <a:lnTo>
                    <a:pt x="1379" y="754"/>
                  </a:lnTo>
                  <a:lnTo>
                    <a:pt x="1337" y="743"/>
                  </a:lnTo>
                  <a:lnTo>
                    <a:pt x="1297" y="730"/>
                  </a:lnTo>
                  <a:lnTo>
                    <a:pt x="1258" y="716"/>
                  </a:lnTo>
                  <a:lnTo>
                    <a:pt x="1221" y="700"/>
                  </a:lnTo>
                  <a:lnTo>
                    <a:pt x="1187" y="684"/>
                  </a:lnTo>
                  <a:lnTo>
                    <a:pt x="1153" y="666"/>
                  </a:lnTo>
                  <a:lnTo>
                    <a:pt x="1119" y="647"/>
                  </a:lnTo>
                  <a:lnTo>
                    <a:pt x="1086" y="634"/>
                  </a:lnTo>
                  <a:lnTo>
                    <a:pt x="1052" y="623"/>
                  </a:lnTo>
                  <a:lnTo>
                    <a:pt x="1015" y="615"/>
                  </a:lnTo>
                  <a:lnTo>
                    <a:pt x="979" y="610"/>
                  </a:lnTo>
                  <a:lnTo>
                    <a:pt x="945" y="607"/>
                  </a:lnTo>
                  <a:lnTo>
                    <a:pt x="908" y="610"/>
                  </a:lnTo>
                  <a:lnTo>
                    <a:pt x="874" y="612"/>
                  </a:lnTo>
                  <a:lnTo>
                    <a:pt x="838" y="618"/>
                  </a:lnTo>
                  <a:lnTo>
                    <a:pt x="804" y="626"/>
                  </a:lnTo>
                  <a:lnTo>
                    <a:pt x="770" y="634"/>
                  </a:lnTo>
                  <a:lnTo>
                    <a:pt x="736" y="644"/>
                  </a:lnTo>
                  <a:lnTo>
                    <a:pt x="702" y="658"/>
                  </a:lnTo>
                  <a:lnTo>
                    <a:pt x="671" y="674"/>
                  </a:lnTo>
                  <a:lnTo>
                    <a:pt x="640" y="690"/>
                  </a:lnTo>
                  <a:lnTo>
                    <a:pt x="612" y="706"/>
                  </a:lnTo>
                  <a:lnTo>
                    <a:pt x="581" y="722"/>
                  </a:lnTo>
                  <a:lnTo>
                    <a:pt x="547" y="738"/>
                  </a:lnTo>
                  <a:lnTo>
                    <a:pt x="511" y="749"/>
                  </a:lnTo>
                  <a:lnTo>
                    <a:pt x="474" y="757"/>
                  </a:lnTo>
                  <a:lnTo>
                    <a:pt x="437" y="762"/>
                  </a:lnTo>
                  <a:lnTo>
                    <a:pt x="401" y="765"/>
                  </a:lnTo>
                  <a:lnTo>
                    <a:pt x="361" y="765"/>
                  </a:lnTo>
                  <a:lnTo>
                    <a:pt x="324" y="759"/>
                  </a:lnTo>
                  <a:lnTo>
                    <a:pt x="285" y="754"/>
                  </a:lnTo>
                  <a:lnTo>
                    <a:pt x="248" y="743"/>
                  </a:lnTo>
                  <a:lnTo>
                    <a:pt x="214" y="730"/>
                  </a:lnTo>
                  <a:lnTo>
                    <a:pt x="181" y="714"/>
                  </a:lnTo>
                  <a:lnTo>
                    <a:pt x="150" y="692"/>
                  </a:lnTo>
                  <a:lnTo>
                    <a:pt x="121" y="668"/>
                  </a:lnTo>
                  <a:lnTo>
                    <a:pt x="93" y="642"/>
                  </a:lnTo>
                  <a:lnTo>
                    <a:pt x="71" y="612"/>
                  </a:lnTo>
                  <a:lnTo>
                    <a:pt x="40" y="556"/>
                  </a:lnTo>
                  <a:lnTo>
                    <a:pt x="17" y="497"/>
                  </a:lnTo>
                  <a:lnTo>
                    <a:pt x="3" y="436"/>
                  </a:lnTo>
                  <a:lnTo>
                    <a:pt x="0" y="372"/>
                  </a:lnTo>
                  <a:lnTo>
                    <a:pt x="6" y="310"/>
                  </a:lnTo>
                  <a:lnTo>
                    <a:pt x="20" y="246"/>
                  </a:lnTo>
                  <a:lnTo>
                    <a:pt x="45" y="185"/>
                  </a:lnTo>
                  <a:lnTo>
                    <a:pt x="82" y="123"/>
                  </a:lnTo>
                  <a:close/>
                </a:path>
              </a:pathLst>
            </a:custGeom>
            <a:solidFill>
              <a:srgbClr val="ff9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8"/>
          <p:cNvSpPr/>
          <p:nvPr/>
        </p:nvSpPr>
        <p:spPr>
          <a:xfrm>
            <a:off x="714240" y="437400"/>
            <a:ext cx="807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5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ท่านดำเนินงา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428760" y="-2088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006600"/>
                </a:solidFill>
                <a:latin typeface="Angsana New"/>
                <a:cs typeface="LilyUPC"/>
              </a:rPr>
              <a:t>ตาม </a:t>
            </a:r>
            <a:r>
              <a:rPr b="1" lang="th-TH" sz="8800" spc="-1" strike="noStrike">
                <a:solidFill>
                  <a:srgbClr val="c3260c"/>
                </a:solidFill>
                <a:latin typeface="Angsana New"/>
                <a:cs typeface="LilyUPC"/>
              </a:rPr>
              <a:t>วัตถุประสงค์โครงกา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142920" y="958680"/>
            <a:ext cx="892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66"/>
                </a:solidFill>
                <a:latin typeface="Angsana New"/>
                <a:cs typeface="LilyUPC"/>
              </a:rPr>
              <a:t>ที่สพฐ</a:t>
            </a:r>
            <a:r>
              <a:rPr b="1" lang="th-TH" sz="6000" spc="-1" strike="noStrike">
                <a:solidFill>
                  <a:srgbClr val="000066"/>
                </a:solidFill>
                <a:latin typeface="Angsana New"/>
                <a:ea typeface="LilyUPC"/>
              </a:rPr>
              <a:t>.</a:t>
            </a:r>
            <a:r>
              <a:rPr b="1" lang="th-TH" sz="6000" spc="-1" strike="noStrike">
                <a:solidFill>
                  <a:srgbClr val="000066"/>
                </a:solidFill>
                <a:latin typeface="Angsana New"/>
                <a:cs typeface="LilyUPC"/>
              </a:rPr>
              <a:t>กำหนด ได้ครอบคลุมหรือไม่</a:t>
            </a:r>
            <a:r>
              <a:rPr b="1" lang="th-TH" sz="6000" spc="-1" strike="noStrike">
                <a:solidFill>
                  <a:srgbClr val="000066"/>
                </a:solidFill>
                <a:latin typeface="Angsana New"/>
                <a:ea typeface="LilyUPC"/>
              </a:rPr>
              <a:t>? </a:t>
            </a:r>
            <a:br>
              <a:rPr sz="6000"/>
            </a:br>
            <a:r>
              <a:rPr b="1" lang="th-TH" sz="6000" spc="-1" strike="noStrike">
                <a:solidFill>
                  <a:srgbClr val="0000ff"/>
                </a:solidFill>
                <a:latin typeface="Angsana New"/>
                <a:cs typeface="LilyUPC"/>
              </a:rPr>
              <a:t>ได้อ่านรายละเอียดกิจกรรม</a:t>
            </a:r>
            <a:br>
              <a:rPr sz="6000"/>
            </a:br>
            <a:r>
              <a:rPr b="1" lang="th-TH" sz="6000" spc="-1" strike="noStrike">
                <a:solidFill>
                  <a:srgbClr val="0000ff"/>
                </a:solidFill>
                <a:latin typeface="Angsana New"/>
                <a:cs typeface="LilyUPC"/>
              </a:rPr>
              <a:t>ในโครงการของสพฐ</a:t>
            </a:r>
            <a:r>
              <a:rPr b="1" lang="th-TH" sz="6000" spc="-1" strike="noStrike">
                <a:solidFill>
                  <a:srgbClr val="0000ff"/>
                </a:solidFill>
                <a:latin typeface="Angsana New"/>
                <a:ea typeface="LilyUPC"/>
              </a:rPr>
              <a:t>. </a:t>
            </a:r>
            <a:r>
              <a:rPr b="1" lang="th-TH" sz="6000" spc="-1" strike="noStrike">
                <a:solidFill>
                  <a:srgbClr val="0000ff"/>
                </a:solidFill>
                <a:latin typeface="Angsana New"/>
                <a:cs typeface="LilyUPC"/>
              </a:rPr>
              <a:t>หรือยัง </a:t>
            </a:r>
            <a:r>
              <a:rPr b="1" lang="en-US" sz="6000" spc="-1" strike="noStrike">
                <a:solidFill>
                  <a:srgbClr val="0000ff"/>
                </a:solidFill>
                <a:latin typeface="Angsana New"/>
                <a:ea typeface="LilyUPC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41520" y="2060640"/>
            <a:ext cx="7694280" cy="1739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.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พฐ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สร้างเครื่องมือให้ท่านแล้ว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395280" y="144360"/>
            <a:ext cx="8206920" cy="1810800"/>
            <a:chOff x="395280" y="144360"/>
            <a:chExt cx="8206920" cy="1810800"/>
          </a:xfrm>
        </p:grpSpPr>
        <p:sp>
          <p:nvSpPr>
            <p:cNvPr id="374" name="Rectangle 4"/>
            <p:cNvSpPr/>
            <p:nvPr/>
          </p:nvSpPr>
          <p:spPr>
            <a:xfrm>
              <a:off x="1543680" y="412560"/>
              <a:ext cx="5838120" cy="97920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5"/>
            <p:cNvGrpSpPr/>
            <p:nvPr/>
          </p:nvGrpSpPr>
          <p:grpSpPr>
            <a:xfrm>
              <a:off x="395280" y="144360"/>
              <a:ext cx="1433160" cy="1810800"/>
              <a:chOff x="395280" y="144360"/>
              <a:chExt cx="1433160" cy="1810800"/>
            </a:xfrm>
          </p:grpSpPr>
          <p:sp>
            <p:nvSpPr>
              <p:cNvPr id="376" name="Freeform 6"/>
              <p:cNvSpPr/>
              <p:nvPr/>
            </p:nvSpPr>
            <p:spPr>
              <a:xfrm>
                <a:off x="395280" y="144360"/>
                <a:ext cx="1433160" cy="1810800"/>
              </a:xfrm>
              <a:custGeom>
                <a:avLst/>
                <a:gdLst>
                  <a:gd name="textAreaLeft" fmla="*/ 0 w 1433160"/>
                  <a:gd name="textAreaRight" fmla="*/ 1433520 w 1433160"/>
                  <a:gd name="textAreaTop" fmla="*/ 0 h 1810800"/>
                  <a:gd name="textAreaBottom" fmla="*/ 1811160 h 1810800"/>
                </a:gdLst>
                <a:ahLst/>
                <a:rect l="textAreaLeft" t="textAreaTop" r="textAreaRight" b="textAreaBottom"/>
                <a:pathLst>
                  <a:path w="1278" h="1557">
                    <a:moveTo>
                      <a:pt x="72" y="144"/>
                    </a:moveTo>
                    <a:lnTo>
                      <a:pt x="11" y="285"/>
                    </a:lnTo>
                    <a:lnTo>
                      <a:pt x="0" y="335"/>
                    </a:lnTo>
                    <a:lnTo>
                      <a:pt x="5" y="414"/>
                    </a:lnTo>
                    <a:lnTo>
                      <a:pt x="11" y="469"/>
                    </a:lnTo>
                    <a:lnTo>
                      <a:pt x="28" y="537"/>
                    </a:lnTo>
                    <a:lnTo>
                      <a:pt x="66" y="615"/>
                    </a:lnTo>
                    <a:lnTo>
                      <a:pt x="195" y="722"/>
                    </a:lnTo>
                    <a:lnTo>
                      <a:pt x="301" y="833"/>
                    </a:lnTo>
                    <a:lnTo>
                      <a:pt x="326" y="874"/>
                    </a:lnTo>
                    <a:lnTo>
                      <a:pt x="352" y="916"/>
                    </a:lnTo>
                    <a:lnTo>
                      <a:pt x="379" y="1006"/>
                    </a:lnTo>
                    <a:lnTo>
                      <a:pt x="407" y="1162"/>
                    </a:lnTo>
                    <a:lnTo>
                      <a:pt x="435" y="1248"/>
                    </a:lnTo>
                    <a:lnTo>
                      <a:pt x="472" y="1373"/>
                    </a:lnTo>
                    <a:lnTo>
                      <a:pt x="494" y="1517"/>
                    </a:lnTo>
                    <a:lnTo>
                      <a:pt x="501" y="1533"/>
                    </a:lnTo>
                    <a:lnTo>
                      <a:pt x="511" y="1543"/>
                    </a:lnTo>
                    <a:lnTo>
                      <a:pt x="522" y="1550"/>
                    </a:lnTo>
                    <a:lnTo>
                      <a:pt x="534" y="1555"/>
                    </a:lnTo>
                    <a:lnTo>
                      <a:pt x="553" y="1557"/>
                    </a:lnTo>
                    <a:lnTo>
                      <a:pt x="569" y="1557"/>
                    </a:lnTo>
                    <a:lnTo>
                      <a:pt x="586" y="1555"/>
                    </a:lnTo>
                    <a:lnTo>
                      <a:pt x="600" y="1550"/>
                    </a:lnTo>
                    <a:lnTo>
                      <a:pt x="612" y="1541"/>
                    </a:lnTo>
                    <a:lnTo>
                      <a:pt x="622" y="1529"/>
                    </a:lnTo>
                    <a:lnTo>
                      <a:pt x="629" y="1512"/>
                    </a:lnTo>
                    <a:lnTo>
                      <a:pt x="631" y="1496"/>
                    </a:lnTo>
                    <a:lnTo>
                      <a:pt x="632" y="1467"/>
                    </a:lnTo>
                    <a:lnTo>
                      <a:pt x="631" y="1446"/>
                    </a:lnTo>
                    <a:lnTo>
                      <a:pt x="614" y="1342"/>
                    </a:lnTo>
                    <a:lnTo>
                      <a:pt x="592" y="1214"/>
                    </a:lnTo>
                    <a:lnTo>
                      <a:pt x="575" y="1107"/>
                    </a:lnTo>
                    <a:lnTo>
                      <a:pt x="614" y="1183"/>
                    </a:lnTo>
                    <a:lnTo>
                      <a:pt x="714" y="1303"/>
                    </a:lnTo>
                    <a:lnTo>
                      <a:pt x="796" y="1406"/>
                    </a:lnTo>
                    <a:lnTo>
                      <a:pt x="917" y="1535"/>
                    </a:lnTo>
                    <a:lnTo>
                      <a:pt x="935" y="1540"/>
                    </a:lnTo>
                    <a:lnTo>
                      <a:pt x="954" y="1540"/>
                    </a:lnTo>
                    <a:lnTo>
                      <a:pt x="971" y="1535"/>
                    </a:lnTo>
                    <a:lnTo>
                      <a:pt x="985" y="1524"/>
                    </a:lnTo>
                    <a:lnTo>
                      <a:pt x="996" y="1514"/>
                    </a:lnTo>
                    <a:lnTo>
                      <a:pt x="1004" y="1500"/>
                    </a:lnTo>
                    <a:lnTo>
                      <a:pt x="1007" y="1489"/>
                    </a:lnTo>
                    <a:lnTo>
                      <a:pt x="1012" y="1477"/>
                    </a:lnTo>
                    <a:lnTo>
                      <a:pt x="1013" y="1466"/>
                    </a:lnTo>
                    <a:lnTo>
                      <a:pt x="1013" y="1454"/>
                    </a:lnTo>
                    <a:lnTo>
                      <a:pt x="1013" y="1442"/>
                    </a:lnTo>
                    <a:lnTo>
                      <a:pt x="1009" y="1428"/>
                    </a:lnTo>
                    <a:lnTo>
                      <a:pt x="1004" y="1407"/>
                    </a:lnTo>
                    <a:lnTo>
                      <a:pt x="996" y="1390"/>
                    </a:lnTo>
                    <a:lnTo>
                      <a:pt x="973" y="1356"/>
                    </a:lnTo>
                    <a:lnTo>
                      <a:pt x="945" y="1320"/>
                    </a:lnTo>
                    <a:lnTo>
                      <a:pt x="883" y="1264"/>
                    </a:lnTo>
                    <a:lnTo>
                      <a:pt x="812" y="1143"/>
                    </a:lnTo>
                    <a:lnTo>
                      <a:pt x="1013" y="1237"/>
                    </a:lnTo>
                    <a:lnTo>
                      <a:pt x="1146" y="1281"/>
                    </a:lnTo>
                    <a:lnTo>
                      <a:pt x="1170" y="1289"/>
                    </a:lnTo>
                    <a:lnTo>
                      <a:pt x="1192" y="1294"/>
                    </a:lnTo>
                    <a:lnTo>
                      <a:pt x="1213" y="1294"/>
                    </a:lnTo>
                    <a:lnTo>
                      <a:pt x="1228" y="1289"/>
                    </a:lnTo>
                    <a:lnTo>
                      <a:pt x="1240" y="1281"/>
                    </a:lnTo>
                    <a:lnTo>
                      <a:pt x="1250" y="1270"/>
                    </a:lnTo>
                    <a:lnTo>
                      <a:pt x="1259" y="1254"/>
                    </a:lnTo>
                    <a:lnTo>
                      <a:pt x="1264" y="1238"/>
                    </a:lnTo>
                    <a:lnTo>
                      <a:pt x="1268" y="1219"/>
                    </a:lnTo>
                    <a:lnTo>
                      <a:pt x="1267" y="1206"/>
                    </a:lnTo>
                    <a:lnTo>
                      <a:pt x="1262" y="1191"/>
                    </a:lnTo>
                    <a:lnTo>
                      <a:pt x="1256" y="1181"/>
                    </a:lnTo>
                    <a:lnTo>
                      <a:pt x="1248" y="1170"/>
                    </a:lnTo>
                    <a:lnTo>
                      <a:pt x="1233" y="1160"/>
                    </a:lnTo>
                    <a:lnTo>
                      <a:pt x="1220" y="1151"/>
                    </a:lnTo>
                    <a:lnTo>
                      <a:pt x="1146" y="1112"/>
                    </a:lnTo>
                    <a:lnTo>
                      <a:pt x="1071" y="1070"/>
                    </a:lnTo>
                    <a:lnTo>
                      <a:pt x="1009" y="1030"/>
                    </a:lnTo>
                    <a:lnTo>
                      <a:pt x="973" y="1011"/>
                    </a:lnTo>
                    <a:lnTo>
                      <a:pt x="945" y="1000"/>
                    </a:lnTo>
                    <a:lnTo>
                      <a:pt x="945" y="959"/>
                    </a:lnTo>
                    <a:lnTo>
                      <a:pt x="943" y="919"/>
                    </a:lnTo>
                    <a:lnTo>
                      <a:pt x="928" y="874"/>
                    </a:lnTo>
                    <a:lnTo>
                      <a:pt x="900" y="818"/>
                    </a:lnTo>
                    <a:lnTo>
                      <a:pt x="889" y="766"/>
                    </a:lnTo>
                    <a:lnTo>
                      <a:pt x="875" y="717"/>
                    </a:lnTo>
                    <a:lnTo>
                      <a:pt x="858" y="669"/>
                    </a:lnTo>
                    <a:lnTo>
                      <a:pt x="840" y="629"/>
                    </a:lnTo>
                    <a:lnTo>
                      <a:pt x="821" y="584"/>
                    </a:lnTo>
                    <a:lnTo>
                      <a:pt x="807" y="533"/>
                    </a:lnTo>
                    <a:lnTo>
                      <a:pt x="790" y="466"/>
                    </a:lnTo>
                    <a:lnTo>
                      <a:pt x="779" y="428"/>
                    </a:lnTo>
                    <a:lnTo>
                      <a:pt x="766" y="368"/>
                    </a:lnTo>
                    <a:lnTo>
                      <a:pt x="777" y="333"/>
                    </a:lnTo>
                    <a:lnTo>
                      <a:pt x="790" y="311"/>
                    </a:lnTo>
                    <a:lnTo>
                      <a:pt x="821" y="287"/>
                    </a:lnTo>
                    <a:lnTo>
                      <a:pt x="934" y="268"/>
                    </a:lnTo>
                    <a:lnTo>
                      <a:pt x="985" y="256"/>
                    </a:lnTo>
                    <a:lnTo>
                      <a:pt x="1052" y="240"/>
                    </a:lnTo>
                    <a:lnTo>
                      <a:pt x="1093" y="228"/>
                    </a:lnTo>
                    <a:lnTo>
                      <a:pt x="1135" y="211"/>
                    </a:lnTo>
                    <a:lnTo>
                      <a:pt x="1185" y="182"/>
                    </a:lnTo>
                    <a:lnTo>
                      <a:pt x="1205" y="171"/>
                    </a:lnTo>
                    <a:lnTo>
                      <a:pt x="1225" y="156"/>
                    </a:lnTo>
                    <a:lnTo>
                      <a:pt x="1239" y="141"/>
                    </a:lnTo>
                    <a:lnTo>
                      <a:pt x="1253" y="121"/>
                    </a:lnTo>
                    <a:lnTo>
                      <a:pt x="1261" y="104"/>
                    </a:lnTo>
                    <a:lnTo>
                      <a:pt x="1270" y="83"/>
                    </a:lnTo>
                    <a:lnTo>
                      <a:pt x="1276" y="64"/>
                    </a:lnTo>
                    <a:lnTo>
                      <a:pt x="1278" y="49"/>
                    </a:lnTo>
                    <a:lnTo>
                      <a:pt x="1277" y="30"/>
                    </a:lnTo>
                    <a:lnTo>
                      <a:pt x="1270" y="16"/>
                    </a:lnTo>
                    <a:lnTo>
                      <a:pt x="1264" y="9"/>
                    </a:lnTo>
                    <a:lnTo>
                      <a:pt x="1258" y="4"/>
                    </a:lnTo>
                    <a:lnTo>
                      <a:pt x="1248" y="0"/>
                    </a:lnTo>
                    <a:lnTo>
                      <a:pt x="1213" y="16"/>
                    </a:lnTo>
                    <a:lnTo>
                      <a:pt x="1124" y="55"/>
                    </a:lnTo>
                    <a:lnTo>
                      <a:pt x="1057" y="78"/>
                    </a:lnTo>
                    <a:lnTo>
                      <a:pt x="1018" y="72"/>
                    </a:lnTo>
                    <a:lnTo>
                      <a:pt x="962" y="89"/>
                    </a:lnTo>
                    <a:lnTo>
                      <a:pt x="915" y="93"/>
                    </a:lnTo>
                    <a:lnTo>
                      <a:pt x="860" y="94"/>
                    </a:lnTo>
                    <a:lnTo>
                      <a:pt x="760" y="100"/>
                    </a:lnTo>
                    <a:lnTo>
                      <a:pt x="592" y="128"/>
                    </a:lnTo>
                    <a:lnTo>
                      <a:pt x="463" y="133"/>
                    </a:lnTo>
                    <a:lnTo>
                      <a:pt x="346" y="156"/>
                    </a:lnTo>
                    <a:lnTo>
                      <a:pt x="279" y="156"/>
                    </a:lnTo>
                    <a:lnTo>
                      <a:pt x="178" y="139"/>
                    </a:lnTo>
                    <a:lnTo>
                      <a:pt x="72" y="144"/>
                    </a:lnTo>
                    <a:close/>
                  </a:path>
                </a:pathLst>
              </a:custGeom>
              <a:solidFill>
                <a:srgbClr val="ff9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"/>
              <p:cNvSpPr/>
              <p:nvPr/>
            </p:nvSpPr>
            <p:spPr>
              <a:xfrm>
                <a:off x="1677240" y="144360"/>
                <a:ext cx="128160" cy="6336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15" h="55">
                    <a:moveTo>
                      <a:pt x="0" y="44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0" y="55"/>
                    </a:lnTo>
                    <a:lnTo>
                      <a:pt x="38" y="55"/>
                    </a:lnTo>
                    <a:lnTo>
                      <a:pt x="50" y="54"/>
                    </a:lnTo>
                    <a:lnTo>
                      <a:pt x="70" y="48"/>
                    </a:lnTo>
                    <a:lnTo>
                      <a:pt x="84" y="42"/>
                    </a:lnTo>
                    <a:lnTo>
                      <a:pt x="98" y="35"/>
                    </a:lnTo>
                    <a:lnTo>
                      <a:pt x="112" y="28"/>
                    </a:lnTo>
                    <a:lnTo>
                      <a:pt x="115" y="21"/>
                    </a:lnTo>
                    <a:lnTo>
                      <a:pt x="114" y="13"/>
                    </a:lnTo>
                    <a:lnTo>
                      <a:pt x="105" y="6"/>
                    </a:lnTo>
                    <a:lnTo>
                      <a:pt x="96" y="0"/>
                    </a:lnTo>
                    <a:lnTo>
                      <a:pt x="66" y="1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8"/>
              <p:cNvGrpSpPr/>
              <p:nvPr/>
            </p:nvGrpSpPr>
            <p:grpSpPr>
              <a:xfrm>
                <a:off x="641520" y="231480"/>
                <a:ext cx="1157400" cy="1710720"/>
                <a:chOff x="641520" y="231480"/>
                <a:chExt cx="1157400" cy="1710720"/>
              </a:xfrm>
            </p:grpSpPr>
            <p:sp>
              <p:nvSpPr>
                <p:cNvPr id="379" name="Freeform 9"/>
                <p:cNvSpPr/>
                <p:nvPr/>
              </p:nvSpPr>
              <p:spPr>
                <a:xfrm>
                  <a:off x="926640" y="661680"/>
                  <a:ext cx="524880" cy="709920"/>
                </a:xfrm>
                <a:custGeom>
                  <a:avLst/>
                  <a:gdLst>
                    <a:gd name="textAreaLeft" fmla="*/ 0 w 524880"/>
                    <a:gd name="textAreaRight" fmla="*/ 525240 w 524880"/>
                    <a:gd name="textAreaTop" fmla="*/ 0 h 709920"/>
                    <a:gd name="textAreaBottom" fmla="*/ 710280 h 709920"/>
                  </a:gdLst>
                  <a:ahLst/>
                  <a:rect l="textAreaLeft" t="textAreaTop" r="textAreaRight" b="textAreaBottom"/>
                  <a:pathLst>
                    <a:path w="471" h="611">
                      <a:moveTo>
                        <a:pt x="0" y="0"/>
                      </a:moveTo>
                      <a:lnTo>
                        <a:pt x="40" y="26"/>
                      </a:lnTo>
                      <a:lnTo>
                        <a:pt x="68" y="72"/>
                      </a:lnTo>
                      <a:lnTo>
                        <a:pt x="129" y="157"/>
                      </a:lnTo>
                      <a:lnTo>
                        <a:pt x="166" y="212"/>
                      </a:lnTo>
                      <a:lnTo>
                        <a:pt x="194" y="282"/>
                      </a:lnTo>
                      <a:lnTo>
                        <a:pt x="205" y="322"/>
                      </a:lnTo>
                      <a:lnTo>
                        <a:pt x="249" y="393"/>
                      </a:lnTo>
                      <a:lnTo>
                        <a:pt x="308" y="491"/>
                      </a:lnTo>
                      <a:lnTo>
                        <a:pt x="347" y="561"/>
                      </a:lnTo>
                      <a:lnTo>
                        <a:pt x="375" y="606"/>
                      </a:lnTo>
                      <a:lnTo>
                        <a:pt x="386" y="609"/>
                      </a:lnTo>
                      <a:lnTo>
                        <a:pt x="400" y="611"/>
                      </a:lnTo>
                      <a:lnTo>
                        <a:pt x="420" y="609"/>
                      </a:lnTo>
                      <a:lnTo>
                        <a:pt x="440" y="603"/>
                      </a:lnTo>
                      <a:lnTo>
                        <a:pt x="453" y="590"/>
                      </a:lnTo>
                      <a:lnTo>
                        <a:pt x="464" y="571"/>
                      </a:lnTo>
                      <a:lnTo>
                        <a:pt x="471" y="546"/>
                      </a:lnTo>
                      <a:lnTo>
                        <a:pt x="471" y="5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10"/>
                <p:cNvSpPr/>
                <p:nvPr/>
              </p:nvSpPr>
              <p:spPr>
                <a:xfrm>
                  <a:off x="825120" y="905760"/>
                  <a:ext cx="498240" cy="57672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576720"/>
                    <a:gd name="textAreaBottom" fmla="*/ 577080 h 576720"/>
                  </a:gdLst>
                  <a:ahLst/>
                  <a:rect l="textAreaLeft" t="textAreaTop" r="textAreaRight" b="textAreaBottom"/>
                  <a:pathLst>
                    <a:path w="442" h="492">
                      <a:moveTo>
                        <a:pt x="0" y="0"/>
                      </a:moveTo>
                      <a:lnTo>
                        <a:pt x="44" y="68"/>
                      </a:lnTo>
                      <a:lnTo>
                        <a:pt x="123" y="129"/>
                      </a:lnTo>
                      <a:lnTo>
                        <a:pt x="176" y="185"/>
                      </a:lnTo>
                      <a:lnTo>
                        <a:pt x="227" y="255"/>
                      </a:lnTo>
                      <a:lnTo>
                        <a:pt x="283" y="327"/>
                      </a:lnTo>
                      <a:lnTo>
                        <a:pt x="341" y="423"/>
                      </a:lnTo>
                      <a:lnTo>
                        <a:pt x="381" y="451"/>
                      </a:lnTo>
                      <a:lnTo>
                        <a:pt x="442" y="49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1"/>
                <p:cNvSpPr/>
                <p:nvPr/>
              </p:nvSpPr>
              <p:spPr>
                <a:xfrm>
                  <a:off x="797400" y="1045800"/>
                  <a:ext cx="240840" cy="384120"/>
                </a:xfrm>
                <a:custGeom>
                  <a:avLst/>
                  <a:gdLst>
                    <a:gd name="textAreaLeft" fmla="*/ 0 w 240840"/>
                    <a:gd name="textAreaRight" fmla="*/ 241200 w 240840"/>
                    <a:gd name="textAreaTop" fmla="*/ 0 h 384120"/>
                    <a:gd name="textAreaBottom" fmla="*/ 384480 h 384120"/>
                  </a:gdLst>
                  <a:ahLst/>
                  <a:rect l="textAreaLeft" t="textAreaTop" r="textAreaRight" b="textAreaBottom"/>
                  <a:pathLst>
                    <a:path w="218" h="331">
                      <a:moveTo>
                        <a:pt x="0" y="0"/>
                      </a:moveTo>
                      <a:lnTo>
                        <a:pt x="72" y="95"/>
                      </a:lnTo>
                      <a:lnTo>
                        <a:pt x="128" y="178"/>
                      </a:lnTo>
                      <a:lnTo>
                        <a:pt x="179" y="263"/>
                      </a:lnTo>
                      <a:lnTo>
                        <a:pt x="218" y="331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2"/>
                <p:cNvSpPr/>
                <p:nvPr/>
              </p:nvSpPr>
              <p:spPr>
                <a:xfrm>
                  <a:off x="1541880" y="231480"/>
                  <a:ext cx="5040" cy="6336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9" h="53">
                      <a:moveTo>
                        <a:pt x="0" y="0"/>
                      </a:moveTo>
                      <a:lnTo>
                        <a:pt x="9" y="20"/>
                      </a:lnTo>
                      <a:lnTo>
                        <a:pt x="9" y="38"/>
                      </a:lnTo>
                      <a:lnTo>
                        <a:pt x="5" y="53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3"/>
                <p:cNvSpPr/>
                <p:nvPr/>
              </p:nvSpPr>
              <p:spPr>
                <a:xfrm>
                  <a:off x="1525320" y="231480"/>
                  <a:ext cx="10080" cy="633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9" h="53">
                      <a:moveTo>
                        <a:pt x="0" y="0"/>
                      </a:moveTo>
                      <a:lnTo>
                        <a:pt x="9" y="20"/>
                      </a:lnTo>
                      <a:lnTo>
                        <a:pt x="9" y="38"/>
                      </a:lnTo>
                      <a:lnTo>
                        <a:pt x="6" y="53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4"/>
                <p:cNvSpPr/>
                <p:nvPr/>
              </p:nvSpPr>
              <p:spPr>
                <a:xfrm>
                  <a:off x="1278000" y="422640"/>
                  <a:ext cx="106200" cy="763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76320"/>
                    <a:gd name="textAreaBottom" fmla="*/ 76680 h 76320"/>
                  </a:gdLst>
                  <a:ahLst/>
                  <a:rect l="textAreaLeft" t="textAreaTop" r="textAreaRight" b="textAreaBottom"/>
                  <a:pathLst>
                    <a:path w="93" h="65">
                      <a:moveTo>
                        <a:pt x="93" y="0"/>
                      </a:moveTo>
                      <a:lnTo>
                        <a:pt x="45" y="20"/>
                      </a:lnTo>
                      <a:lnTo>
                        <a:pt x="26" y="37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15"/>
                <p:cNvSpPr/>
                <p:nvPr/>
              </p:nvSpPr>
              <p:spPr>
                <a:xfrm>
                  <a:off x="641520" y="318600"/>
                  <a:ext cx="150840" cy="169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135" h="12">
                      <a:moveTo>
                        <a:pt x="0" y="12"/>
                      </a:moveTo>
                      <a:lnTo>
                        <a:pt x="79" y="9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16"/>
                <p:cNvSpPr/>
                <p:nvPr/>
              </p:nvSpPr>
              <p:spPr>
                <a:xfrm>
                  <a:off x="1362960" y="1064160"/>
                  <a:ext cx="44280" cy="4608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0" h="40">
                      <a:moveTo>
                        <a:pt x="0" y="0"/>
                      </a:moveTo>
                      <a:lnTo>
                        <a:pt x="25" y="23"/>
                      </a:lnTo>
                      <a:lnTo>
                        <a:pt x="40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17"/>
                <p:cNvSpPr/>
                <p:nvPr/>
              </p:nvSpPr>
              <p:spPr>
                <a:xfrm>
                  <a:off x="1278000" y="789840"/>
                  <a:ext cx="39240" cy="4752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34" h="40">
                      <a:moveTo>
                        <a:pt x="0" y="0"/>
                      </a:moveTo>
                      <a:lnTo>
                        <a:pt x="20" y="23"/>
                      </a:lnTo>
                      <a:lnTo>
                        <a:pt x="34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8"/>
                <p:cNvSpPr/>
                <p:nvPr/>
              </p:nvSpPr>
              <p:spPr>
                <a:xfrm>
                  <a:off x="674280" y="837360"/>
                  <a:ext cx="101160" cy="19800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94" h="168">
                      <a:moveTo>
                        <a:pt x="0" y="0"/>
                      </a:moveTo>
                      <a:lnTo>
                        <a:pt x="33" y="28"/>
                      </a:lnTo>
                      <a:lnTo>
                        <a:pt x="94" y="16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19"/>
                <p:cNvSpPr/>
                <p:nvPr/>
              </p:nvSpPr>
              <p:spPr>
                <a:xfrm>
                  <a:off x="870840" y="1518480"/>
                  <a:ext cx="60840" cy="169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58" h="17">
                      <a:moveTo>
                        <a:pt x="0" y="17"/>
                      </a:moveTo>
                      <a:lnTo>
                        <a:pt x="12" y="10"/>
                      </a:lnTo>
                      <a:lnTo>
                        <a:pt x="22" y="5"/>
                      </a:lnTo>
                      <a:lnTo>
                        <a:pt x="39" y="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20"/>
                <p:cNvSpPr/>
                <p:nvPr/>
              </p:nvSpPr>
              <p:spPr>
                <a:xfrm>
                  <a:off x="936720" y="1803600"/>
                  <a:ext cx="78480" cy="138600"/>
                </a:xfrm>
                <a:custGeom>
                  <a:avLst/>
                  <a:gdLst>
                    <a:gd name="textAreaLeft" fmla="*/ 0 w 78480"/>
                    <a:gd name="textAreaRight" fmla="*/ 78840 w 784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71" h="11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31" y="1"/>
                      </a:lnTo>
                      <a:lnTo>
                        <a:pt x="39" y="3"/>
                      </a:lnTo>
                      <a:lnTo>
                        <a:pt x="48" y="9"/>
                      </a:lnTo>
                      <a:lnTo>
                        <a:pt x="53" y="16"/>
                      </a:lnTo>
                      <a:lnTo>
                        <a:pt x="57" y="26"/>
                      </a:lnTo>
                      <a:lnTo>
                        <a:pt x="71" y="113"/>
                      </a:lnTo>
                      <a:lnTo>
                        <a:pt x="54" y="117"/>
                      </a:lnTo>
                      <a:lnTo>
                        <a:pt x="40" y="116"/>
                      </a:lnTo>
                      <a:lnTo>
                        <a:pt x="30" y="112"/>
                      </a:lnTo>
                      <a:lnTo>
                        <a:pt x="24" y="110"/>
                      </a:lnTo>
                      <a:lnTo>
                        <a:pt x="17" y="101"/>
                      </a:lnTo>
                      <a:lnTo>
                        <a:pt x="12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21"/>
                <p:cNvSpPr/>
                <p:nvPr/>
              </p:nvSpPr>
              <p:spPr>
                <a:xfrm>
                  <a:off x="1351440" y="1814040"/>
                  <a:ext cx="134280" cy="11088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22" h="95">
                      <a:moveTo>
                        <a:pt x="0" y="22"/>
                      </a:moveTo>
                      <a:lnTo>
                        <a:pt x="10" y="16"/>
                      </a:lnTo>
                      <a:lnTo>
                        <a:pt x="18" y="10"/>
                      </a:lnTo>
                      <a:lnTo>
                        <a:pt x="29" y="5"/>
                      </a:lnTo>
                      <a:lnTo>
                        <a:pt x="43" y="1"/>
                      </a:lnTo>
                      <a:lnTo>
                        <a:pt x="54" y="0"/>
                      </a:lnTo>
                      <a:lnTo>
                        <a:pt x="65" y="1"/>
                      </a:lnTo>
                      <a:lnTo>
                        <a:pt x="76" y="3"/>
                      </a:lnTo>
                      <a:lnTo>
                        <a:pt x="85" y="9"/>
                      </a:lnTo>
                      <a:lnTo>
                        <a:pt x="111" y="32"/>
                      </a:lnTo>
                      <a:lnTo>
                        <a:pt x="120" y="45"/>
                      </a:lnTo>
                      <a:lnTo>
                        <a:pt x="122" y="55"/>
                      </a:lnTo>
                      <a:lnTo>
                        <a:pt x="121" y="62"/>
                      </a:lnTo>
                      <a:lnTo>
                        <a:pt x="116" y="70"/>
                      </a:lnTo>
                      <a:lnTo>
                        <a:pt x="111" y="78"/>
                      </a:lnTo>
                      <a:lnTo>
                        <a:pt x="102" y="86"/>
                      </a:lnTo>
                      <a:lnTo>
                        <a:pt x="94" y="90"/>
                      </a:lnTo>
                      <a:lnTo>
                        <a:pt x="84" y="94"/>
                      </a:lnTo>
                      <a:lnTo>
                        <a:pt x="74" y="95"/>
                      </a:lnTo>
                      <a:lnTo>
                        <a:pt x="69" y="9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2"/>
                <p:cNvSpPr/>
                <p:nvPr/>
              </p:nvSpPr>
              <p:spPr>
                <a:xfrm>
                  <a:off x="1071360" y="1441800"/>
                  <a:ext cx="78480" cy="46080"/>
                </a:xfrm>
                <a:custGeom>
                  <a:avLst/>
                  <a:gdLst>
                    <a:gd name="textAreaLeft" fmla="*/ 0 w 78480"/>
                    <a:gd name="textAreaRight" fmla="*/ 78840 w 78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69" h="42">
                      <a:moveTo>
                        <a:pt x="0" y="42"/>
                      </a:moveTo>
                      <a:lnTo>
                        <a:pt x="15" y="27"/>
                      </a:lnTo>
                      <a:lnTo>
                        <a:pt x="31" y="16"/>
                      </a:lnTo>
                      <a:lnTo>
                        <a:pt x="46" y="7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3"/>
                <p:cNvSpPr/>
                <p:nvPr/>
              </p:nvSpPr>
              <p:spPr>
                <a:xfrm>
                  <a:off x="1630440" y="1552680"/>
                  <a:ext cx="168480" cy="9900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148" h="85">
                      <a:moveTo>
                        <a:pt x="0" y="54"/>
                      </a:moveTo>
                      <a:lnTo>
                        <a:pt x="0" y="36"/>
                      </a:lnTo>
                      <a:lnTo>
                        <a:pt x="6" y="21"/>
                      </a:lnTo>
                      <a:lnTo>
                        <a:pt x="11" y="12"/>
                      </a:lnTo>
                      <a:lnTo>
                        <a:pt x="25" y="2"/>
                      </a:lnTo>
                      <a:lnTo>
                        <a:pt x="39" y="0"/>
                      </a:lnTo>
                      <a:lnTo>
                        <a:pt x="57" y="0"/>
                      </a:lnTo>
                      <a:lnTo>
                        <a:pt x="84" y="6"/>
                      </a:lnTo>
                      <a:lnTo>
                        <a:pt x="104" y="14"/>
                      </a:lnTo>
                      <a:lnTo>
                        <a:pt x="135" y="27"/>
                      </a:lnTo>
                      <a:lnTo>
                        <a:pt x="144" y="32"/>
                      </a:lnTo>
                      <a:lnTo>
                        <a:pt x="148" y="38"/>
                      </a:lnTo>
                      <a:lnTo>
                        <a:pt x="143" y="51"/>
                      </a:lnTo>
                      <a:lnTo>
                        <a:pt x="136" y="64"/>
                      </a:lnTo>
                      <a:lnTo>
                        <a:pt x="126" y="75"/>
                      </a:lnTo>
                      <a:lnTo>
                        <a:pt x="109" y="85"/>
                      </a:lnTo>
                      <a:lnTo>
                        <a:pt x="97" y="8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24"/>
                <p:cNvSpPr/>
                <p:nvPr/>
              </p:nvSpPr>
              <p:spPr>
                <a:xfrm>
                  <a:off x="1295640" y="1231920"/>
                  <a:ext cx="95040" cy="1278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127800"/>
                    <a:gd name="textAreaBottom" fmla="*/ 128160 h 127800"/>
                  </a:gdLst>
                  <a:ahLst/>
                  <a:rect l="textAreaLeft" t="textAreaTop" r="textAreaRight" b="textAreaBottom"/>
                  <a:pathLst>
                    <a:path w="86" h="109">
                      <a:moveTo>
                        <a:pt x="0" y="26"/>
                      </a:moveTo>
                      <a:lnTo>
                        <a:pt x="14" y="12"/>
                      </a:lnTo>
                      <a:lnTo>
                        <a:pt x="27" y="5"/>
                      </a:lnTo>
                      <a:lnTo>
                        <a:pt x="43" y="0"/>
                      </a:lnTo>
                      <a:lnTo>
                        <a:pt x="57" y="1"/>
                      </a:lnTo>
                      <a:lnTo>
                        <a:pt x="68" y="6"/>
                      </a:lnTo>
                      <a:lnTo>
                        <a:pt x="76" y="20"/>
                      </a:lnTo>
                      <a:lnTo>
                        <a:pt x="83" y="40"/>
                      </a:lnTo>
                      <a:lnTo>
                        <a:pt x="86" y="56"/>
                      </a:lnTo>
                      <a:lnTo>
                        <a:pt x="86" y="73"/>
                      </a:lnTo>
                      <a:lnTo>
                        <a:pt x="83" y="85"/>
                      </a:lnTo>
                      <a:lnTo>
                        <a:pt x="74" y="97"/>
                      </a:lnTo>
                      <a:lnTo>
                        <a:pt x="66" y="103"/>
                      </a:lnTo>
                      <a:lnTo>
                        <a:pt x="48" y="109"/>
                      </a:lnTo>
                      <a:lnTo>
                        <a:pt x="20" y="6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25"/>
            <p:cNvGrpSpPr/>
            <p:nvPr/>
          </p:nvGrpSpPr>
          <p:grpSpPr>
            <a:xfrm>
              <a:off x="7112880" y="219600"/>
              <a:ext cx="1489320" cy="1683720"/>
              <a:chOff x="7112880" y="219600"/>
              <a:chExt cx="1489320" cy="1683720"/>
            </a:xfrm>
          </p:grpSpPr>
          <p:sp>
            <p:nvSpPr>
              <p:cNvPr id="396" name="Freeform 26"/>
              <p:cNvSpPr/>
              <p:nvPr/>
            </p:nvSpPr>
            <p:spPr>
              <a:xfrm>
                <a:off x="7112880" y="219600"/>
                <a:ext cx="1489320" cy="1683720"/>
              </a:xfrm>
              <a:custGeom>
                <a:avLst/>
                <a:gdLst>
                  <a:gd name="textAreaLeft" fmla="*/ 0 w 1489320"/>
                  <a:gd name="textAreaRight" fmla="*/ 1489680 w 1489320"/>
                  <a:gd name="textAreaTop" fmla="*/ 0 h 1683720"/>
                  <a:gd name="textAreaBottom" fmla="*/ 1684080 h 1683720"/>
                </a:gdLst>
                <a:ahLst/>
                <a:rect l="textAreaLeft" t="textAreaTop" r="textAreaRight" b="textAreaBottom"/>
                <a:pathLst>
                  <a:path w="1326" h="1447">
                    <a:moveTo>
                      <a:pt x="1126" y="8"/>
                    </a:moveTo>
                    <a:lnTo>
                      <a:pt x="1002" y="69"/>
                    </a:lnTo>
                    <a:lnTo>
                      <a:pt x="919" y="69"/>
                    </a:lnTo>
                    <a:lnTo>
                      <a:pt x="823" y="64"/>
                    </a:lnTo>
                    <a:lnTo>
                      <a:pt x="751" y="64"/>
                    </a:lnTo>
                    <a:lnTo>
                      <a:pt x="571" y="19"/>
                    </a:lnTo>
                    <a:lnTo>
                      <a:pt x="471" y="19"/>
                    </a:lnTo>
                    <a:lnTo>
                      <a:pt x="381" y="19"/>
                    </a:lnTo>
                    <a:lnTo>
                      <a:pt x="292" y="0"/>
                    </a:lnTo>
                    <a:lnTo>
                      <a:pt x="254" y="3"/>
                    </a:lnTo>
                    <a:lnTo>
                      <a:pt x="191" y="19"/>
                    </a:lnTo>
                    <a:lnTo>
                      <a:pt x="17" y="19"/>
                    </a:lnTo>
                    <a:lnTo>
                      <a:pt x="9" y="27"/>
                    </a:lnTo>
                    <a:lnTo>
                      <a:pt x="5" y="37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6" y="89"/>
                    </a:lnTo>
                    <a:lnTo>
                      <a:pt x="16" y="106"/>
                    </a:lnTo>
                    <a:lnTo>
                      <a:pt x="27" y="117"/>
                    </a:lnTo>
                    <a:lnTo>
                      <a:pt x="40" y="128"/>
                    </a:lnTo>
                    <a:lnTo>
                      <a:pt x="53" y="135"/>
                    </a:lnTo>
                    <a:lnTo>
                      <a:pt x="70" y="143"/>
                    </a:lnTo>
                    <a:lnTo>
                      <a:pt x="90" y="148"/>
                    </a:lnTo>
                    <a:lnTo>
                      <a:pt x="124" y="157"/>
                    </a:lnTo>
                    <a:lnTo>
                      <a:pt x="158" y="163"/>
                    </a:lnTo>
                    <a:lnTo>
                      <a:pt x="204" y="169"/>
                    </a:lnTo>
                    <a:lnTo>
                      <a:pt x="252" y="175"/>
                    </a:lnTo>
                    <a:lnTo>
                      <a:pt x="324" y="164"/>
                    </a:lnTo>
                    <a:lnTo>
                      <a:pt x="388" y="176"/>
                    </a:lnTo>
                    <a:lnTo>
                      <a:pt x="446" y="193"/>
                    </a:lnTo>
                    <a:lnTo>
                      <a:pt x="496" y="232"/>
                    </a:lnTo>
                    <a:lnTo>
                      <a:pt x="527" y="276"/>
                    </a:lnTo>
                    <a:lnTo>
                      <a:pt x="559" y="325"/>
                    </a:lnTo>
                    <a:lnTo>
                      <a:pt x="575" y="366"/>
                    </a:lnTo>
                    <a:lnTo>
                      <a:pt x="584" y="416"/>
                    </a:lnTo>
                    <a:lnTo>
                      <a:pt x="583" y="473"/>
                    </a:lnTo>
                    <a:lnTo>
                      <a:pt x="583" y="545"/>
                    </a:lnTo>
                    <a:lnTo>
                      <a:pt x="577" y="618"/>
                    </a:lnTo>
                    <a:lnTo>
                      <a:pt x="541" y="716"/>
                    </a:lnTo>
                    <a:lnTo>
                      <a:pt x="495" y="771"/>
                    </a:lnTo>
                    <a:lnTo>
                      <a:pt x="468" y="798"/>
                    </a:lnTo>
                    <a:lnTo>
                      <a:pt x="446" y="828"/>
                    </a:lnTo>
                    <a:lnTo>
                      <a:pt x="414" y="864"/>
                    </a:lnTo>
                    <a:lnTo>
                      <a:pt x="389" y="890"/>
                    </a:lnTo>
                    <a:lnTo>
                      <a:pt x="347" y="908"/>
                    </a:lnTo>
                    <a:lnTo>
                      <a:pt x="312" y="930"/>
                    </a:lnTo>
                    <a:lnTo>
                      <a:pt x="280" y="955"/>
                    </a:lnTo>
                    <a:lnTo>
                      <a:pt x="250" y="978"/>
                    </a:lnTo>
                    <a:lnTo>
                      <a:pt x="164" y="1016"/>
                    </a:lnTo>
                    <a:lnTo>
                      <a:pt x="145" y="1026"/>
                    </a:lnTo>
                    <a:lnTo>
                      <a:pt x="124" y="1039"/>
                    </a:lnTo>
                    <a:lnTo>
                      <a:pt x="105" y="1052"/>
                    </a:lnTo>
                    <a:lnTo>
                      <a:pt x="87" y="1065"/>
                    </a:lnTo>
                    <a:lnTo>
                      <a:pt x="73" y="1079"/>
                    </a:lnTo>
                    <a:lnTo>
                      <a:pt x="62" y="1093"/>
                    </a:lnTo>
                    <a:lnTo>
                      <a:pt x="54" y="1109"/>
                    </a:lnTo>
                    <a:lnTo>
                      <a:pt x="48" y="1127"/>
                    </a:lnTo>
                    <a:lnTo>
                      <a:pt x="46" y="1145"/>
                    </a:lnTo>
                    <a:lnTo>
                      <a:pt x="48" y="1161"/>
                    </a:lnTo>
                    <a:lnTo>
                      <a:pt x="56" y="1178"/>
                    </a:lnTo>
                    <a:lnTo>
                      <a:pt x="67" y="1189"/>
                    </a:lnTo>
                    <a:lnTo>
                      <a:pt x="82" y="1198"/>
                    </a:lnTo>
                    <a:lnTo>
                      <a:pt x="101" y="1206"/>
                    </a:lnTo>
                    <a:lnTo>
                      <a:pt x="113" y="1204"/>
                    </a:lnTo>
                    <a:lnTo>
                      <a:pt x="154" y="1192"/>
                    </a:lnTo>
                    <a:lnTo>
                      <a:pt x="180" y="1186"/>
                    </a:lnTo>
                    <a:lnTo>
                      <a:pt x="252" y="1164"/>
                    </a:lnTo>
                    <a:lnTo>
                      <a:pt x="324" y="1144"/>
                    </a:lnTo>
                    <a:lnTo>
                      <a:pt x="420" y="1074"/>
                    </a:lnTo>
                    <a:lnTo>
                      <a:pt x="564" y="989"/>
                    </a:lnTo>
                    <a:lnTo>
                      <a:pt x="437" y="1161"/>
                    </a:lnTo>
                    <a:lnTo>
                      <a:pt x="359" y="1217"/>
                    </a:lnTo>
                    <a:lnTo>
                      <a:pt x="299" y="1262"/>
                    </a:lnTo>
                    <a:lnTo>
                      <a:pt x="284" y="1275"/>
                    </a:lnTo>
                    <a:lnTo>
                      <a:pt x="271" y="1288"/>
                    </a:lnTo>
                    <a:lnTo>
                      <a:pt x="262" y="1303"/>
                    </a:lnTo>
                    <a:lnTo>
                      <a:pt x="256" y="1316"/>
                    </a:lnTo>
                    <a:lnTo>
                      <a:pt x="254" y="1330"/>
                    </a:lnTo>
                    <a:lnTo>
                      <a:pt x="253" y="1344"/>
                    </a:lnTo>
                    <a:lnTo>
                      <a:pt x="256" y="1360"/>
                    </a:lnTo>
                    <a:lnTo>
                      <a:pt x="264" y="1372"/>
                    </a:lnTo>
                    <a:lnTo>
                      <a:pt x="275" y="1384"/>
                    </a:lnTo>
                    <a:lnTo>
                      <a:pt x="288" y="1394"/>
                    </a:lnTo>
                    <a:lnTo>
                      <a:pt x="303" y="1401"/>
                    </a:lnTo>
                    <a:lnTo>
                      <a:pt x="333" y="1387"/>
                    </a:lnTo>
                    <a:lnTo>
                      <a:pt x="393" y="1353"/>
                    </a:lnTo>
                    <a:lnTo>
                      <a:pt x="527" y="1278"/>
                    </a:lnTo>
                    <a:lnTo>
                      <a:pt x="717" y="1082"/>
                    </a:lnTo>
                    <a:lnTo>
                      <a:pt x="673" y="1201"/>
                    </a:lnTo>
                    <a:lnTo>
                      <a:pt x="634" y="1273"/>
                    </a:lnTo>
                    <a:lnTo>
                      <a:pt x="617" y="1306"/>
                    </a:lnTo>
                    <a:lnTo>
                      <a:pt x="606" y="1332"/>
                    </a:lnTo>
                    <a:lnTo>
                      <a:pt x="598" y="1353"/>
                    </a:lnTo>
                    <a:lnTo>
                      <a:pt x="594" y="1372"/>
                    </a:lnTo>
                    <a:lnTo>
                      <a:pt x="592" y="1385"/>
                    </a:lnTo>
                    <a:lnTo>
                      <a:pt x="593" y="1401"/>
                    </a:lnTo>
                    <a:lnTo>
                      <a:pt x="596" y="1415"/>
                    </a:lnTo>
                    <a:lnTo>
                      <a:pt x="606" y="1430"/>
                    </a:lnTo>
                    <a:lnTo>
                      <a:pt x="615" y="1436"/>
                    </a:lnTo>
                    <a:lnTo>
                      <a:pt x="628" y="1444"/>
                    </a:lnTo>
                    <a:lnTo>
                      <a:pt x="645" y="1447"/>
                    </a:lnTo>
                    <a:lnTo>
                      <a:pt x="662" y="1446"/>
                    </a:lnTo>
                    <a:lnTo>
                      <a:pt x="745" y="1312"/>
                    </a:lnTo>
                    <a:lnTo>
                      <a:pt x="840" y="1195"/>
                    </a:lnTo>
                    <a:lnTo>
                      <a:pt x="897" y="1043"/>
                    </a:lnTo>
                    <a:lnTo>
                      <a:pt x="958" y="847"/>
                    </a:lnTo>
                    <a:lnTo>
                      <a:pt x="1013" y="758"/>
                    </a:lnTo>
                    <a:lnTo>
                      <a:pt x="1050" y="700"/>
                    </a:lnTo>
                    <a:lnTo>
                      <a:pt x="1095" y="639"/>
                    </a:lnTo>
                    <a:lnTo>
                      <a:pt x="1137" y="590"/>
                    </a:lnTo>
                    <a:lnTo>
                      <a:pt x="1195" y="527"/>
                    </a:lnTo>
                    <a:lnTo>
                      <a:pt x="1271" y="473"/>
                    </a:lnTo>
                    <a:lnTo>
                      <a:pt x="1321" y="428"/>
                    </a:lnTo>
                    <a:lnTo>
                      <a:pt x="1326" y="260"/>
                    </a:lnTo>
                    <a:lnTo>
                      <a:pt x="1298" y="69"/>
                    </a:lnTo>
                    <a:lnTo>
                      <a:pt x="1187" y="14"/>
                    </a:lnTo>
                    <a:lnTo>
                      <a:pt x="1126" y="8"/>
                    </a:lnTo>
                    <a:close/>
                  </a:path>
                </a:pathLst>
              </a:custGeom>
              <a:solidFill>
                <a:srgbClr val="ff9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7"/>
              <p:cNvSpPr/>
              <p:nvPr/>
            </p:nvSpPr>
            <p:spPr>
              <a:xfrm>
                <a:off x="7628400" y="697320"/>
                <a:ext cx="492480" cy="703800"/>
              </a:xfrm>
              <a:custGeom>
                <a:avLst/>
                <a:gdLst>
                  <a:gd name="textAreaLeft" fmla="*/ 0 w 492480"/>
                  <a:gd name="textAreaRight" fmla="*/ 492840 w 492480"/>
                  <a:gd name="textAreaTop" fmla="*/ 0 h 703800"/>
                  <a:gd name="textAreaBottom" fmla="*/ 704160 h 703800"/>
                </a:gdLst>
                <a:ahLst/>
                <a:rect l="textAreaLeft" t="textAreaTop" r="textAreaRight" b="textAreaBottom"/>
                <a:pathLst>
                  <a:path w="440" h="605">
                    <a:moveTo>
                      <a:pt x="92" y="291"/>
                    </a:moveTo>
                    <a:lnTo>
                      <a:pt x="35" y="397"/>
                    </a:lnTo>
                    <a:lnTo>
                      <a:pt x="20" y="428"/>
                    </a:lnTo>
                    <a:lnTo>
                      <a:pt x="6" y="465"/>
                    </a:lnTo>
                    <a:lnTo>
                      <a:pt x="1" y="495"/>
                    </a:lnTo>
                    <a:lnTo>
                      <a:pt x="0" y="524"/>
                    </a:lnTo>
                    <a:lnTo>
                      <a:pt x="1" y="554"/>
                    </a:lnTo>
                    <a:lnTo>
                      <a:pt x="5" y="577"/>
                    </a:lnTo>
                    <a:lnTo>
                      <a:pt x="14" y="595"/>
                    </a:lnTo>
                    <a:lnTo>
                      <a:pt x="30" y="605"/>
                    </a:lnTo>
                    <a:lnTo>
                      <a:pt x="54" y="604"/>
                    </a:lnTo>
                    <a:lnTo>
                      <a:pt x="80" y="578"/>
                    </a:lnTo>
                    <a:lnTo>
                      <a:pt x="171" y="464"/>
                    </a:lnTo>
                    <a:lnTo>
                      <a:pt x="266" y="347"/>
                    </a:lnTo>
                    <a:lnTo>
                      <a:pt x="294" y="223"/>
                    </a:lnTo>
                    <a:lnTo>
                      <a:pt x="377" y="118"/>
                    </a:lnTo>
                    <a:lnTo>
                      <a:pt x="428" y="57"/>
                    </a:lnTo>
                    <a:lnTo>
                      <a:pt x="4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8"/>
              <p:cNvSpPr/>
              <p:nvPr/>
            </p:nvSpPr>
            <p:spPr>
              <a:xfrm>
                <a:off x="7745040" y="888840"/>
                <a:ext cx="420120" cy="48312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375" h="411">
                    <a:moveTo>
                      <a:pt x="375" y="0"/>
                    </a:moveTo>
                    <a:lnTo>
                      <a:pt x="355" y="25"/>
                    </a:lnTo>
                    <a:lnTo>
                      <a:pt x="338" y="51"/>
                    </a:lnTo>
                    <a:lnTo>
                      <a:pt x="325" y="80"/>
                    </a:lnTo>
                    <a:lnTo>
                      <a:pt x="311" y="123"/>
                    </a:lnTo>
                    <a:lnTo>
                      <a:pt x="185" y="238"/>
                    </a:lnTo>
                    <a:lnTo>
                      <a:pt x="133" y="285"/>
                    </a:lnTo>
                    <a:lnTo>
                      <a:pt x="0" y="4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9"/>
              <p:cNvSpPr/>
              <p:nvPr/>
            </p:nvSpPr>
            <p:spPr>
              <a:xfrm>
                <a:off x="7918920" y="976320"/>
                <a:ext cx="268920" cy="49500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40" h="429">
                    <a:moveTo>
                      <a:pt x="0" y="429"/>
                    </a:moveTo>
                    <a:lnTo>
                      <a:pt x="66" y="318"/>
                    </a:lnTo>
                    <a:lnTo>
                      <a:pt x="118" y="224"/>
                    </a:lnTo>
                    <a:lnTo>
                      <a:pt x="162" y="145"/>
                    </a:lnTo>
                    <a:lnTo>
                      <a:pt x="207" y="100"/>
                    </a:lnTo>
                    <a:lnTo>
                      <a:pt x="218" y="60"/>
                    </a:lnTo>
                    <a:lnTo>
                      <a:pt x="227" y="33"/>
                    </a:lnTo>
                    <a:lnTo>
                      <a:pt x="2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0"/>
              <p:cNvSpPr/>
              <p:nvPr/>
            </p:nvSpPr>
            <p:spPr>
              <a:xfrm>
                <a:off x="7145640" y="243360"/>
                <a:ext cx="129240" cy="4068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17" h="35">
                    <a:moveTo>
                      <a:pt x="0" y="0"/>
                    </a:moveTo>
                    <a:lnTo>
                      <a:pt x="2" y="12"/>
                    </a:lnTo>
                    <a:lnTo>
                      <a:pt x="5" y="17"/>
                    </a:lnTo>
                    <a:lnTo>
                      <a:pt x="11" y="25"/>
                    </a:lnTo>
                    <a:lnTo>
                      <a:pt x="17" y="28"/>
                    </a:lnTo>
                    <a:lnTo>
                      <a:pt x="27" y="33"/>
                    </a:lnTo>
                    <a:lnTo>
                      <a:pt x="40" y="35"/>
                    </a:lnTo>
                    <a:lnTo>
                      <a:pt x="58" y="35"/>
                    </a:lnTo>
                    <a:lnTo>
                      <a:pt x="91" y="35"/>
                    </a:lnTo>
                    <a:lnTo>
                      <a:pt x="98" y="34"/>
                    </a:lnTo>
                    <a:lnTo>
                      <a:pt x="108" y="30"/>
                    </a:lnTo>
                    <a:lnTo>
                      <a:pt x="116" y="27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1"/>
              <p:cNvSpPr/>
              <p:nvPr/>
            </p:nvSpPr>
            <p:spPr>
              <a:xfrm>
                <a:off x="7459200" y="1483200"/>
                <a:ext cx="11160" cy="644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3" h="55">
                    <a:moveTo>
                      <a:pt x="13" y="55"/>
                    </a:moveTo>
                    <a:lnTo>
                      <a:pt x="13" y="36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2"/>
              <p:cNvSpPr/>
              <p:nvPr/>
            </p:nvSpPr>
            <p:spPr>
              <a:xfrm>
                <a:off x="7201440" y="1529640"/>
                <a:ext cx="140760" cy="936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24" h="82">
                    <a:moveTo>
                      <a:pt x="24" y="78"/>
                    </a:moveTo>
                    <a:lnTo>
                      <a:pt x="13" y="67"/>
                    </a:lnTo>
                    <a:lnTo>
                      <a:pt x="5" y="54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10" y="24"/>
                    </a:lnTo>
                    <a:lnTo>
                      <a:pt x="22" y="17"/>
                    </a:lnTo>
                    <a:lnTo>
                      <a:pt x="35" y="9"/>
                    </a:lnTo>
                    <a:lnTo>
                      <a:pt x="52" y="2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3" y="2"/>
                    </a:lnTo>
                    <a:lnTo>
                      <a:pt x="109" y="16"/>
                    </a:lnTo>
                    <a:lnTo>
                      <a:pt x="116" y="28"/>
                    </a:lnTo>
                    <a:lnTo>
                      <a:pt x="121" y="43"/>
                    </a:lnTo>
                    <a:lnTo>
                      <a:pt x="124" y="56"/>
                    </a:lnTo>
                    <a:lnTo>
                      <a:pt x="82" y="69"/>
                    </a:lnTo>
                    <a:lnTo>
                      <a:pt x="32" y="82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"/>
              <p:cNvSpPr/>
              <p:nvPr/>
            </p:nvSpPr>
            <p:spPr>
              <a:xfrm>
                <a:off x="7443000" y="1744920"/>
                <a:ext cx="111600" cy="99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9" h="86">
                    <a:moveTo>
                      <a:pt x="10" y="86"/>
                    </a:moveTo>
                    <a:lnTo>
                      <a:pt x="3" y="75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3" y="50"/>
                    </a:lnTo>
                    <a:lnTo>
                      <a:pt x="10" y="39"/>
                    </a:lnTo>
                    <a:lnTo>
                      <a:pt x="27" y="22"/>
                    </a:lnTo>
                    <a:lnTo>
                      <a:pt x="46" y="11"/>
                    </a:lnTo>
                    <a:lnTo>
                      <a:pt x="58" y="5"/>
                    </a:lnTo>
                    <a:lnTo>
                      <a:pt x="67" y="0"/>
                    </a:lnTo>
                    <a:lnTo>
                      <a:pt x="77" y="5"/>
                    </a:lnTo>
                    <a:lnTo>
                      <a:pt x="86" y="16"/>
                    </a:lnTo>
                    <a:lnTo>
                      <a:pt x="94" y="27"/>
                    </a:lnTo>
                    <a:lnTo>
                      <a:pt x="99" y="42"/>
                    </a:lnTo>
                    <a:lnTo>
                      <a:pt x="55" y="67"/>
                    </a:lnTo>
                    <a:lnTo>
                      <a:pt x="10" y="86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4"/>
              <p:cNvSpPr/>
              <p:nvPr/>
            </p:nvSpPr>
            <p:spPr>
              <a:xfrm>
                <a:off x="7823880" y="1804320"/>
                <a:ext cx="78480" cy="921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71" y="16"/>
                    </a:moveTo>
                    <a:lnTo>
                      <a:pt x="61" y="8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4" y="23"/>
                    </a:lnTo>
                    <a:lnTo>
                      <a:pt x="5" y="4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8" y="71"/>
                    </a:lnTo>
                    <a:lnTo>
                      <a:pt x="14" y="76"/>
                    </a:lnTo>
                    <a:lnTo>
                      <a:pt x="29" y="80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5"/>
              <p:cNvSpPr/>
              <p:nvPr/>
            </p:nvSpPr>
            <p:spPr>
              <a:xfrm>
                <a:off x="7656120" y="127980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89" h="101">
                    <a:moveTo>
                      <a:pt x="16" y="7"/>
                    </a:moveTo>
                    <a:lnTo>
                      <a:pt x="7" y="29"/>
                    </a:lnTo>
                    <a:lnTo>
                      <a:pt x="2" y="50"/>
                    </a:lnTo>
                    <a:lnTo>
                      <a:pt x="0" y="73"/>
                    </a:lnTo>
                    <a:lnTo>
                      <a:pt x="2" y="83"/>
                    </a:lnTo>
                    <a:lnTo>
                      <a:pt x="13" y="94"/>
                    </a:lnTo>
                    <a:lnTo>
                      <a:pt x="24" y="100"/>
                    </a:lnTo>
                    <a:lnTo>
                      <a:pt x="30" y="101"/>
                    </a:lnTo>
                    <a:lnTo>
                      <a:pt x="59" y="76"/>
                    </a:lnTo>
                    <a:lnTo>
                      <a:pt x="89" y="37"/>
                    </a:lnTo>
                    <a:lnTo>
                      <a:pt x="80" y="20"/>
                    </a:lnTo>
                    <a:lnTo>
                      <a:pt x="71" y="15"/>
                    </a:lnTo>
                    <a:lnTo>
                      <a:pt x="59" y="7"/>
                    </a:lnTo>
                    <a:lnTo>
                      <a:pt x="43" y="1"/>
                    </a:lnTo>
                    <a:lnTo>
                      <a:pt x="30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>
                <a:off x="7779240" y="1163520"/>
                <a:ext cx="55800" cy="396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3" h="36">
                    <a:moveTo>
                      <a:pt x="53" y="36"/>
                    </a:moveTo>
                    <a:lnTo>
                      <a:pt x="42" y="23"/>
                    </a:lnTo>
                    <a:lnTo>
                      <a:pt x="27" y="12"/>
                    </a:lnTo>
                    <a:lnTo>
                      <a:pt x="14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7"/>
              <p:cNvSpPr/>
              <p:nvPr/>
            </p:nvSpPr>
            <p:spPr>
              <a:xfrm>
                <a:off x="7868160" y="1040760"/>
                <a:ext cx="55800" cy="46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2" h="36">
                    <a:moveTo>
                      <a:pt x="52" y="36"/>
                    </a:moveTo>
                    <a:lnTo>
                      <a:pt x="39" y="21"/>
                    </a:lnTo>
                    <a:lnTo>
                      <a:pt x="25" y="10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7896240" y="1028880"/>
                <a:ext cx="34200" cy="46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29" y="40"/>
                    </a:moveTo>
                    <a:lnTo>
                      <a:pt x="18" y="21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8332920" y="552240"/>
                <a:ext cx="111600" cy="9216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00" h="79">
                    <a:moveTo>
                      <a:pt x="0" y="79"/>
                    </a:moveTo>
                    <a:lnTo>
                      <a:pt x="50" y="23"/>
                    </a:lnTo>
                    <a:lnTo>
                      <a:pt x="10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7923960" y="1693440"/>
                <a:ext cx="34200" cy="288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1" h="25">
                    <a:moveTo>
                      <a:pt x="31" y="25"/>
                    </a:move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7868160" y="1419840"/>
                <a:ext cx="50760" cy="460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42" y="40"/>
                    </a:moveTo>
                    <a:lnTo>
                      <a:pt x="29" y="23"/>
                    </a:lnTo>
                    <a:lnTo>
                      <a:pt x="12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7661160" y="1664280"/>
                <a:ext cx="34200" cy="406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31" y="36"/>
                    </a:moveTo>
                    <a:lnTo>
                      <a:pt x="17" y="1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WordArt 43"/>
          <p:cNvSpPr txBox="1"/>
          <p:nvPr/>
        </p:nvSpPr>
        <p:spPr>
          <a:xfrm>
            <a:off x="1608120" y="484200"/>
            <a:ext cx="571032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ccf3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LilyUPC"/>
              </a:rPr>
              <a:t>การนิเทศ ติดตาม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5eccf3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LilyUPC"/>
              <a:ea typeface="LilyUPC"/>
            </a:endParaRPr>
          </a:p>
        </p:txBody>
      </p:sp>
      <p:sp>
        <p:nvSpPr>
          <p:cNvPr id="414" name="Text Box 44"/>
          <p:cNvSpPr/>
          <p:nvPr/>
        </p:nvSpPr>
        <p:spPr>
          <a:xfrm>
            <a:off x="398520" y="3068640"/>
            <a:ext cx="8351640" cy="3385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. 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ท่านจะได้ทราบรายละเอียดของแบบ </a:t>
            </a:r>
            <a:br>
              <a:rPr sz="5400"/>
            </a:b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ติดตาม ประเมิน 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/ </a:t>
            </a:r>
            <a:r>
              <a:rPr b="1" lang="th-TH" sz="5400" spc="-1" strike="noStrike">
                <a:solidFill>
                  <a:srgbClr val="ffff00"/>
                </a:solidFill>
                <a:latin typeface="Browallia New"/>
                <a:cs typeface="Browallia New"/>
              </a:rPr>
              <a:t>บ่ายนี้มีคำตอ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4"/>
          <p:cNvSpPr/>
          <p:nvPr/>
        </p:nvSpPr>
        <p:spPr>
          <a:xfrm>
            <a:off x="398520" y="4941720"/>
            <a:ext cx="8351640" cy="33858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. 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ลงข้อมูล ภาพรวมของเขตฯ ส่งสพฐ</a:t>
            </a: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. </a:t>
            </a:r>
            <a:br>
              <a:rPr sz="5400"/>
            </a:br>
            <a:r>
              <a:rPr b="1" lang="th-TH" sz="5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</a:t>
            </a:r>
            <a:r>
              <a:rPr b="1" lang="th-TH" sz="5400" spc="-1" strike="noStrike">
                <a:solidFill>
                  <a:srgbClr val="ffcccc"/>
                </a:solidFill>
                <a:latin typeface="Browallia New"/>
                <a:cs typeface="Browallia New"/>
              </a:rPr>
              <a:t>ทั้ง </a:t>
            </a:r>
            <a:r>
              <a:rPr b="1" lang="en-US" sz="5400" spc="-1" strike="noStrike">
                <a:solidFill>
                  <a:srgbClr val="ffcccc"/>
                </a:solidFill>
                <a:latin typeface="Browallia New"/>
                <a:ea typeface="Browallia New"/>
              </a:rPr>
              <a:t>file</a:t>
            </a:r>
            <a:r>
              <a:rPr b="1" lang="th-TH" sz="5400" spc="-1" strike="noStrike">
                <a:solidFill>
                  <a:srgbClr val="ffcccc"/>
                </a:solidFill>
                <a:latin typeface="Browallia New"/>
                <a:ea typeface="Browallia New"/>
              </a:rPr>
              <a:t> </a:t>
            </a:r>
            <a:r>
              <a:rPr b="1" lang="th-TH" sz="5400" spc="-1" strike="noStrike">
                <a:solidFill>
                  <a:srgbClr val="ffcccc"/>
                </a:solidFill>
                <a:latin typeface="Browallia New"/>
                <a:cs typeface="Browallia New"/>
              </a:rPr>
              <a:t>ข้อมูล</a:t>
            </a:r>
            <a:r>
              <a:rPr b="1" lang="en-US" sz="5400" spc="-1" strike="noStrike">
                <a:solidFill>
                  <a:srgbClr val="ffcccc"/>
                </a:solidFill>
                <a:latin typeface="Browallia New"/>
                <a:ea typeface="Browallia New"/>
              </a:rPr>
              <a:t>  </a:t>
            </a:r>
            <a:r>
              <a:rPr b="1" lang="th-TH" sz="5400" spc="-1" strike="noStrike">
                <a:solidFill>
                  <a:srgbClr val="ffcccc"/>
                </a:solidFill>
                <a:latin typeface="Browallia New"/>
                <a:cs typeface="Browallia New"/>
              </a:rPr>
              <a:t>และรายงานโครงกา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08720" cy="466596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txBody>
          <a:bodyPr anchor="t">
            <a:normAutofit fontScale="80000"/>
          </a:bodyPr>
          <a:p>
            <a:pPr marL="182880" indent="0">
              <a:spcBef>
                <a:spcPts val="16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600" spc="-1" strike="noStrike">
                <a:solidFill>
                  <a:srgbClr val="ffff00"/>
                </a:solidFill>
                <a:latin typeface="Trebuchet MS"/>
                <a:ea typeface="KodchiangUPC"/>
              </a:rPr>
              <a:t>  </a:t>
            </a:r>
            <a:r>
              <a:rPr b="1" lang="th-TH" sz="8000" spc="-1" strike="noStrike">
                <a:solidFill>
                  <a:srgbClr val="ffffff"/>
                </a:solidFill>
                <a:latin typeface="Trebuchet MS"/>
                <a:cs typeface="KodchiangUPC"/>
              </a:rPr>
              <a:t>ปฏิทินการติดตามผล</a:t>
            </a:r>
            <a:br>
              <a:rPr sz="8000"/>
            </a:br>
            <a:r>
              <a:rPr b="1" lang="th-TH" sz="6600" spc="-1" strike="noStrike">
                <a:solidFill>
                  <a:srgbClr val="ffc000"/>
                </a:solidFill>
                <a:latin typeface="Trebuchet MS"/>
                <a:cs typeface="KodchiangUPC"/>
              </a:rPr>
              <a:t>การดำเนินงาน ตามโครงการ</a:t>
            </a:r>
            <a:br>
              <a:rPr sz="6600"/>
            </a:br>
            <a:r>
              <a:rPr b="1" lang="th-TH" sz="6600" spc="-1" strike="noStrike">
                <a:solidFill>
                  <a:srgbClr val="ffc000"/>
                </a:solidFill>
                <a:latin typeface="Trebuchet MS"/>
                <a:cs typeface="KodchiangUPC"/>
              </a:rPr>
              <a:t>พัฒนาคุณภาพการจัดการศึกษา </a:t>
            </a:r>
            <a:br>
              <a:rPr sz="6600"/>
            </a:br>
            <a:r>
              <a:rPr b="1" lang="th-TH" sz="6600" spc="-1" strike="noStrike">
                <a:solidFill>
                  <a:srgbClr val="ffc000"/>
                </a:solidFill>
                <a:latin typeface="Trebuchet MS"/>
                <a:cs typeface="KodchiangUPC"/>
              </a:rPr>
              <a:t>เรียนร่วมและเรียนรวม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17" name="Picture 6" descr="M3624426-19"/>
          <p:cNvPicPr/>
          <p:nvPr/>
        </p:nvPicPr>
        <p:blipFill>
          <a:blip r:embed="rId1"/>
          <a:stretch/>
        </p:blipFill>
        <p:spPr>
          <a:xfrm>
            <a:off x="7164360" y="4149720"/>
            <a:ext cx="1581120" cy="2505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50920" y="333360"/>
          <a:ext cx="8497800" cy="5711760"/>
        </p:xfrm>
        <a:graphic>
          <a:graphicData uri="http://schemas.openxmlformats.org/drawingml/2006/table">
            <a:tbl>
              <a:tblPr/>
              <a:tblGrid>
                <a:gridCol w="707760"/>
                <a:gridCol w="3542040"/>
                <a:gridCol w="2124000"/>
                <a:gridCol w="21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ที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ายการ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ยะเวล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ผู้รับผิดชอ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204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ประชุมวางแผนการขับเคลื่อนและสร้างความเข้าใจการใช้เครื่องมือ ประเมิน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มิถุนายน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ศศ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ฐ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วางแผนการนิเทศ ติดตาม และประเมินผลการดำเนินงา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 – 10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มิถุนายน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ป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ม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การศึกษาพิเศ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250920" y="333360"/>
          <a:ext cx="8497800" cy="5711760"/>
        </p:xfrm>
        <a:graphic>
          <a:graphicData uri="http://schemas.openxmlformats.org/drawingml/2006/table">
            <a:tbl>
              <a:tblPr/>
              <a:tblGrid>
                <a:gridCol w="707760"/>
                <a:gridCol w="3542040"/>
                <a:gridCol w="2124000"/>
                <a:gridCol w="21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ที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ายการ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ยะเวล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ผู้รับผิดชอ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นิเทศ ติดตามประเมิน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คุณภาพและผล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ดำเนินงานโครงการ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0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มิถุนายน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-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31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รกฎาคม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ป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ม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การศึกษาพิเศ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รวบรวมข้อมูล สรุปผล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นิเทศ ติดตาม ประเมิน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ผลการดำเนินงาน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 – 15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ิงหาคม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ป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ม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การศึกษาพิเศ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250920" y="549360"/>
          <a:ext cx="8497800" cy="5851440"/>
        </p:xfrm>
        <a:graphic>
          <a:graphicData uri="http://schemas.openxmlformats.org/drawingml/2006/table">
            <a:tbl>
              <a:tblPr/>
              <a:tblGrid>
                <a:gridCol w="707760"/>
                <a:gridCol w="3542040"/>
                <a:gridCol w="2124000"/>
                <a:gridCol w="21240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ที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ายการ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กิจกรร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ระยะเวล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Browallia New"/>
                          <a:cs typeface="Browallia New"/>
                        </a:rPr>
                        <a:t>ผู้รับผิดชอ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8c3d91"/>
                        </a:gs>
                      </a:gsLst>
                      <a:lin ang="5400000"/>
                    </a:gra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c00000"/>
                          </a:solidFill>
                          <a:latin typeface="Browallia New"/>
                          <a:cs typeface="Browallia New"/>
                        </a:rPr>
                        <a:t>จัดส่งข้อมูล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และ </a:t>
                      </a:r>
                      <a:r>
                        <a:rPr b="1" lang="th-TH" sz="3200" spc="-1" strike="noStrike">
                          <a:solidFill>
                            <a:srgbClr val="0000ff"/>
                          </a:solidFill>
                          <a:latin typeface="Browallia New"/>
                          <a:cs typeface="Browallia New"/>
                        </a:rPr>
                        <a:t>รายงานการใช้งบประมาณ  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ไปยัง  สศศ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ฐ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ภายใน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5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ิงหาคม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ป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ม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การศึกษาพิเศ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วิเคราะห์ และสรุปผล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ารดำเนินงาน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5 – 31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ิงหาคม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ศศ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ฐ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01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จัดทำ</a:t>
                      </a:r>
                      <a:r>
                        <a:rPr b="1" lang="th-TH" sz="3200" spc="-1" strike="noStrike">
                          <a:solidFill>
                            <a:srgbClr val="0000ff"/>
                          </a:solidFill>
                          <a:latin typeface="Browallia New"/>
                          <a:cs typeface="Browallia New"/>
                        </a:rPr>
                        <a:t>รายงาน 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ff"/>
                          </a:solidFill>
                          <a:latin typeface="Browallia New"/>
                          <a:cs typeface="Browallia New"/>
                        </a:rPr>
                        <a:t>ผลการดำเนินงาน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โครงการฯ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ไปยัง สศศ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ฐ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1 – 5 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กันยายน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25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ป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สพม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.</a:t>
                      </a:r>
                      <a:br>
                        <a:rPr sz="3200"/>
                      </a:b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ea typeface="Browallia New"/>
                        </a:rPr>
                        <a:t>/</a:t>
                      </a: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Browallia New"/>
                          <a:cs typeface="Browallia New"/>
                        </a:rPr>
                        <a:t>ศูนย์การศึกษาพิเศ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pse1_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68580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3000" spc="-1" strike="noStrike">
                <a:solidFill>
                  <a:srgbClr val="ffff00"/>
                </a:solidFill>
                <a:latin typeface="Tahoma"/>
                <a:cs typeface="Tahoma"/>
              </a:rPr>
              <a:t>สวัสดีค่ะ</a:t>
            </a:r>
            <a:endParaRPr b="1" lang="en-US" sz="1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3" name="Picture 4" descr="bird_animation001a"/>
          <p:cNvPicPr/>
          <p:nvPr/>
        </p:nvPicPr>
        <p:blipFill>
          <a:blip r:embed="rId2"/>
          <a:stretch/>
        </p:blipFill>
        <p:spPr>
          <a:xfrm>
            <a:off x="7429680" y="2571840"/>
            <a:ext cx="1295280" cy="112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6"/>
          <p:cNvSpPr/>
          <p:nvPr/>
        </p:nvSpPr>
        <p:spPr>
          <a:xfrm>
            <a:off x="500040" y="3000240"/>
            <a:ext cx="798984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c00000"/>
                </a:solidFill>
                <a:latin typeface="Trebuchet MS"/>
                <a:ea typeface="IrisUPC"/>
              </a:rPr>
              <a:t>1  </a:t>
            </a:r>
            <a:r>
              <a:rPr b="1" lang="th-TH" sz="8000" spc="-1" strike="noStrike">
                <a:solidFill>
                  <a:srgbClr val="c00000"/>
                </a:solidFill>
                <a:latin typeface="Trebuchet MS"/>
                <a:cs typeface="IrisUPC"/>
              </a:rPr>
              <a:t>ตุลาคม </a:t>
            </a:r>
            <a:r>
              <a:rPr b="1" lang="th-TH" sz="8000" spc="-1" strike="noStrike">
                <a:solidFill>
                  <a:srgbClr val="c00000"/>
                </a:solidFill>
                <a:latin typeface="Trebuchet MS"/>
                <a:ea typeface="IrisUPC"/>
              </a:rPr>
              <a:t>255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c00000"/>
                </a:solidFill>
                <a:latin typeface="Trebuchet MS"/>
                <a:cs typeface="IrisUPC"/>
              </a:rPr>
              <a:t>ถึง </a:t>
            </a:r>
            <a:r>
              <a:rPr b="1" lang="th-TH" sz="8000" spc="-1" strike="noStrike">
                <a:solidFill>
                  <a:srgbClr val="c00000"/>
                </a:solidFill>
                <a:latin typeface="Trebuchet MS"/>
                <a:ea typeface="IrisUPC"/>
              </a:rPr>
              <a:t>30  </a:t>
            </a:r>
            <a:r>
              <a:rPr b="1" lang="th-TH" sz="8000" spc="-1" strike="noStrike">
                <a:solidFill>
                  <a:srgbClr val="c00000"/>
                </a:solidFill>
                <a:latin typeface="Trebuchet MS"/>
                <a:cs typeface="IrisUPC"/>
              </a:rPr>
              <a:t>กันยายน </a:t>
            </a:r>
            <a:r>
              <a:rPr b="1" lang="th-TH" sz="8000" spc="-1" strike="noStrike">
                <a:solidFill>
                  <a:srgbClr val="c00000"/>
                </a:solidFill>
                <a:latin typeface="Trebuchet MS"/>
                <a:ea typeface="IrisUPC"/>
              </a:rPr>
              <a:t>255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023840" y="281160"/>
            <a:ext cx="3279960" cy="438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 flipH="1" rot="20753400">
            <a:off x="533160" y="168120"/>
            <a:ext cx="1947600" cy="461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250920" y="115920"/>
            <a:ext cx="8675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600" spc="-1" strike="noStrike">
                <a:solidFill>
                  <a:srgbClr val="000000"/>
                </a:solidFill>
                <a:latin typeface="Trebuchet MS"/>
                <a:ea typeface="IrisUPC"/>
              </a:rPr>
              <a:t>         </a:t>
            </a:r>
            <a:r>
              <a:rPr b="1" lang="th-TH" sz="8000" spc="-1" strike="noStrike">
                <a:solidFill>
                  <a:srgbClr val="0000ff"/>
                </a:solidFill>
                <a:latin typeface="Trebuchet MS"/>
                <a:cs typeface="IrisUPC"/>
              </a:rPr>
              <a:t>วัตถุประสงค์</a:t>
            </a:r>
            <a:br>
              <a:rPr sz="9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1. 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พื่อเพิ่มโอกาสทางการศึกษา และ ขจัดการเลือกปฏิบัติ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2. 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พื่อสร้างความเข้มแข็งให้โรงเรียนเรียนร่วม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/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รียนรวม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3. 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พื่อพัฒนาโรงเรียนสู่มาตรฐาน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tle 1"/>
          <p:cNvSpPr/>
          <p:nvPr/>
        </p:nvSpPr>
        <p:spPr>
          <a:xfrm>
            <a:off x="250920" y="115920"/>
            <a:ext cx="8675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600" spc="-1" strike="noStrike">
                <a:solidFill>
                  <a:srgbClr val="000000"/>
                </a:solidFill>
                <a:latin typeface="Trebuchet MS"/>
                <a:ea typeface="IrisUPC"/>
              </a:rPr>
              <a:t>         </a:t>
            </a:r>
            <a:r>
              <a:rPr b="1" lang="th-TH" sz="8000" spc="-1" strike="noStrike">
                <a:solidFill>
                  <a:srgbClr val="0000ff"/>
                </a:solidFill>
                <a:latin typeface="Trebuchet MS"/>
                <a:cs typeface="IrisUPC"/>
              </a:rPr>
              <a:t>วัตถุประสงค์</a:t>
            </a:r>
            <a:r>
              <a:rPr b="1" lang="th-TH" sz="8000" spc="-1" strike="noStrike">
                <a:solidFill>
                  <a:srgbClr val="0000ff"/>
                </a:solidFill>
                <a:latin typeface="Trebuchet MS"/>
                <a:ea typeface="IrisUPC"/>
              </a:rPr>
              <a:t>(</a:t>
            </a:r>
            <a:r>
              <a:rPr b="1" lang="th-TH" sz="8000" spc="-1" strike="noStrike">
                <a:solidFill>
                  <a:srgbClr val="0000ff"/>
                </a:solidFill>
                <a:latin typeface="Trebuchet MS"/>
                <a:cs typeface="IrisUPC"/>
              </a:rPr>
              <a:t>ต่อ</a:t>
            </a:r>
            <a:r>
              <a:rPr b="1" lang="th-TH" sz="8000" spc="-1" strike="noStrike">
                <a:solidFill>
                  <a:srgbClr val="0000ff"/>
                </a:solidFill>
                <a:latin typeface="Trebuchet MS"/>
                <a:ea typeface="IrisUPC"/>
              </a:rPr>
              <a:t>)</a:t>
            </a:r>
            <a:br>
              <a:rPr sz="9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4. 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พื่อให้ครูและบุคลากรได้รับ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ความรู้ และทักษะในการพัฒนาเด็ก</a:t>
            </a:r>
            <a:br>
              <a:rPr sz="6600"/>
            </a:br>
            <a:r>
              <a:rPr b="1" lang="th-TH" sz="6600" spc="-1" strike="noStrike">
                <a:solidFill>
                  <a:srgbClr val="000000"/>
                </a:solidFill>
                <a:latin typeface="Trebuchet MS"/>
                <a:ea typeface="IrisUPC"/>
              </a:rPr>
              <a:t>5. 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เพื่อส่งเสริมการทำงานร่วมกันของทุกภาคส่วน อย่างมีเครือข่า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50920" y="0"/>
            <a:ext cx="8713800" cy="2286000"/>
          </a:xfrm>
          <a:prstGeom prst="ellipse">
            <a:avLst/>
          </a:prstGeom>
          <a:gradFill rotWithShape="0">
            <a:gsLst>
              <a:gs pos="0">
                <a:srgbClr val="4e67c8"/>
              </a:gs>
              <a:gs pos="50000">
                <a:srgbClr val="ffffff"/>
              </a:gs>
              <a:gs pos="100000">
                <a:srgbClr val="4e67c8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-743400"/>
            <a:ext cx="6357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cc6600"/>
                </a:solidFill>
                <a:latin typeface="FreesiaUPC"/>
                <a:cs typeface="FreesiaUPC"/>
              </a:rPr>
              <a:t>กิจกรรมที่</a:t>
            </a:r>
            <a:br>
              <a:rPr sz="8000"/>
            </a:br>
            <a:r>
              <a:rPr b="1" lang="th-TH" sz="8000" spc="-1" strike="noStrike">
                <a:solidFill>
                  <a:srgbClr val="cc6600"/>
                </a:solidFill>
                <a:latin typeface="FreesiaUPC"/>
                <a:cs typeface="FreesiaUPC"/>
              </a:rPr>
              <a:t>เขตพื้นที่ดำเนินกา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639720" y="2084400"/>
            <a:ext cx="7786800" cy="4665960"/>
          </a:xfrm>
          <a:prstGeom prst="rect">
            <a:avLst/>
          </a:prstGeom>
          <a:solidFill>
            <a:srgbClr val="ffe6d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IrisUPC"/>
                <a:ea typeface="IrisUPC"/>
              </a:rPr>
              <a:t>1.</a:t>
            </a:r>
            <a:r>
              <a:rPr b="1" lang="th-TH" sz="6000" spc="-1" strike="noStrike">
                <a:solidFill>
                  <a:srgbClr val="000000"/>
                </a:solidFill>
                <a:latin typeface="IrisUPC"/>
                <a:cs typeface="IrisUPC"/>
              </a:rPr>
              <a:t>บริหารจัดการและสร้างความเข้มแข็ง ในการจัดการศึกษา</a:t>
            </a:r>
            <a:br>
              <a:rPr sz="6000"/>
            </a:br>
            <a:r>
              <a:rPr b="1" lang="th-TH" sz="6000" spc="-1" strike="noStrike">
                <a:solidFill>
                  <a:srgbClr val="000000"/>
                </a:solidFill>
                <a:latin typeface="IrisUPC"/>
                <a:cs typeface="IrisUPC"/>
              </a:rPr>
              <a:t>สำหรับเด็กพิการ </a:t>
            </a:r>
            <a:br>
              <a:rPr sz="6000"/>
            </a:br>
            <a:r>
              <a:rPr b="1" lang="th-TH" sz="6000" spc="-1" strike="noStrike">
                <a:solidFill>
                  <a:srgbClr val="000000"/>
                </a:solidFill>
                <a:latin typeface="IrisUPC"/>
                <a:ea typeface="IrisUPC"/>
              </a:rPr>
              <a:t> </a:t>
            </a:r>
            <a:r>
              <a:rPr b="1" lang="th-TH" sz="6000" spc="-1" strike="noStrike">
                <a:solidFill>
                  <a:srgbClr val="0000ff"/>
                </a:solidFill>
                <a:latin typeface="IrisUPC"/>
                <a:cs typeface="IrisUPC"/>
              </a:rPr>
              <a:t>เรียนร่วม</a:t>
            </a:r>
            <a:r>
              <a:rPr b="1" lang="th-TH" sz="6000" spc="-1" strike="noStrike">
                <a:solidFill>
                  <a:srgbClr val="0000ff"/>
                </a:solidFill>
                <a:latin typeface="IrisUPC"/>
                <a:ea typeface="IrisUPC"/>
              </a:rPr>
              <a:t>/</a:t>
            </a:r>
            <a:r>
              <a:rPr b="1" lang="th-TH" sz="6000" spc="-1" strike="noStrike">
                <a:solidFill>
                  <a:srgbClr val="0000ff"/>
                </a:solidFill>
                <a:latin typeface="IrisUPC"/>
                <a:cs typeface="IrisUPC"/>
              </a:rPr>
              <a:t>เรียนรว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351000" y="44280"/>
            <a:ext cx="7605720" cy="20566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800000"/>
                </a:solidFill>
                <a:latin typeface="Arial"/>
                <a:ea typeface="DilleniaUPC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800000"/>
                </a:solidFill>
                <a:latin typeface="Arial"/>
                <a:ea typeface="DilleniaUPC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bird1"/>
          <p:cNvPicPr/>
          <p:nvPr/>
        </p:nvPicPr>
        <p:blipFill>
          <a:blip r:embed="rId1"/>
          <a:stretch/>
        </p:blipFill>
        <p:spPr>
          <a:xfrm>
            <a:off x="517680" y="260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bird1"/>
          <p:cNvPicPr/>
          <p:nvPr/>
        </p:nvPicPr>
        <p:blipFill>
          <a:blip r:embed="rId2"/>
          <a:stretch/>
        </p:blipFill>
        <p:spPr>
          <a:xfrm>
            <a:off x="3297240" y="4381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bird1"/>
          <p:cNvPicPr/>
          <p:nvPr/>
        </p:nvPicPr>
        <p:blipFill>
          <a:blip r:embed="rId3"/>
          <a:stretch/>
        </p:blipFill>
        <p:spPr>
          <a:xfrm>
            <a:off x="351000" y="12049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4932360" y="2960640"/>
            <a:ext cx="4032360" cy="3637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3"/>
          <p:cNvSpPr/>
          <p:nvPr/>
        </p:nvSpPr>
        <p:spPr>
          <a:xfrm>
            <a:off x="198360" y="3695760"/>
            <a:ext cx="3959280" cy="29732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 flipH="1">
            <a:off x="2050560" y="2960640"/>
            <a:ext cx="1008360" cy="7351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7"/>
          <p:cNvSpPr/>
          <p:nvPr/>
        </p:nvSpPr>
        <p:spPr>
          <a:xfrm>
            <a:off x="5867280" y="2422440"/>
            <a:ext cx="1189080" cy="5079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625320" y="3916440"/>
            <a:ext cx="333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23010a"/>
                </a:solidFill>
                <a:latin typeface="Browallia New"/>
                <a:ea typeface="Browallia New"/>
              </a:rPr>
              <a:t>    </a:t>
            </a:r>
            <a:r>
              <a:rPr b="1" lang="th-TH" sz="3600" spc="-1" strike="noStrike">
                <a:solidFill>
                  <a:srgbClr val="23010a"/>
                </a:solidFill>
                <a:latin typeface="Browallia New"/>
                <a:cs typeface="Browallia New"/>
              </a:rPr>
              <a:t>จัดสรรโรงเรียน</a:t>
            </a:r>
            <a:br>
              <a:rPr sz="3600"/>
            </a:br>
            <a:r>
              <a:rPr b="1" lang="th-TH" sz="3600" spc="-1" strike="noStrike">
                <a:solidFill>
                  <a:srgbClr val="006600"/>
                </a:solidFill>
                <a:latin typeface="Browallia New"/>
                <a:cs typeface="Browallia New"/>
              </a:rPr>
              <a:t>ต้นแบบการเรียนรวม</a:t>
            </a:r>
            <a:br>
              <a:rPr sz="3600"/>
            </a:br>
            <a:r>
              <a:rPr b="1" lang="th-TH" sz="3600" spc="-1" strike="noStrike">
                <a:solidFill>
                  <a:srgbClr val="23010a"/>
                </a:solidFill>
                <a:latin typeface="Browallia New"/>
                <a:ea typeface="Browallia New"/>
              </a:rPr>
              <a:t> เก่า</a:t>
            </a:r>
            <a:r>
              <a:rPr b="1" lang="en-US" sz="3600" spc="-1" strike="noStrike">
                <a:solidFill>
                  <a:srgbClr val="23010a"/>
                </a:solidFill>
                <a:latin typeface="Browallia New"/>
                <a:ea typeface="Browallia New"/>
              </a:rPr>
              <a:t>= 35</a:t>
            </a:r>
            <a:r>
              <a:rPr b="1" lang="th-TH" sz="3600" spc="-1" strike="noStrike">
                <a:solidFill>
                  <a:srgbClr val="23010a"/>
                </a:solidFill>
                <a:latin typeface="Browallia New"/>
                <a:ea typeface="Browallia New"/>
              </a:rPr>
              <a:t>,000 </a:t>
            </a:r>
            <a:r>
              <a:rPr b="1" lang="th-TH" sz="3600" spc="-1" strike="noStrike">
                <a:solidFill>
                  <a:srgbClr val="23010a"/>
                </a:solidFill>
                <a:latin typeface="Browallia New"/>
                <a:cs typeface="Browallia New"/>
              </a:rPr>
              <a:t>บาท</a:t>
            </a:r>
            <a:br>
              <a:rPr sz="3600"/>
            </a:br>
            <a:r>
              <a:rPr b="1" lang="th-TH" sz="3600" spc="-1" strike="noStrike">
                <a:solidFill>
                  <a:srgbClr val="23010a"/>
                </a:solidFill>
                <a:latin typeface="Browallia New"/>
                <a:cs typeface="Browallia New"/>
              </a:rPr>
              <a:t>ใหม่ </a:t>
            </a:r>
            <a:r>
              <a:rPr b="1" lang="th-TH" sz="3600" spc="-1" strike="noStrike">
                <a:solidFill>
                  <a:srgbClr val="23010a"/>
                </a:solidFill>
                <a:latin typeface="Browallia New"/>
                <a:ea typeface="Browallia New"/>
              </a:rPr>
              <a:t>= 100,000 </a:t>
            </a:r>
            <a:r>
              <a:rPr b="1" lang="th-TH" sz="3600" spc="-1" strike="noStrike">
                <a:solidFill>
                  <a:srgbClr val="23010a"/>
                </a:solidFill>
                <a:latin typeface="Browallia New"/>
                <a:cs typeface="Browallia New"/>
              </a:rPr>
              <a:t>บา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5430960" y="3444840"/>
            <a:ext cx="327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23010a"/>
                </a:solidFill>
                <a:latin typeface="Arial"/>
                <a:cs typeface="DilleniaUPC"/>
              </a:rPr>
              <a:t>จัดสรรให้</a:t>
            </a:r>
            <a:r>
              <a:rPr b="1" lang="th-TH" sz="3600" spc="-1" strike="noStrike">
                <a:solidFill>
                  <a:srgbClr val="c00000"/>
                </a:solidFill>
                <a:latin typeface="Arial"/>
                <a:cs typeface="DilleniaUPC"/>
              </a:rPr>
              <a:t>โรงเรียนแกนนำฯ 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cs typeface="DilleniaUPC"/>
              </a:rPr>
              <a:t>และ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DilleniaUPC"/>
              </a:rPr>
              <a:t>โรงเรียนทั่วไป </a:t>
            </a:r>
            <a:r>
              <a:rPr b="1" lang="th-TH" sz="3600" spc="-1" strike="noStrike">
                <a:solidFill>
                  <a:srgbClr val="cc00cc"/>
                </a:solidFill>
                <a:latin typeface="Arial"/>
                <a:cs typeface="DilleniaUPC"/>
              </a:rPr>
              <a:t>ที่จัดการเรียนร่วม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ea typeface="DilleniaUPC"/>
              </a:rPr>
              <a:t>(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cs typeface="DilleniaUPC"/>
              </a:rPr>
              <a:t>ฐานจัดสรรโดยใช้</a:t>
            </a:r>
            <a:br>
              <a:rPr sz="3600"/>
            </a:br>
            <a:r>
              <a:rPr b="1" lang="th-TH" sz="3600" spc="-1" strike="noStrike">
                <a:solidFill>
                  <a:srgbClr val="23010a"/>
                </a:solidFill>
                <a:latin typeface="Arial"/>
                <a:ea typeface="DilleniaUPC"/>
              </a:rPr>
              <a:t>  จำนวนโรงเรียนแกนนำ</a:t>
            </a:r>
            <a:br>
              <a:rPr sz="3600"/>
            </a:br>
            <a:r>
              <a:rPr b="1" lang="th-TH" sz="3600" spc="-1" strike="noStrike">
                <a:solidFill>
                  <a:srgbClr val="23010a"/>
                </a:solidFill>
                <a:latin typeface="Arial"/>
                <a:ea typeface="DilleniaUPC"/>
              </a:rPr>
              <a:t>     โรงละ 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ea typeface="DilleniaUPC"/>
              </a:rPr>
              <a:t>21,000 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cs typeface="DilleniaUPC"/>
              </a:rPr>
              <a:t>บาท</a:t>
            </a:r>
            <a:r>
              <a:rPr b="1" lang="th-TH" sz="3600" spc="-1" strike="noStrike">
                <a:solidFill>
                  <a:srgbClr val="23010a"/>
                </a:solidFill>
                <a:latin typeface="Arial"/>
                <a:ea typeface="DilleniaUPC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2652840" y="1814400"/>
            <a:ext cx="3348000" cy="2232000"/>
          </a:xfrm>
          <a:prstGeom prst="cloudCallout">
            <a:avLst>
              <a:gd name="adj1" fmla="val -31175"/>
              <a:gd name="adj2" fmla="val -69699"/>
            </a:avLst>
          </a:prstGeom>
          <a:solidFill>
            <a:srgbClr val="4e67c8"/>
          </a:solidFill>
          <a:ln w="0">
            <a:noFill/>
          </a:ln>
          <a:effectLst>
            <a:outerShdw dist="17819" dir="2700000" blurRad="0" rotWithShape="0">
              <a:srgbClr val="2f3e7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2843280" y="1906560"/>
            <a:ext cx="302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DilleniaUPC"/>
              </a:rPr>
              <a:t>กิจกรรมที่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DilleniaUPC"/>
              </a:rPr>
              <a:t>1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DilleniaUPC"/>
              </a:rPr>
              <a:t>สร้างความเข็มแข็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39"/>
          <p:cNvSpPr/>
          <p:nvPr/>
        </p:nvSpPr>
        <p:spPr>
          <a:xfrm>
            <a:off x="1258920" y="1773360"/>
            <a:ext cx="1944720" cy="649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59a8d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565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0" descr="cartoon"/>
          <p:cNvPicPr/>
          <p:nvPr/>
        </p:nvPicPr>
        <p:blipFill>
          <a:blip r:embed="rId4"/>
          <a:stretch/>
        </p:blipFill>
        <p:spPr>
          <a:xfrm>
            <a:off x="1135080" y="260280"/>
            <a:ext cx="2193840" cy="1890720"/>
          </a:xfrm>
          <a:prstGeom prst="rect">
            <a:avLst/>
          </a:prstGeom>
          <a:ln w="0">
            <a:noFill/>
          </a:ln>
        </p:spPr>
      </p:pic>
      <p:sp>
        <p:nvSpPr>
          <p:cNvPr id="346" name="Oval 41"/>
          <p:cNvSpPr/>
          <p:nvPr/>
        </p:nvSpPr>
        <p:spPr>
          <a:xfrm>
            <a:off x="6804000" y="1592280"/>
            <a:ext cx="503280" cy="503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2"/>
          <p:cNvSpPr/>
          <p:nvPr/>
        </p:nvSpPr>
        <p:spPr>
          <a:xfrm>
            <a:off x="6804000" y="333360"/>
            <a:ext cx="936720" cy="9367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43"/>
          <p:cNvSpPr/>
          <p:nvPr/>
        </p:nvSpPr>
        <p:spPr>
          <a:xfrm>
            <a:off x="5796000" y="1125360"/>
            <a:ext cx="649080" cy="649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1"/>
          <p:cNvSpPr/>
          <p:nvPr/>
        </p:nvSpPr>
        <p:spPr>
          <a:xfrm>
            <a:off x="7740720" y="1341360"/>
            <a:ext cx="503280" cy="5032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d9a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82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85840" y="500040"/>
            <a:ext cx="8501040" cy="2352600"/>
          </a:xfrm>
          <a:prstGeom prst="downArrowCallout">
            <a:avLst>
              <a:gd name="adj1" fmla="val -70058"/>
              <a:gd name="adj2" fmla="val 85569"/>
              <a:gd name="adj3" fmla="val 16667"/>
              <a:gd name="adj4" fmla="val 6666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.</a:t>
            </a:r>
            <a:r>
              <a:rPr b="1" lang="th-TH" sz="8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พัฒนาครูและบุคลาก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684360" y="2852640"/>
            <a:ext cx="8184960" cy="352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r>
              <a:rPr b="1" lang="th-TH" sz="4400" spc="-1" strike="noStrike">
                <a:solidFill>
                  <a:srgbClr val="800000"/>
                </a:solidFill>
                <a:latin typeface="Browallia New"/>
                <a:cs typeface="Browallia New"/>
              </a:rPr>
              <a:t>สนับสนุนงบประมาณ ให้สพป</a:t>
            </a:r>
            <a:r>
              <a:rPr b="1" lang="th-TH" sz="4400" spc="-1" strike="noStrike">
                <a:solidFill>
                  <a:srgbClr val="800000"/>
                </a:solidFill>
                <a:latin typeface="Browallia New"/>
                <a:ea typeface="Browallia New"/>
              </a:rPr>
              <a:t>./</a:t>
            </a:r>
            <a:r>
              <a:rPr b="1" lang="th-TH" sz="4400" spc="-1" strike="noStrike">
                <a:solidFill>
                  <a:srgbClr val="800000"/>
                </a:solidFill>
                <a:latin typeface="Browallia New"/>
                <a:cs typeface="Browallia New"/>
              </a:rPr>
              <a:t>สพม</a:t>
            </a:r>
            <a:r>
              <a:rPr b="1" lang="th-TH" sz="4400" spc="-1" strike="noStrike">
                <a:solidFill>
                  <a:srgbClr val="800000"/>
                </a:solidFill>
                <a:latin typeface="Browallia New"/>
                <a:ea typeface="Browallia New"/>
              </a:rPr>
              <a:t>. </a:t>
            </a:r>
            <a:r>
              <a:rPr b="1" lang="th-TH" sz="4400" spc="-1" strike="noStrike">
                <a:solidFill>
                  <a:srgbClr val="800000"/>
                </a:solidFill>
                <a:latin typeface="Browallia New"/>
                <a:cs typeface="Browallia New"/>
              </a:rPr>
              <a:t>ขยายผล</a:t>
            </a:r>
            <a:br>
              <a:rPr sz="4400"/>
            </a:br>
            <a:r>
              <a:rPr b="1" lang="th-TH" sz="4400" spc="-1" strike="noStrike">
                <a:solidFill>
                  <a:srgbClr val="800000"/>
                </a:solidFill>
                <a:latin typeface="Browallia New"/>
                <a:cs typeface="Browallia New"/>
              </a:rPr>
              <a:t>การจัดอบรม ตาม  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หลักสูตร “ผู้ดำเนินการ</a:t>
            </a:r>
            <a:br>
              <a:rPr sz="4400"/>
            </a:b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คัดกรองคนพิการทางการศึกษา”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 </a:t>
            </a:r>
            <a:r>
              <a:rPr b="1" lang="th-TH" sz="4400" spc="-1" strike="noStrike">
                <a:solidFill>
                  <a:srgbClr val="c00000"/>
                </a:solidFill>
                <a:latin typeface="Browallia New"/>
                <a:cs typeface="Browallia New"/>
              </a:rPr>
              <a:t>และ พัฒนา</a:t>
            </a:r>
            <a:br>
              <a:rPr sz="4400"/>
            </a:br>
            <a:r>
              <a:rPr b="1" lang="th-TH" sz="4400" spc="-1" strike="noStrike">
                <a:solidFill>
                  <a:srgbClr val="c00000"/>
                </a:solidFill>
                <a:latin typeface="Browallia New"/>
                <a:cs typeface="Browallia New"/>
              </a:rPr>
              <a:t>องค์ความรู้ที่เกี่ยวกับการจัดการเรียนรวม</a:t>
            </a:r>
            <a:br>
              <a:rPr sz="4400"/>
            </a:b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(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สพป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.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ละ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85,000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บาท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/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สพม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.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ละ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30,000 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บาท</a:t>
            </a:r>
            <a:r>
              <a:rPr b="1" lang="th-TH" sz="4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Oval 2"/>
          <p:cNvSpPr/>
          <p:nvPr/>
        </p:nvSpPr>
        <p:spPr>
          <a:xfrm rot="751800">
            <a:off x="904680" y="585720"/>
            <a:ext cx="2760480" cy="277020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4dc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250920" y="189000"/>
          <a:ext cx="158904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1589040" cy="1330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b4dcfa"/>
                    </a:outerShdw>
                  </a:effectLst>
                </p:spPr>
              </p:pic>
            </p:oleObj>
          </a:graphicData>
        </a:graphic>
      </p:graphicFrame>
      <p:pic>
        <p:nvPicPr>
          <p:cNvPr id="355" name="Rectangle 4" descr=""/>
          <p:cNvPicPr/>
          <p:nvPr/>
        </p:nvPicPr>
        <p:blipFill>
          <a:blip r:embed="rId3"/>
          <a:stretch/>
        </p:blipFill>
        <p:spPr>
          <a:xfrm>
            <a:off x="579600" y="560520"/>
            <a:ext cx="3406680" cy="3109680"/>
          </a:xfrm>
          <a:prstGeom prst="rect">
            <a:avLst/>
          </a:prstGeom>
          <a:ln w="0">
            <a:noFill/>
          </a:ln>
        </p:spPr>
      </p:pic>
      <p:sp>
        <p:nvSpPr>
          <p:cNvPr id="356" name="Oval 5"/>
          <p:cNvSpPr/>
          <p:nvPr/>
        </p:nvSpPr>
        <p:spPr>
          <a:xfrm>
            <a:off x="2135160" y="1844640"/>
            <a:ext cx="6553080" cy="4680000"/>
          </a:xfrm>
          <a:prstGeom prst="ellipse">
            <a:avLst/>
          </a:prstGeom>
          <a:solidFill>
            <a:srgbClr val="00ccff"/>
          </a:solidFill>
          <a:ln w="50760">
            <a:solidFill>
              <a:srgbClr val="ff33cc"/>
            </a:solidFill>
            <a:miter/>
          </a:ln>
          <a:effectLst>
            <a:outerShdw dist="107932" dir="2700000" blurRad="0" rotWithShape="0">
              <a:srgbClr val="b4dc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279520" y="2637000"/>
            <a:ext cx="65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สนับสนุนงบประมาณ</a:t>
            </a:r>
            <a:br>
              <a:rPr sz="4800"/>
            </a:b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ออกประเมินมาตรฐานฯ</a:t>
            </a:r>
            <a:br>
              <a:rPr sz="4800"/>
            </a:b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โรงเรียนต้นแบบ</a:t>
            </a:r>
            <a:br>
              <a:rPr sz="4800"/>
            </a:b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การเรียนรวม ที่เป็นศูนย์ </a:t>
            </a:r>
            <a:r>
              <a:rPr b="1" lang="en-US" sz="4800" spc="-1" strike="noStrike">
                <a:solidFill>
                  <a:srgbClr val="212745"/>
                </a:solidFill>
                <a:latin typeface="Browallia New"/>
                <a:ea typeface="Browallia New"/>
              </a:rPr>
              <a:t>SSS</a:t>
            </a:r>
            <a:r>
              <a:rPr b="1" lang="th-TH" sz="4800" spc="-1" strike="noStrike">
                <a:solidFill>
                  <a:srgbClr val="212745"/>
                </a:solidFill>
                <a:latin typeface="Browallia New"/>
                <a:ea typeface="Browallia New"/>
              </a:rPr>
              <a:t> </a:t>
            </a:r>
            <a:br>
              <a:rPr sz="4800"/>
            </a:br>
            <a:r>
              <a:rPr b="1" lang="th-TH" sz="4800" spc="-1" strike="noStrike">
                <a:solidFill>
                  <a:srgbClr val="212745"/>
                </a:solidFill>
                <a:latin typeface="Browallia New"/>
                <a:ea typeface="Browallia New"/>
              </a:rPr>
              <a:t>(</a:t>
            </a: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เขตพื้นที่ๆ</a:t>
            </a:r>
            <a:r>
              <a:rPr b="1" lang="th-TH" sz="4800" spc="-1" strike="noStrike">
                <a:solidFill>
                  <a:srgbClr val="212745"/>
                </a:solidFill>
                <a:latin typeface="Browallia New"/>
                <a:ea typeface="Browallia New"/>
              </a:rPr>
              <a:t>16,500 </a:t>
            </a:r>
            <a:r>
              <a:rPr b="1" lang="th-TH" sz="4800" spc="-1" strike="noStrike">
                <a:solidFill>
                  <a:srgbClr val="212745"/>
                </a:solidFill>
                <a:latin typeface="Browallia New"/>
                <a:cs typeface="Browallia New"/>
              </a:rPr>
              <a:t>บาท</a:t>
            </a:r>
            <a:r>
              <a:rPr b="1" lang="th-TH" sz="4800" spc="-1" strike="noStrike">
                <a:solidFill>
                  <a:srgbClr val="212745"/>
                </a:solidFill>
                <a:latin typeface="Browallia New"/>
                <a:ea typeface="Browallia New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Utopia%20Windows%20Start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2"/>
          <p:cNvSpPr/>
          <p:nvPr/>
        </p:nvSpPr>
        <p:spPr>
          <a:xfrm>
            <a:off x="312840" y="225360"/>
            <a:ext cx="8528040" cy="13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68360" y="225360"/>
            <a:ext cx="82072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ิเทศ ติดตาม และประเมินผล โครงการ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1434960" y="1700280"/>
            <a:ext cx="7404120" cy="505440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730520" y="1916280"/>
            <a:ext cx="700236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งบประมาณ </a:t>
            </a:r>
            <a:br>
              <a:rPr sz="5000"/>
            </a:br>
            <a:r>
              <a:rPr b="1" lang="th-TH" sz="5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เขตพื้นที่ฯ  นิเทศ ให้ความช่วยเหลือ</a:t>
            </a:r>
            <a:r>
              <a:rPr b="1" lang="th-TH" sz="5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ติดตาม และประเมินผลการดำเนินงาน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ของโรงเรียน ที่พัฒนาคุณภาพ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การเรียนร่วม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รียนรวม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ขตพื้นที่ฯละ 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0,000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th-TH" sz="4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179280" y="3560760"/>
            <a:ext cx="1143000" cy="8380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16:41:58Z</dcterms:created>
  <dc:creator>ACER</dc:creator>
  <dc:description/>
  <dc:language>en-US</dc:language>
  <cp:lastModifiedBy>JPB</cp:lastModifiedBy>
  <dcterms:modified xsi:type="dcterms:W3CDTF">2005-06-02T17:34:08Z</dcterms:modified>
  <cp:revision>199</cp:revision>
  <dc:subject/>
  <dc:title>การจัดทำ แผนการจัดการศึกษาเฉพาะบุคคล</dc:title>
</cp:coreProperties>
</file>