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MERA.WAV" ContentType="audio/x-wav"/>
  <Override PartName="/ppt/media/TYPE.WAV" ContentType="audio/x-wav"/>
  <Override PartName="/ppt/media/image2.gif" ContentType="image/gif"/>
  <Override PartName="/ppt/media/image5.wmf" ContentType="image/x-wmf"/>
  <Override PartName="/ppt/media/image3.wmf" ContentType="image/x-wmf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3138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E89-630A-403E-98BF-DCFB71E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0F3-F8C0-44D3-AE8D-8167E57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E61-031B-4F49-B54B-E9F80C7E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110-C320-4F5C-AF2C-1EB75596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699-C993-479B-88F7-FDC0E73A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0C2-DD63-4642-AB2B-18C6BB4D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A07-86F8-4B2F-93F4-8E49EE6B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456-A979-4AD0-A505-A3D7D9DC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82C-E170-4C0F-804C-3950138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C2F-14D1-446A-ABFE-9871A7D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10B-B82A-49FD-A397-CABA9B3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4EB-0F42-4C7F-A94C-70588F2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4F53-72A1-4749-86AA-0E3AD500C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RD021"/>
          <p:cNvPicPr/>
          <p:nvPr/>
        </p:nvPicPr>
        <p:blipFill>
          <a:blip r:embed="rId1"/>
          <a:stretch/>
        </p:blipFill>
        <p:spPr>
          <a:xfrm>
            <a:off x="250920" y="304920"/>
            <a:ext cx="8642160" cy="5500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55640" y="1052640"/>
            <a:ext cx="532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55640" y="2133720"/>
            <a:ext cx="60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ดำเนินงาน </a:t>
            </a:r>
            <a:r>
              <a:rPr b="1" lang="th-TH" sz="54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โครงการ</a:t>
            </a:r>
            <a:br>
              <a:rPr sz="5400"/>
            </a:br>
            <a:r>
              <a:rPr b="1" lang="th-TH" sz="54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   พัฒนาคุณภาพการจัดการศึกษาการเรียนร่วมและเรียนรว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755640" y="846000"/>
            <a:ext cx="60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33cc"/>
                </a:solidFill>
                <a:latin typeface="Browallia New"/>
                <a:cs typeface="Browallia New"/>
              </a:rPr>
              <a:t>เครื่องมือประเมินผ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5200" y="691920"/>
            <a:ext cx="770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0" spc="-1" strike="noStrike">
                <a:solidFill>
                  <a:srgbClr val="ff0000"/>
                </a:solidFill>
                <a:latin typeface="Tahoma"/>
                <a:cs typeface="JasmineUPC"/>
              </a:rPr>
              <a:t>เราแน่ใจว่า</a:t>
            </a:r>
            <a:br>
              <a:rPr sz="11000"/>
            </a:br>
            <a:r>
              <a:rPr b="1" lang="th-TH" sz="7200" spc="-1" strike="noStrike">
                <a:solidFill>
                  <a:srgbClr val="0000cc"/>
                </a:solidFill>
                <a:latin typeface="Tahoma"/>
                <a:cs typeface="JasmineUPC"/>
              </a:rPr>
              <a:t>ท่านทำได้อย่างมีคุณภา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586692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จะไปทางไหนดี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934320" y="58669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อุ้มโล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bd06663_"/>
          <p:cNvPicPr/>
          <p:nvPr/>
        </p:nvPicPr>
        <p:blipFill>
          <a:blip r:embed="rId1"/>
          <a:stretch/>
        </p:blipFill>
        <p:spPr>
          <a:xfrm>
            <a:off x="3340080" y="3645000"/>
            <a:ext cx="28209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1276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99"/>
                </a:solidFill>
                <a:latin typeface="Arial"/>
                <a:ea typeface="KodchiangUPC"/>
              </a:rPr>
              <a:t> </a:t>
            </a:r>
            <a:r>
              <a:rPr b="0" lang="th-TH" sz="4000" spc="-1" strike="noStrike">
                <a:solidFill>
                  <a:srgbClr val="000000"/>
                </a:solidFill>
                <a:latin typeface="Arial"/>
                <a:ea typeface="KodchiangUPC"/>
              </a:rPr>
              <a:t>      </a:t>
            </a:r>
            <a:r>
              <a:rPr b="1" lang="th-TH" sz="18000" spc="-1" strike="noStrike">
                <a:solidFill>
                  <a:srgbClr val="0000ff"/>
                </a:solidFill>
                <a:latin typeface="Arial"/>
                <a:cs typeface="KodchiangUPC"/>
              </a:rPr>
              <a:t>จบแล้วค่ะ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  <a:ea typeface="Kodchiang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Grad087"/>
          <p:cNvPicPr/>
          <p:nvPr/>
        </p:nvPicPr>
        <p:blipFill>
          <a:blip r:embed="rId1"/>
          <a:stretch/>
        </p:blipFill>
        <p:spPr>
          <a:xfrm>
            <a:off x="6372360" y="3500280"/>
            <a:ext cx="2039760" cy="223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"/>
          <p:cNvGrpSpPr/>
          <p:nvPr/>
        </p:nvGrpSpPr>
        <p:grpSpPr>
          <a:xfrm>
            <a:off x="555480" y="247680"/>
            <a:ext cx="8119800" cy="2733120"/>
            <a:chOff x="555480" y="247680"/>
            <a:chExt cx="8119800" cy="2733120"/>
          </a:xfrm>
        </p:grpSpPr>
        <p:sp>
          <p:nvSpPr>
            <p:cNvPr id="46" name="Rectangle 4"/>
            <p:cNvSpPr/>
            <p:nvPr/>
          </p:nvSpPr>
          <p:spPr>
            <a:xfrm>
              <a:off x="1691640" y="652320"/>
              <a:ext cx="5776200" cy="14781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5"/>
            <p:cNvGrpSpPr/>
            <p:nvPr/>
          </p:nvGrpSpPr>
          <p:grpSpPr>
            <a:xfrm>
              <a:off x="555480" y="247680"/>
              <a:ext cx="1418040" cy="2733120"/>
              <a:chOff x="555480" y="247680"/>
              <a:chExt cx="1418040" cy="2733120"/>
            </a:xfrm>
          </p:grpSpPr>
          <p:sp>
            <p:nvSpPr>
              <p:cNvPr id="48" name="Freeform 6"/>
              <p:cNvSpPr/>
              <p:nvPr/>
            </p:nvSpPr>
            <p:spPr>
              <a:xfrm>
                <a:off x="555480" y="247680"/>
                <a:ext cx="1418040" cy="2733120"/>
              </a:xfrm>
              <a:custGeom>
                <a:avLst/>
                <a:gdLst/>
                <a:ahLst/>
                <a:rect l="l" t="t" r="r" b="b"/>
                <a:pathLst>
                  <a:path w="1278" h="1557">
                    <a:moveTo>
                      <a:pt x="72" y="144"/>
                    </a:moveTo>
                    <a:lnTo>
                      <a:pt x="11" y="285"/>
                    </a:lnTo>
                    <a:lnTo>
                      <a:pt x="0" y="335"/>
                    </a:lnTo>
                    <a:lnTo>
                      <a:pt x="5" y="414"/>
                    </a:lnTo>
                    <a:lnTo>
                      <a:pt x="11" y="469"/>
                    </a:lnTo>
                    <a:lnTo>
                      <a:pt x="28" y="537"/>
                    </a:lnTo>
                    <a:lnTo>
                      <a:pt x="66" y="615"/>
                    </a:lnTo>
                    <a:lnTo>
                      <a:pt x="195" y="722"/>
                    </a:lnTo>
                    <a:lnTo>
                      <a:pt x="301" y="833"/>
                    </a:lnTo>
                    <a:lnTo>
                      <a:pt x="326" y="874"/>
                    </a:lnTo>
                    <a:lnTo>
                      <a:pt x="352" y="916"/>
                    </a:lnTo>
                    <a:lnTo>
                      <a:pt x="379" y="1006"/>
                    </a:lnTo>
                    <a:lnTo>
                      <a:pt x="407" y="1162"/>
                    </a:lnTo>
                    <a:lnTo>
                      <a:pt x="435" y="1248"/>
                    </a:lnTo>
                    <a:lnTo>
                      <a:pt x="472" y="1373"/>
                    </a:lnTo>
                    <a:lnTo>
                      <a:pt x="494" y="1517"/>
                    </a:lnTo>
                    <a:lnTo>
                      <a:pt x="501" y="1533"/>
                    </a:lnTo>
                    <a:lnTo>
                      <a:pt x="511" y="1543"/>
                    </a:lnTo>
                    <a:lnTo>
                      <a:pt x="522" y="1550"/>
                    </a:lnTo>
                    <a:lnTo>
                      <a:pt x="534" y="1555"/>
                    </a:lnTo>
                    <a:lnTo>
                      <a:pt x="553" y="1557"/>
                    </a:lnTo>
                    <a:lnTo>
                      <a:pt x="569" y="1557"/>
                    </a:lnTo>
                    <a:lnTo>
                      <a:pt x="586" y="1555"/>
                    </a:lnTo>
                    <a:lnTo>
                      <a:pt x="600" y="1550"/>
                    </a:lnTo>
                    <a:lnTo>
                      <a:pt x="612" y="1541"/>
                    </a:lnTo>
                    <a:lnTo>
                      <a:pt x="622" y="1529"/>
                    </a:lnTo>
                    <a:lnTo>
                      <a:pt x="629" y="1512"/>
                    </a:lnTo>
                    <a:lnTo>
                      <a:pt x="631" y="1496"/>
                    </a:lnTo>
                    <a:lnTo>
                      <a:pt x="632" y="1467"/>
                    </a:lnTo>
                    <a:lnTo>
                      <a:pt x="631" y="1446"/>
                    </a:lnTo>
                    <a:lnTo>
                      <a:pt x="614" y="1342"/>
                    </a:lnTo>
                    <a:lnTo>
                      <a:pt x="592" y="1214"/>
                    </a:lnTo>
                    <a:lnTo>
                      <a:pt x="575" y="1107"/>
                    </a:lnTo>
                    <a:lnTo>
                      <a:pt x="614" y="1183"/>
                    </a:lnTo>
                    <a:lnTo>
                      <a:pt x="714" y="1303"/>
                    </a:lnTo>
                    <a:lnTo>
                      <a:pt x="796" y="1406"/>
                    </a:lnTo>
                    <a:lnTo>
                      <a:pt x="917" y="1535"/>
                    </a:lnTo>
                    <a:lnTo>
                      <a:pt x="935" y="1540"/>
                    </a:lnTo>
                    <a:lnTo>
                      <a:pt x="954" y="1540"/>
                    </a:lnTo>
                    <a:lnTo>
                      <a:pt x="971" y="1535"/>
                    </a:lnTo>
                    <a:lnTo>
                      <a:pt x="985" y="1524"/>
                    </a:lnTo>
                    <a:lnTo>
                      <a:pt x="996" y="1514"/>
                    </a:lnTo>
                    <a:lnTo>
                      <a:pt x="1004" y="1500"/>
                    </a:lnTo>
                    <a:lnTo>
                      <a:pt x="1007" y="1489"/>
                    </a:lnTo>
                    <a:lnTo>
                      <a:pt x="1012" y="1477"/>
                    </a:lnTo>
                    <a:lnTo>
                      <a:pt x="1013" y="1466"/>
                    </a:lnTo>
                    <a:lnTo>
                      <a:pt x="1013" y="1454"/>
                    </a:lnTo>
                    <a:lnTo>
                      <a:pt x="1013" y="1442"/>
                    </a:lnTo>
                    <a:lnTo>
                      <a:pt x="1009" y="1428"/>
                    </a:lnTo>
                    <a:lnTo>
                      <a:pt x="1004" y="1407"/>
                    </a:lnTo>
                    <a:lnTo>
                      <a:pt x="996" y="1390"/>
                    </a:lnTo>
                    <a:lnTo>
                      <a:pt x="973" y="1356"/>
                    </a:lnTo>
                    <a:lnTo>
                      <a:pt x="945" y="1320"/>
                    </a:lnTo>
                    <a:lnTo>
                      <a:pt x="883" y="1264"/>
                    </a:lnTo>
                    <a:lnTo>
                      <a:pt x="812" y="1143"/>
                    </a:lnTo>
                    <a:lnTo>
                      <a:pt x="1013" y="1237"/>
                    </a:lnTo>
                    <a:lnTo>
                      <a:pt x="1146" y="1281"/>
                    </a:lnTo>
                    <a:lnTo>
                      <a:pt x="1170" y="1289"/>
                    </a:lnTo>
                    <a:lnTo>
                      <a:pt x="1192" y="1294"/>
                    </a:lnTo>
                    <a:lnTo>
                      <a:pt x="1213" y="1294"/>
                    </a:lnTo>
                    <a:lnTo>
                      <a:pt x="1228" y="1289"/>
                    </a:lnTo>
                    <a:lnTo>
                      <a:pt x="1240" y="1281"/>
                    </a:lnTo>
                    <a:lnTo>
                      <a:pt x="1250" y="1270"/>
                    </a:lnTo>
                    <a:lnTo>
                      <a:pt x="1259" y="1254"/>
                    </a:lnTo>
                    <a:lnTo>
                      <a:pt x="1264" y="1238"/>
                    </a:lnTo>
                    <a:lnTo>
                      <a:pt x="1268" y="1219"/>
                    </a:lnTo>
                    <a:lnTo>
                      <a:pt x="1267" y="1206"/>
                    </a:lnTo>
                    <a:lnTo>
                      <a:pt x="1262" y="1191"/>
                    </a:lnTo>
                    <a:lnTo>
                      <a:pt x="1256" y="1181"/>
                    </a:lnTo>
                    <a:lnTo>
                      <a:pt x="1248" y="1170"/>
                    </a:lnTo>
                    <a:lnTo>
                      <a:pt x="1233" y="1160"/>
                    </a:lnTo>
                    <a:lnTo>
                      <a:pt x="1220" y="1151"/>
                    </a:lnTo>
                    <a:lnTo>
                      <a:pt x="1146" y="1112"/>
                    </a:lnTo>
                    <a:lnTo>
                      <a:pt x="1071" y="1070"/>
                    </a:lnTo>
                    <a:lnTo>
                      <a:pt x="1009" y="1030"/>
                    </a:lnTo>
                    <a:lnTo>
                      <a:pt x="973" y="1011"/>
                    </a:lnTo>
                    <a:lnTo>
                      <a:pt x="945" y="1000"/>
                    </a:lnTo>
                    <a:lnTo>
                      <a:pt x="945" y="959"/>
                    </a:lnTo>
                    <a:lnTo>
                      <a:pt x="943" y="919"/>
                    </a:lnTo>
                    <a:lnTo>
                      <a:pt x="928" y="874"/>
                    </a:lnTo>
                    <a:lnTo>
                      <a:pt x="900" y="818"/>
                    </a:lnTo>
                    <a:lnTo>
                      <a:pt x="889" y="766"/>
                    </a:lnTo>
                    <a:lnTo>
                      <a:pt x="875" y="717"/>
                    </a:lnTo>
                    <a:lnTo>
                      <a:pt x="858" y="669"/>
                    </a:lnTo>
                    <a:lnTo>
                      <a:pt x="840" y="629"/>
                    </a:lnTo>
                    <a:lnTo>
                      <a:pt x="821" y="584"/>
                    </a:lnTo>
                    <a:lnTo>
                      <a:pt x="807" y="533"/>
                    </a:lnTo>
                    <a:lnTo>
                      <a:pt x="790" y="466"/>
                    </a:lnTo>
                    <a:lnTo>
                      <a:pt x="779" y="428"/>
                    </a:lnTo>
                    <a:lnTo>
                      <a:pt x="766" y="368"/>
                    </a:lnTo>
                    <a:lnTo>
                      <a:pt x="777" y="333"/>
                    </a:lnTo>
                    <a:lnTo>
                      <a:pt x="790" y="311"/>
                    </a:lnTo>
                    <a:lnTo>
                      <a:pt x="821" y="287"/>
                    </a:lnTo>
                    <a:lnTo>
                      <a:pt x="934" y="268"/>
                    </a:lnTo>
                    <a:lnTo>
                      <a:pt x="985" y="256"/>
                    </a:lnTo>
                    <a:lnTo>
                      <a:pt x="1052" y="240"/>
                    </a:lnTo>
                    <a:lnTo>
                      <a:pt x="1093" y="228"/>
                    </a:lnTo>
                    <a:lnTo>
                      <a:pt x="1135" y="211"/>
                    </a:lnTo>
                    <a:lnTo>
                      <a:pt x="1185" y="182"/>
                    </a:lnTo>
                    <a:lnTo>
                      <a:pt x="1205" y="171"/>
                    </a:lnTo>
                    <a:lnTo>
                      <a:pt x="1225" y="156"/>
                    </a:lnTo>
                    <a:lnTo>
                      <a:pt x="1239" y="141"/>
                    </a:lnTo>
                    <a:lnTo>
                      <a:pt x="1253" y="121"/>
                    </a:lnTo>
                    <a:lnTo>
                      <a:pt x="1261" y="104"/>
                    </a:lnTo>
                    <a:lnTo>
                      <a:pt x="1270" y="83"/>
                    </a:lnTo>
                    <a:lnTo>
                      <a:pt x="1276" y="64"/>
                    </a:lnTo>
                    <a:lnTo>
                      <a:pt x="1278" y="49"/>
                    </a:lnTo>
                    <a:lnTo>
                      <a:pt x="1277" y="30"/>
                    </a:lnTo>
                    <a:lnTo>
                      <a:pt x="1270" y="16"/>
                    </a:lnTo>
                    <a:lnTo>
                      <a:pt x="1264" y="9"/>
                    </a:lnTo>
                    <a:lnTo>
                      <a:pt x="1258" y="4"/>
                    </a:lnTo>
                    <a:lnTo>
                      <a:pt x="1248" y="0"/>
                    </a:lnTo>
                    <a:lnTo>
                      <a:pt x="1213" y="16"/>
                    </a:lnTo>
                    <a:lnTo>
                      <a:pt x="1124" y="55"/>
                    </a:lnTo>
                    <a:lnTo>
                      <a:pt x="1057" y="78"/>
                    </a:lnTo>
                    <a:lnTo>
                      <a:pt x="1018" y="72"/>
                    </a:lnTo>
                    <a:lnTo>
                      <a:pt x="962" y="89"/>
                    </a:lnTo>
                    <a:lnTo>
                      <a:pt x="915" y="93"/>
                    </a:lnTo>
                    <a:lnTo>
                      <a:pt x="860" y="94"/>
                    </a:lnTo>
                    <a:lnTo>
                      <a:pt x="760" y="100"/>
                    </a:lnTo>
                    <a:lnTo>
                      <a:pt x="592" y="128"/>
                    </a:lnTo>
                    <a:lnTo>
                      <a:pt x="463" y="133"/>
                    </a:lnTo>
                    <a:lnTo>
                      <a:pt x="346" y="156"/>
                    </a:lnTo>
                    <a:lnTo>
                      <a:pt x="279" y="156"/>
                    </a:lnTo>
                    <a:lnTo>
                      <a:pt x="178" y="139"/>
                    </a:lnTo>
                    <a:lnTo>
                      <a:pt x="72" y="144"/>
                    </a:lnTo>
                    <a:close/>
                  </a:path>
                </a:pathLst>
              </a:custGeom>
              <a:solidFill>
                <a:srgbClr val="ff9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>
                <a:off x="1824120" y="247680"/>
                <a:ext cx="126720" cy="95400"/>
              </a:xfrm>
              <a:custGeom>
                <a:avLst/>
                <a:gdLst/>
                <a:ahLst/>
                <a:rect l="l" t="t" r="r" b="b"/>
                <a:pathLst>
                  <a:path w="115" h="55">
                    <a:moveTo>
                      <a:pt x="0" y="44"/>
                    </a:moveTo>
                    <a:lnTo>
                      <a:pt x="9" y="50"/>
                    </a:lnTo>
                    <a:lnTo>
                      <a:pt x="18" y="54"/>
                    </a:lnTo>
                    <a:lnTo>
                      <a:pt x="30" y="55"/>
                    </a:lnTo>
                    <a:lnTo>
                      <a:pt x="38" y="55"/>
                    </a:lnTo>
                    <a:lnTo>
                      <a:pt x="50" y="54"/>
                    </a:lnTo>
                    <a:lnTo>
                      <a:pt x="70" y="48"/>
                    </a:lnTo>
                    <a:lnTo>
                      <a:pt x="84" y="42"/>
                    </a:lnTo>
                    <a:lnTo>
                      <a:pt x="98" y="35"/>
                    </a:lnTo>
                    <a:lnTo>
                      <a:pt x="112" y="28"/>
                    </a:lnTo>
                    <a:lnTo>
                      <a:pt x="115" y="21"/>
                    </a:lnTo>
                    <a:lnTo>
                      <a:pt x="114" y="13"/>
                    </a:lnTo>
                    <a:lnTo>
                      <a:pt x="105" y="6"/>
                    </a:lnTo>
                    <a:lnTo>
                      <a:pt x="96" y="0"/>
                    </a:lnTo>
                    <a:lnTo>
                      <a:pt x="66" y="1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Group 8"/>
              <p:cNvGrpSpPr/>
              <p:nvPr/>
            </p:nvGrpSpPr>
            <p:grpSpPr>
              <a:xfrm>
                <a:off x="798840" y="379080"/>
                <a:ext cx="1145160" cy="2581920"/>
                <a:chOff x="798840" y="379080"/>
                <a:chExt cx="1145160" cy="2581920"/>
              </a:xfrm>
            </p:grpSpPr>
            <p:sp>
              <p:nvSpPr>
                <p:cNvPr id="51" name="Freeform 9"/>
                <p:cNvSpPr/>
                <p:nvPr/>
              </p:nvSpPr>
              <p:spPr>
                <a:xfrm>
                  <a:off x="1081080" y="1028520"/>
                  <a:ext cx="519480" cy="1071720"/>
                </a:xfrm>
                <a:custGeom>
                  <a:avLst/>
                  <a:gdLst/>
                  <a:ahLst/>
                  <a:rect l="l" t="t" r="r" b="b"/>
                  <a:pathLst>
                    <a:path w="471" h="611">
                      <a:moveTo>
                        <a:pt x="0" y="0"/>
                      </a:moveTo>
                      <a:lnTo>
                        <a:pt x="40" y="26"/>
                      </a:lnTo>
                      <a:lnTo>
                        <a:pt x="68" y="72"/>
                      </a:lnTo>
                      <a:lnTo>
                        <a:pt x="129" y="157"/>
                      </a:lnTo>
                      <a:lnTo>
                        <a:pt x="166" y="212"/>
                      </a:lnTo>
                      <a:lnTo>
                        <a:pt x="194" y="282"/>
                      </a:lnTo>
                      <a:lnTo>
                        <a:pt x="205" y="322"/>
                      </a:lnTo>
                      <a:lnTo>
                        <a:pt x="249" y="393"/>
                      </a:lnTo>
                      <a:lnTo>
                        <a:pt x="308" y="491"/>
                      </a:lnTo>
                      <a:lnTo>
                        <a:pt x="347" y="561"/>
                      </a:lnTo>
                      <a:lnTo>
                        <a:pt x="375" y="606"/>
                      </a:lnTo>
                      <a:lnTo>
                        <a:pt x="386" y="609"/>
                      </a:lnTo>
                      <a:lnTo>
                        <a:pt x="400" y="611"/>
                      </a:lnTo>
                      <a:lnTo>
                        <a:pt x="420" y="609"/>
                      </a:lnTo>
                      <a:lnTo>
                        <a:pt x="440" y="603"/>
                      </a:lnTo>
                      <a:lnTo>
                        <a:pt x="453" y="590"/>
                      </a:lnTo>
                      <a:lnTo>
                        <a:pt x="464" y="571"/>
                      </a:lnTo>
                      <a:lnTo>
                        <a:pt x="471" y="546"/>
                      </a:lnTo>
                      <a:lnTo>
                        <a:pt x="471" y="51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0"/>
                <p:cNvSpPr/>
                <p:nvPr/>
              </p:nvSpPr>
              <p:spPr>
                <a:xfrm>
                  <a:off x="980640" y="1397160"/>
                  <a:ext cx="492840" cy="870480"/>
                </a:xfrm>
                <a:custGeom>
                  <a:avLst/>
                  <a:gdLst/>
                  <a:ahLst/>
                  <a:rect l="l" t="t" r="r" b="b"/>
                  <a:pathLst>
                    <a:path w="442" h="492">
                      <a:moveTo>
                        <a:pt x="0" y="0"/>
                      </a:moveTo>
                      <a:lnTo>
                        <a:pt x="44" y="68"/>
                      </a:lnTo>
                      <a:lnTo>
                        <a:pt x="123" y="129"/>
                      </a:lnTo>
                      <a:lnTo>
                        <a:pt x="176" y="185"/>
                      </a:lnTo>
                      <a:lnTo>
                        <a:pt x="227" y="255"/>
                      </a:lnTo>
                      <a:lnTo>
                        <a:pt x="283" y="327"/>
                      </a:lnTo>
                      <a:lnTo>
                        <a:pt x="341" y="423"/>
                      </a:lnTo>
                      <a:lnTo>
                        <a:pt x="381" y="451"/>
                      </a:lnTo>
                      <a:lnTo>
                        <a:pt x="442" y="492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11"/>
                <p:cNvSpPr/>
                <p:nvPr/>
              </p:nvSpPr>
              <p:spPr>
                <a:xfrm>
                  <a:off x="952920" y="1608120"/>
                  <a:ext cx="238320" cy="579600"/>
                </a:xfrm>
                <a:custGeom>
                  <a:avLst/>
                  <a:gdLst/>
                  <a:ahLst/>
                  <a:rect l="l" t="t" r="r" b="b"/>
                  <a:pathLst>
                    <a:path w="218" h="331">
                      <a:moveTo>
                        <a:pt x="0" y="0"/>
                      </a:moveTo>
                      <a:lnTo>
                        <a:pt x="72" y="95"/>
                      </a:lnTo>
                      <a:lnTo>
                        <a:pt x="128" y="178"/>
                      </a:lnTo>
                      <a:lnTo>
                        <a:pt x="179" y="263"/>
                      </a:lnTo>
                      <a:lnTo>
                        <a:pt x="218" y="331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12"/>
                <p:cNvSpPr/>
                <p:nvPr/>
              </p:nvSpPr>
              <p:spPr>
                <a:xfrm>
                  <a:off x="1689480" y="379080"/>
                  <a:ext cx="4680" cy="95400"/>
                </a:xfrm>
                <a:custGeom>
                  <a:avLst/>
                  <a:gdLst/>
                  <a:ahLst/>
                  <a:rect l="l" t="t" r="r" b="b"/>
                  <a:pathLst>
                    <a:path w="9" h="53">
                      <a:moveTo>
                        <a:pt x="0" y="0"/>
                      </a:moveTo>
                      <a:lnTo>
                        <a:pt x="9" y="20"/>
                      </a:lnTo>
                      <a:lnTo>
                        <a:pt x="9" y="38"/>
                      </a:lnTo>
                      <a:lnTo>
                        <a:pt x="5" y="53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13"/>
                <p:cNvSpPr/>
                <p:nvPr/>
              </p:nvSpPr>
              <p:spPr>
                <a:xfrm>
                  <a:off x="1673280" y="379080"/>
                  <a:ext cx="9720" cy="95400"/>
                </a:xfrm>
                <a:custGeom>
                  <a:avLst/>
                  <a:gdLst/>
                  <a:ahLst/>
                  <a:rect l="l" t="t" r="r" b="b"/>
                  <a:pathLst>
                    <a:path w="9" h="53">
                      <a:moveTo>
                        <a:pt x="0" y="0"/>
                      </a:moveTo>
                      <a:lnTo>
                        <a:pt x="9" y="20"/>
                      </a:lnTo>
                      <a:lnTo>
                        <a:pt x="9" y="38"/>
                      </a:lnTo>
                      <a:lnTo>
                        <a:pt x="6" y="53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4"/>
                <p:cNvSpPr/>
                <p:nvPr/>
              </p:nvSpPr>
              <p:spPr>
                <a:xfrm>
                  <a:off x="1428480" y="667800"/>
                  <a:ext cx="105120" cy="115200"/>
                </a:xfrm>
                <a:custGeom>
                  <a:avLst/>
                  <a:gdLst/>
                  <a:ahLst/>
                  <a:rect l="l" t="t" r="r" b="b"/>
                  <a:pathLst>
                    <a:path w="93" h="65">
                      <a:moveTo>
                        <a:pt x="93" y="0"/>
                      </a:moveTo>
                      <a:lnTo>
                        <a:pt x="45" y="20"/>
                      </a:lnTo>
                      <a:lnTo>
                        <a:pt x="26" y="37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5"/>
                <p:cNvSpPr/>
                <p:nvPr/>
              </p:nvSpPr>
              <p:spPr>
                <a:xfrm>
                  <a:off x="798840" y="510480"/>
                  <a:ext cx="149040" cy="25560"/>
                </a:xfrm>
                <a:custGeom>
                  <a:avLst/>
                  <a:gdLst/>
                  <a:ahLst/>
                  <a:rect l="l" t="t" r="r" b="b"/>
                  <a:pathLst>
                    <a:path w="135" h="12">
                      <a:moveTo>
                        <a:pt x="0" y="12"/>
                      </a:moveTo>
                      <a:lnTo>
                        <a:pt x="79" y="9"/>
                      </a:lnTo>
                      <a:lnTo>
                        <a:pt x="135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6"/>
                <p:cNvSpPr/>
                <p:nvPr/>
              </p:nvSpPr>
              <p:spPr>
                <a:xfrm>
                  <a:off x="1512720" y="1636200"/>
                  <a:ext cx="43920" cy="6948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0" y="0"/>
                      </a:moveTo>
                      <a:lnTo>
                        <a:pt x="25" y="23"/>
                      </a:lnTo>
                      <a:lnTo>
                        <a:pt x="40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>
                  <a:off x="1428480" y="1221840"/>
                  <a:ext cx="38880" cy="71640"/>
                </a:xfrm>
                <a:custGeom>
                  <a:avLst/>
                  <a:gdLst/>
                  <a:ahLst/>
                  <a:rect l="l" t="t" r="r" b="b"/>
                  <a:pathLst>
                    <a:path w="34" h="40">
                      <a:moveTo>
                        <a:pt x="0" y="0"/>
                      </a:moveTo>
                      <a:lnTo>
                        <a:pt x="20" y="23"/>
                      </a:lnTo>
                      <a:lnTo>
                        <a:pt x="34" y="4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>
                  <a:off x="831240" y="1293480"/>
                  <a:ext cx="100080" cy="298800"/>
                </a:xfrm>
                <a:custGeom>
                  <a:avLst/>
                  <a:gdLst/>
                  <a:ahLst/>
                  <a:rect l="l" t="t" r="r" b="b"/>
                  <a:pathLst>
                    <a:path w="94" h="168">
                      <a:moveTo>
                        <a:pt x="0" y="0"/>
                      </a:moveTo>
                      <a:lnTo>
                        <a:pt x="33" y="28"/>
                      </a:lnTo>
                      <a:lnTo>
                        <a:pt x="94" y="16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19"/>
                <p:cNvSpPr/>
                <p:nvPr/>
              </p:nvSpPr>
              <p:spPr>
                <a:xfrm>
                  <a:off x="1025640" y="2321280"/>
                  <a:ext cx="60120" cy="2556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0" y="17"/>
                      </a:moveTo>
                      <a:lnTo>
                        <a:pt x="12" y="10"/>
                      </a:lnTo>
                      <a:lnTo>
                        <a:pt x="22" y="5"/>
                      </a:lnTo>
                      <a:lnTo>
                        <a:pt x="39" y="1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0"/>
                <p:cNvSpPr/>
                <p:nvPr/>
              </p:nvSpPr>
              <p:spPr>
                <a:xfrm>
                  <a:off x="1091160" y="2751840"/>
                  <a:ext cx="77760" cy="209160"/>
                </a:xfrm>
                <a:custGeom>
                  <a:avLst/>
                  <a:gdLst/>
                  <a:ahLst/>
                  <a:rect l="l" t="t" r="r" b="b"/>
                  <a:pathLst>
                    <a:path w="71" h="117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31" y="1"/>
                      </a:lnTo>
                      <a:lnTo>
                        <a:pt x="39" y="3"/>
                      </a:lnTo>
                      <a:lnTo>
                        <a:pt x="48" y="9"/>
                      </a:lnTo>
                      <a:lnTo>
                        <a:pt x="53" y="16"/>
                      </a:lnTo>
                      <a:lnTo>
                        <a:pt x="57" y="26"/>
                      </a:lnTo>
                      <a:lnTo>
                        <a:pt x="71" y="113"/>
                      </a:lnTo>
                      <a:lnTo>
                        <a:pt x="54" y="117"/>
                      </a:lnTo>
                      <a:lnTo>
                        <a:pt x="40" y="116"/>
                      </a:lnTo>
                      <a:lnTo>
                        <a:pt x="30" y="112"/>
                      </a:lnTo>
                      <a:lnTo>
                        <a:pt x="24" y="110"/>
                      </a:lnTo>
                      <a:lnTo>
                        <a:pt x="17" y="101"/>
                      </a:lnTo>
                      <a:lnTo>
                        <a:pt x="12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1"/>
                <p:cNvSpPr/>
                <p:nvPr/>
              </p:nvSpPr>
              <p:spPr>
                <a:xfrm>
                  <a:off x="1501560" y="2767680"/>
                  <a:ext cx="132840" cy="167040"/>
                </a:xfrm>
                <a:custGeom>
                  <a:avLst/>
                  <a:gdLst/>
                  <a:ahLst/>
                  <a:rect l="l" t="t" r="r" b="b"/>
                  <a:pathLst>
                    <a:path w="122" h="95">
                      <a:moveTo>
                        <a:pt x="0" y="22"/>
                      </a:moveTo>
                      <a:lnTo>
                        <a:pt x="10" y="16"/>
                      </a:lnTo>
                      <a:lnTo>
                        <a:pt x="18" y="10"/>
                      </a:lnTo>
                      <a:lnTo>
                        <a:pt x="29" y="5"/>
                      </a:lnTo>
                      <a:lnTo>
                        <a:pt x="43" y="1"/>
                      </a:lnTo>
                      <a:lnTo>
                        <a:pt x="54" y="0"/>
                      </a:lnTo>
                      <a:lnTo>
                        <a:pt x="65" y="1"/>
                      </a:lnTo>
                      <a:lnTo>
                        <a:pt x="76" y="3"/>
                      </a:lnTo>
                      <a:lnTo>
                        <a:pt x="85" y="9"/>
                      </a:lnTo>
                      <a:lnTo>
                        <a:pt x="111" y="32"/>
                      </a:lnTo>
                      <a:lnTo>
                        <a:pt x="120" y="45"/>
                      </a:lnTo>
                      <a:lnTo>
                        <a:pt x="122" y="55"/>
                      </a:lnTo>
                      <a:lnTo>
                        <a:pt x="121" y="62"/>
                      </a:lnTo>
                      <a:lnTo>
                        <a:pt x="116" y="70"/>
                      </a:lnTo>
                      <a:lnTo>
                        <a:pt x="111" y="78"/>
                      </a:lnTo>
                      <a:lnTo>
                        <a:pt x="102" y="86"/>
                      </a:lnTo>
                      <a:lnTo>
                        <a:pt x="94" y="90"/>
                      </a:lnTo>
                      <a:lnTo>
                        <a:pt x="84" y="94"/>
                      </a:lnTo>
                      <a:lnTo>
                        <a:pt x="74" y="95"/>
                      </a:lnTo>
                      <a:lnTo>
                        <a:pt x="69" y="9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2"/>
                <p:cNvSpPr/>
                <p:nvPr/>
              </p:nvSpPr>
              <p:spPr>
                <a:xfrm>
                  <a:off x="1224000" y="2205720"/>
                  <a:ext cx="77760" cy="69480"/>
                </a:xfrm>
                <a:custGeom>
                  <a:avLst/>
                  <a:gdLst/>
                  <a:ahLst/>
                  <a:rect l="l" t="t" r="r" b="b"/>
                  <a:pathLst>
                    <a:path w="69" h="42">
                      <a:moveTo>
                        <a:pt x="0" y="42"/>
                      </a:moveTo>
                      <a:lnTo>
                        <a:pt x="15" y="27"/>
                      </a:lnTo>
                      <a:lnTo>
                        <a:pt x="31" y="16"/>
                      </a:lnTo>
                      <a:lnTo>
                        <a:pt x="46" y="7"/>
                      </a:lnTo>
                      <a:lnTo>
                        <a:pt x="69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3"/>
                <p:cNvSpPr/>
                <p:nvPr/>
              </p:nvSpPr>
              <p:spPr>
                <a:xfrm>
                  <a:off x="1777320" y="2373120"/>
                  <a:ext cx="166680" cy="149400"/>
                </a:xfrm>
                <a:custGeom>
                  <a:avLst/>
                  <a:gdLst/>
                  <a:ahLst/>
                  <a:rect l="l" t="t" r="r" b="b"/>
                  <a:pathLst>
                    <a:path w="148" h="85">
                      <a:moveTo>
                        <a:pt x="0" y="54"/>
                      </a:moveTo>
                      <a:lnTo>
                        <a:pt x="0" y="36"/>
                      </a:lnTo>
                      <a:lnTo>
                        <a:pt x="6" y="21"/>
                      </a:lnTo>
                      <a:lnTo>
                        <a:pt x="11" y="12"/>
                      </a:lnTo>
                      <a:lnTo>
                        <a:pt x="25" y="2"/>
                      </a:lnTo>
                      <a:lnTo>
                        <a:pt x="39" y="0"/>
                      </a:lnTo>
                      <a:lnTo>
                        <a:pt x="57" y="0"/>
                      </a:lnTo>
                      <a:lnTo>
                        <a:pt x="84" y="6"/>
                      </a:lnTo>
                      <a:lnTo>
                        <a:pt x="104" y="14"/>
                      </a:lnTo>
                      <a:lnTo>
                        <a:pt x="135" y="27"/>
                      </a:lnTo>
                      <a:lnTo>
                        <a:pt x="144" y="32"/>
                      </a:lnTo>
                      <a:lnTo>
                        <a:pt x="148" y="38"/>
                      </a:lnTo>
                      <a:lnTo>
                        <a:pt x="143" y="51"/>
                      </a:lnTo>
                      <a:lnTo>
                        <a:pt x="136" y="64"/>
                      </a:lnTo>
                      <a:lnTo>
                        <a:pt x="126" y="75"/>
                      </a:lnTo>
                      <a:lnTo>
                        <a:pt x="109" y="85"/>
                      </a:lnTo>
                      <a:lnTo>
                        <a:pt x="97" y="8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4"/>
                <p:cNvSpPr/>
                <p:nvPr/>
              </p:nvSpPr>
              <p:spPr>
                <a:xfrm>
                  <a:off x="1446120" y="1889280"/>
                  <a:ext cx="93960" cy="192960"/>
                </a:xfrm>
                <a:custGeom>
                  <a:avLst/>
                  <a:gdLst/>
                  <a:ahLst/>
                  <a:rect l="l" t="t" r="r" b="b"/>
                  <a:pathLst>
                    <a:path w="86" h="109">
                      <a:moveTo>
                        <a:pt x="0" y="26"/>
                      </a:moveTo>
                      <a:lnTo>
                        <a:pt x="14" y="12"/>
                      </a:lnTo>
                      <a:lnTo>
                        <a:pt x="27" y="5"/>
                      </a:lnTo>
                      <a:lnTo>
                        <a:pt x="43" y="0"/>
                      </a:lnTo>
                      <a:lnTo>
                        <a:pt x="57" y="1"/>
                      </a:lnTo>
                      <a:lnTo>
                        <a:pt x="68" y="6"/>
                      </a:lnTo>
                      <a:lnTo>
                        <a:pt x="76" y="20"/>
                      </a:lnTo>
                      <a:lnTo>
                        <a:pt x="83" y="40"/>
                      </a:lnTo>
                      <a:lnTo>
                        <a:pt x="86" y="56"/>
                      </a:lnTo>
                      <a:lnTo>
                        <a:pt x="86" y="73"/>
                      </a:lnTo>
                      <a:lnTo>
                        <a:pt x="83" y="85"/>
                      </a:lnTo>
                      <a:lnTo>
                        <a:pt x="74" y="97"/>
                      </a:lnTo>
                      <a:lnTo>
                        <a:pt x="66" y="103"/>
                      </a:lnTo>
                      <a:lnTo>
                        <a:pt x="48" y="109"/>
                      </a:lnTo>
                      <a:lnTo>
                        <a:pt x="20" y="61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" name="Group 25"/>
            <p:cNvGrpSpPr/>
            <p:nvPr/>
          </p:nvGrpSpPr>
          <p:grpSpPr>
            <a:xfrm>
              <a:off x="7201800" y="361080"/>
              <a:ext cx="1473480" cy="2541600"/>
              <a:chOff x="7201800" y="361080"/>
              <a:chExt cx="1473480" cy="2541600"/>
            </a:xfrm>
          </p:grpSpPr>
          <p:sp>
            <p:nvSpPr>
              <p:cNvPr id="68" name="Freeform 26"/>
              <p:cNvSpPr/>
              <p:nvPr/>
            </p:nvSpPr>
            <p:spPr>
              <a:xfrm>
                <a:off x="7201800" y="361080"/>
                <a:ext cx="1473480" cy="2541600"/>
              </a:xfrm>
              <a:custGeom>
                <a:avLst/>
                <a:gdLst/>
                <a:ahLst/>
                <a:rect l="l" t="t" r="r" b="b"/>
                <a:pathLst>
                  <a:path w="1326" h="1447">
                    <a:moveTo>
                      <a:pt x="1126" y="8"/>
                    </a:moveTo>
                    <a:lnTo>
                      <a:pt x="1002" y="69"/>
                    </a:lnTo>
                    <a:lnTo>
                      <a:pt x="919" y="69"/>
                    </a:lnTo>
                    <a:lnTo>
                      <a:pt x="823" y="64"/>
                    </a:lnTo>
                    <a:lnTo>
                      <a:pt x="751" y="64"/>
                    </a:lnTo>
                    <a:lnTo>
                      <a:pt x="571" y="19"/>
                    </a:lnTo>
                    <a:lnTo>
                      <a:pt x="471" y="19"/>
                    </a:lnTo>
                    <a:lnTo>
                      <a:pt x="381" y="19"/>
                    </a:lnTo>
                    <a:lnTo>
                      <a:pt x="292" y="0"/>
                    </a:lnTo>
                    <a:lnTo>
                      <a:pt x="254" y="3"/>
                    </a:lnTo>
                    <a:lnTo>
                      <a:pt x="191" y="19"/>
                    </a:lnTo>
                    <a:lnTo>
                      <a:pt x="17" y="19"/>
                    </a:lnTo>
                    <a:lnTo>
                      <a:pt x="9" y="27"/>
                    </a:lnTo>
                    <a:lnTo>
                      <a:pt x="5" y="37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6" y="89"/>
                    </a:lnTo>
                    <a:lnTo>
                      <a:pt x="16" y="106"/>
                    </a:lnTo>
                    <a:lnTo>
                      <a:pt x="27" y="117"/>
                    </a:lnTo>
                    <a:lnTo>
                      <a:pt x="40" y="128"/>
                    </a:lnTo>
                    <a:lnTo>
                      <a:pt x="53" y="135"/>
                    </a:lnTo>
                    <a:lnTo>
                      <a:pt x="70" y="143"/>
                    </a:lnTo>
                    <a:lnTo>
                      <a:pt x="90" y="148"/>
                    </a:lnTo>
                    <a:lnTo>
                      <a:pt x="124" y="157"/>
                    </a:lnTo>
                    <a:lnTo>
                      <a:pt x="158" y="163"/>
                    </a:lnTo>
                    <a:lnTo>
                      <a:pt x="204" y="169"/>
                    </a:lnTo>
                    <a:lnTo>
                      <a:pt x="252" y="175"/>
                    </a:lnTo>
                    <a:lnTo>
                      <a:pt x="324" y="164"/>
                    </a:lnTo>
                    <a:lnTo>
                      <a:pt x="388" y="176"/>
                    </a:lnTo>
                    <a:lnTo>
                      <a:pt x="446" y="193"/>
                    </a:lnTo>
                    <a:lnTo>
                      <a:pt x="496" y="232"/>
                    </a:lnTo>
                    <a:lnTo>
                      <a:pt x="527" y="276"/>
                    </a:lnTo>
                    <a:lnTo>
                      <a:pt x="559" y="325"/>
                    </a:lnTo>
                    <a:lnTo>
                      <a:pt x="575" y="366"/>
                    </a:lnTo>
                    <a:lnTo>
                      <a:pt x="584" y="416"/>
                    </a:lnTo>
                    <a:lnTo>
                      <a:pt x="583" y="473"/>
                    </a:lnTo>
                    <a:lnTo>
                      <a:pt x="583" y="545"/>
                    </a:lnTo>
                    <a:lnTo>
                      <a:pt x="577" y="618"/>
                    </a:lnTo>
                    <a:lnTo>
                      <a:pt x="541" y="716"/>
                    </a:lnTo>
                    <a:lnTo>
                      <a:pt x="495" y="771"/>
                    </a:lnTo>
                    <a:lnTo>
                      <a:pt x="468" y="798"/>
                    </a:lnTo>
                    <a:lnTo>
                      <a:pt x="446" y="828"/>
                    </a:lnTo>
                    <a:lnTo>
                      <a:pt x="414" y="864"/>
                    </a:lnTo>
                    <a:lnTo>
                      <a:pt x="389" y="890"/>
                    </a:lnTo>
                    <a:lnTo>
                      <a:pt x="347" y="908"/>
                    </a:lnTo>
                    <a:lnTo>
                      <a:pt x="312" y="930"/>
                    </a:lnTo>
                    <a:lnTo>
                      <a:pt x="280" y="955"/>
                    </a:lnTo>
                    <a:lnTo>
                      <a:pt x="250" y="978"/>
                    </a:lnTo>
                    <a:lnTo>
                      <a:pt x="164" y="1016"/>
                    </a:lnTo>
                    <a:lnTo>
                      <a:pt x="145" y="1026"/>
                    </a:lnTo>
                    <a:lnTo>
                      <a:pt x="124" y="1039"/>
                    </a:lnTo>
                    <a:lnTo>
                      <a:pt x="105" y="1052"/>
                    </a:lnTo>
                    <a:lnTo>
                      <a:pt x="87" y="1065"/>
                    </a:lnTo>
                    <a:lnTo>
                      <a:pt x="73" y="1079"/>
                    </a:lnTo>
                    <a:lnTo>
                      <a:pt x="62" y="1093"/>
                    </a:lnTo>
                    <a:lnTo>
                      <a:pt x="54" y="1109"/>
                    </a:lnTo>
                    <a:lnTo>
                      <a:pt x="48" y="1127"/>
                    </a:lnTo>
                    <a:lnTo>
                      <a:pt x="46" y="1145"/>
                    </a:lnTo>
                    <a:lnTo>
                      <a:pt x="48" y="1161"/>
                    </a:lnTo>
                    <a:lnTo>
                      <a:pt x="56" y="1178"/>
                    </a:lnTo>
                    <a:lnTo>
                      <a:pt x="67" y="1189"/>
                    </a:lnTo>
                    <a:lnTo>
                      <a:pt x="82" y="1198"/>
                    </a:lnTo>
                    <a:lnTo>
                      <a:pt x="101" y="1206"/>
                    </a:lnTo>
                    <a:lnTo>
                      <a:pt x="113" y="1204"/>
                    </a:lnTo>
                    <a:lnTo>
                      <a:pt x="154" y="1192"/>
                    </a:lnTo>
                    <a:lnTo>
                      <a:pt x="180" y="1186"/>
                    </a:lnTo>
                    <a:lnTo>
                      <a:pt x="252" y="1164"/>
                    </a:lnTo>
                    <a:lnTo>
                      <a:pt x="324" y="1144"/>
                    </a:lnTo>
                    <a:lnTo>
                      <a:pt x="420" y="1074"/>
                    </a:lnTo>
                    <a:lnTo>
                      <a:pt x="564" y="989"/>
                    </a:lnTo>
                    <a:lnTo>
                      <a:pt x="437" y="1161"/>
                    </a:lnTo>
                    <a:lnTo>
                      <a:pt x="359" y="1217"/>
                    </a:lnTo>
                    <a:lnTo>
                      <a:pt x="299" y="1262"/>
                    </a:lnTo>
                    <a:lnTo>
                      <a:pt x="284" y="1275"/>
                    </a:lnTo>
                    <a:lnTo>
                      <a:pt x="271" y="1288"/>
                    </a:lnTo>
                    <a:lnTo>
                      <a:pt x="262" y="1303"/>
                    </a:lnTo>
                    <a:lnTo>
                      <a:pt x="256" y="1316"/>
                    </a:lnTo>
                    <a:lnTo>
                      <a:pt x="254" y="1330"/>
                    </a:lnTo>
                    <a:lnTo>
                      <a:pt x="253" y="1344"/>
                    </a:lnTo>
                    <a:lnTo>
                      <a:pt x="256" y="1360"/>
                    </a:lnTo>
                    <a:lnTo>
                      <a:pt x="264" y="1372"/>
                    </a:lnTo>
                    <a:lnTo>
                      <a:pt x="275" y="1384"/>
                    </a:lnTo>
                    <a:lnTo>
                      <a:pt x="288" y="1394"/>
                    </a:lnTo>
                    <a:lnTo>
                      <a:pt x="303" y="1401"/>
                    </a:lnTo>
                    <a:lnTo>
                      <a:pt x="333" y="1387"/>
                    </a:lnTo>
                    <a:lnTo>
                      <a:pt x="393" y="1353"/>
                    </a:lnTo>
                    <a:lnTo>
                      <a:pt x="527" y="1278"/>
                    </a:lnTo>
                    <a:lnTo>
                      <a:pt x="717" y="1082"/>
                    </a:lnTo>
                    <a:lnTo>
                      <a:pt x="673" y="1201"/>
                    </a:lnTo>
                    <a:lnTo>
                      <a:pt x="634" y="1273"/>
                    </a:lnTo>
                    <a:lnTo>
                      <a:pt x="617" y="1306"/>
                    </a:lnTo>
                    <a:lnTo>
                      <a:pt x="606" y="1332"/>
                    </a:lnTo>
                    <a:lnTo>
                      <a:pt x="598" y="1353"/>
                    </a:lnTo>
                    <a:lnTo>
                      <a:pt x="594" y="1372"/>
                    </a:lnTo>
                    <a:lnTo>
                      <a:pt x="592" y="1385"/>
                    </a:lnTo>
                    <a:lnTo>
                      <a:pt x="593" y="1401"/>
                    </a:lnTo>
                    <a:lnTo>
                      <a:pt x="596" y="1415"/>
                    </a:lnTo>
                    <a:lnTo>
                      <a:pt x="606" y="1430"/>
                    </a:lnTo>
                    <a:lnTo>
                      <a:pt x="615" y="1436"/>
                    </a:lnTo>
                    <a:lnTo>
                      <a:pt x="628" y="1444"/>
                    </a:lnTo>
                    <a:lnTo>
                      <a:pt x="645" y="1447"/>
                    </a:lnTo>
                    <a:lnTo>
                      <a:pt x="662" y="1446"/>
                    </a:lnTo>
                    <a:lnTo>
                      <a:pt x="745" y="1312"/>
                    </a:lnTo>
                    <a:lnTo>
                      <a:pt x="840" y="1195"/>
                    </a:lnTo>
                    <a:lnTo>
                      <a:pt x="897" y="1043"/>
                    </a:lnTo>
                    <a:lnTo>
                      <a:pt x="958" y="847"/>
                    </a:lnTo>
                    <a:lnTo>
                      <a:pt x="1013" y="758"/>
                    </a:lnTo>
                    <a:lnTo>
                      <a:pt x="1050" y="700"/>
                    </a:lnTo>
                    <a:lnTo>
                      <a:pt x="1095" y="639"/>
                    </a:lnTo>
                    <a:lnTo>
                      <a:pt x="1137" y="590"/>
                    </a:lnTo>
                    <a:lnTo>
                      <a:pt x="1195" y="527"/>
                    </a:lnTo>
                    <a:lnTo>
                      <a:pt x="1271" y="473"/>
                    </a:lnTo>
                    <a:lnTo>
                      <a:pt x="1321" y="428"/>
                    </a:lnTo>
                    <a:lnTo>
                      <a:pt x="1326" y="260"/>
                    </a:lnTo>
                    <a:lnTo>
                      <a:pt x="1298" y="69"/>
                    </a:lnTo>
                    <a:lnTo>
                      <a:pt x="1187" y="14"/>
                    </a:lnTo>
                    <a:lnTo>
                      <a:pt x="1126" y="8"/>
                    </a:lnTo>
                    <a:close/>
                  </a:path>
                </a:pathLst>
              </a:custGeom>
              <a:solidFill>
                <a:srgbClr val="ff9f9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7711560" y="1082520"/>
                <a:ext cx="487440" cy="1062360"/>
              </a:xfrm>
              <a:custGeom>
                <a:avLst/>
                <a:gdLst/>
                <a:ahLst/>
                <a:rect l="l" t="t" r="r" b="b"/>
                <a:pathLst>
                  <a:path w="440" h="605">
                    <a:moveTo>
                      <a:pt x="92" y="291"/>
                    </a:moveTo>
                    <a:lnTo>
                      <a:pt x="35" y="397"/>
                    </a:lnTo>
                    <a:lnTo>
                      <a:pt x="20" y="428"/>
                    </a:lnTo>
                    <a:lnTo>
                      <a:pt x="6" y="465"/>
                    </a:lnTo>
                    <a:lnTo>
                      <a:pt x="1" y="495"/>
                    </a:lnTo>
                    <a:lnTo>
                      <a:pt x="0" y="524"/>
                    </a:lnTo>
                    <a:lnTo>
                      <a:pt x="1" y="554"/>
                    </a:lnTo>
                    <a:lnTo>
                      <a:pt x="5" y="577"/>
                    </a:lnTo>
                    <a:lnTo>
                      <a:pt x="14" y="595"/>
                    </a:lnTo>
                    <a:lnTo>
                      <a:pt x="30" y="605"/>
                    </a:lnTo>
                    <a:lnTo>
                      <a:pt x="54" y="604"/>
                    </a:lnTo>
                    <a:lnTo>
                      <a:pt x="80" y="578"/>
                    </a:lnTo>
                    <a:lnTo>
                      <a:pt x="171" y="464"/>
                    </a:lnTo>
                    <a:lnTo>
                      <a:pt x="266" y="347"/>
                    </a:lnTo>
                    <a:lnTo>
                      <a:pt x="294" y="223"/>
                    </a:lnTo>
                    <a:lnTo>
                      <a:pt x="377" y="118"/>
                    </a:lnTo>
                    <a:lnTo>
                      <a:pt x="428" y="57"/>
                    </a:lnTo>
                    <a:lnTo>
                      <a:pt x="4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8"/>
              <p:cNvSpPr/>
              <p:nvPr/>
            </p:nvSpPr>
            <p:spPr>
              <a:xfrm>
                <a:off x="7827120" y="1371600"/>
                <a:ext cx="415800" cy="729360"/>
              </a:xfrm>
              <a:custGeom>
                <a:avLst/>
                <a:gdLst/>
                <a:ahLst/>
                <a:rect l="l" t="t" r="r" b="b"/>
                <a:pathLst>
                  <a:path w="375" h="411">
                    <a:moveTo>
                      <a:pt x="375" y="0"/>
                    </a:moveTo>
                    <a:lnTo>
                      <a:pt x="355" y="25"/>
                    </a:lnTo>
                    <a:lnTo>
                      <a:pt x="338" y="51"/>
                    </a:lnTo>
                    <a:lnTo>
                      <a:pt x="325" y="80"/>
                    </a:lnTo>
                    <a:lnTo>
                      <a:pt x="311" y="123"/>
                    </a:lnTo>
                    <a:lnTo>
                      <a:pt x="185" y="238"/>
                    </a:lnTo>
                    <a:lnTo>
                      <a:pt x="133" y="285"/>
                    </a:lnTo>
                    <a:lnTo>
                      <a:pt x="0" y="4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7999560" y="1503360"/>
                <a:ext cx="266040" cy="747360"/>
              </a:xfrm>
              <a:custGeom>
                <a:avLst/>
                <a:gdLst/>
                <a:ahLst/>
                <a:rect l="l" t="t" r="r" b="b"/>
                <a:pathLst>
                  <a:path w="240" h="429">
                    <a:moveTo>
                      <a:pt x="0" y="429"/>
                    </a:moveTo>
                    <a:lnTo>
                      <a:pt x="66" y="318"/>
                    </a:lnTo>
                    <a:lnTo>
                      <a:pt x="118" y="224"/>
                    </a:lnTo>
                    <a:lnTo>
                      <a:pt x="162" y="145"/>
                    </a:lnTo>
                    <a:lnTo>
                      <a:pt x="207" y="100"/>
                    </a:lnTo>
                    <a:lnTo>
                      <a:pt x="218" y="60"/>
                    </a:lnTo>
                    <a:lnTo>
                      <a:pt x="227" y="33"/>
                    </a:lnTo>
                    <a:lnTo>
                      <a:pt x="2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7234200" y="396720"/>
                <a:ext cx="127800" cy="61560"/>
              </a:xfrm>
              <a:custGeom>
                <a:avLst/>
                <a:gdLst/>
                <a:ahLst/>
                <a:rect l="l" t="t" r="r" b="b"/>
                <a:pathLst>
                  <a:path w="117" h="35">
                    <a:moveTo>
                      <a:pt x="0" y="0"/>
                    </a:moveTo>
                    <a:lnTo>
                      <a:pt x="2" y="12"/>
                    </a:lnTo>
                    <a:lnTo>
                      <a:pt x="5" y="17"/>
                    </a:lnTo>
                    <a:lnTo>
                      <a:pt x="11" y="25"/>
                    </a:lnTo>
                    <a:lnTo>
                      <a:pt x="17" y="28"/>
                    </a:lnTo>
                    <a:lnTo>
                      <a:pt x="27" y="33"/>
                    </a:lnTo>
                    <a:lnTo>
                      <a:pt x="40" y="35"/>
                    </a:lnTo>
                    <a:lnTo>
                      <a:pt x="58" y="35"/>
                    </a:lnTo>
                    <a:lnTo>
                      <a:pt x="91" y="35"/>
                    </a:lnTo>
                    <a:lnTo>
                      <a:pt x="98" y="34"/>
                    </a:lnTo>
                    <a:lnTo>
                      <a:pt x="108" y="30"/>
                    </a:lnTo>
                    <a:lnTo>
                      <a:pt x="116" y="27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1"/>
              <p:cNvSpPr/>
              <p:nvPr/>
            </p:nvSpPr>
            <p:spPr>
              <a:xfrm>
                <a:off x="7544520" y="2268720"/>
                <a:ext cx="11160" cy="9756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55"/>
                    </a:moveTo>
                    <a:lnTo>
                      <a:pt x="13" y="36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2"/>
              <p:cNvSpPr/>
              <p:nvPr/>
            </p:nvSpPr>
            <p:spPr>
              <a:xfrm>
                <a:off x="7289640" y="2338560"/>
                <a:ext cx="139320" cy="14148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24" y="78"/>
                    </a:moveTo>
                    <a:lnTo>
                      <a:pt x="13" y="67"/>
                    </a:lnTo>
                    <a:lnTo>
                      <a:pt x="5" y="54"/>
                    </a:lnTo>
                    <a:lnTo>
                      <a:pt x="1" y="41"/>
                    </a:lnTo>
                    <a:lnTo>
                      <a:pt x="0" y="36"/>
                    </a:lnTo>
                    <a:lnTo>
                      <a:pt x="10" y="24"/>
                    </a:lnTo>
                    <a:lnTo>
                      <a:pt x="22" y="17"/>
                    </a:lnTo>
                    <a:lnTo>
                      <a:pt x="35" y="9"/>
                    </a:lnTo>
                    <a:lnTo>
                      <a:pt x="52" y="2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3" y="2"/>
                    </a:lnTo>
                    <a:lnTo>
                      <a:pt x="109" y="16"/>
                    </a:lnTo>
                    <a:lnTo>
                      <a:pt x="116" y="28"/>
                    </a:lnTo>
                    <a:lnTo>
                      <a:pt x="121" y="43"/>
                    </a:lnTo>
                    <a:lnTo>
                      <a:pt x="124" y="56"/>
                    </a:lnTo>
                    <a:lnTo>
                      <a:pt x="82" y="69"/>
                    </a:lnTo>
                    <a:lnTo>
                      <a:pt x="32" y="82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3"/>
              <p:cNvSpPr/>
              <p:nvPr/>
            </p:nvSpPr>
            <p:spPr>
              <a:xfrm>
                <a:off x="7528320" y="2663280"/>
                <a:ext cx="11052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10" y="86"/>
                    </a:moveTo>
                    <a:lnTo>
                      <a:pt x="3" y="75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3" y="50"/>
                    </a:lnTo>
                    <a:lnTo>
                      <a:pt x="10" y="39"/>
                    </a:lnTo>
                    <a:lnTo>
                      <a:pt x="27" y="22"/>
                    </a:lnTo>
                    <a:lnTo>
                      <a:pt x="46" y="11"/>
                    </a:lnTo>
                    <a:lnTo>
                      <a:pt x="58" y="5"/>
                    </a:lnTo>
                    <a:lnTo>
                      <a:pt x="67" y="0"/>
                    </a:lnTo>
                    <a:lnTo>
                      <a:pt x="77" y="5"/>
                    </a:lnTo>
                    <a:lnTo>
                      <a:pt x="86" y="16"/>
                    </a:lnTo>
                    <a:lnTo>
                      <a:pt x="94" y="27"/>
                    </a:lnTo>
                    <a:lnTo>
                      <a:pt x="99" y="42"/>
                    </a:lnTo>
                    <a:lnTo>
                      <a:pt x="55" y="67"/>
                    </a:lnTo>
                    <a:lnTo>
                      <a:pt x="10" y="86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4"/>
              <p:cNvSpPr/>
              <p:nvPr/>
            </p:nvSpPr>
            <p:spPr>
              <a:xfrm>
                <a:off x="7905240" y="2753280"/>
                <a:ext cx="77760" cy="139320"/>
              </a:xfrm>
              <a:custGeom>
                <a:avLst/>
                <a:gdLst/>
                <a:ahLst/>
                <a:rect l="l" t="t" r="r" b="b"/>
                <a:pathLst>
                  <a:path w="71" h="80">
                    <a:moveTo>
                      <a:pt x="71" y="16"/>
                    </a:moveTo>
                    <a:lnTo>
                      <a:pt x="61" y="8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4" y="23"/>
                    </a:lnTo>
                    <a:lnTo>
                      <a:pt x="5" y="40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8" y="71"/>
                    </a:lnTo>
                    <a:lnTo>
                      <a:pt x="14" y="76"/>
                    </a:lnTo>
                    <a:lnTo>
                      <a:pt x="29" y="80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5"/>
              <p:cNvSpPr/>
              <p:nvPr/>
            </p:nvSpPr>
            <p:spPr>
              <a:xfrm>
                <a:off x="7739280" y="1961640"/>
                <a:ext cx="99000" cy="175320"/>
              </a:xfrm>
              <a:custGeom>
                <a:avLst/>
                <a:gdLst/>
                <a:ahLst/>
                <a:rect l="l" t="t" r="r" b="b"/>
                <a:pathLst>
                  <a:path w="89" h="101">
                    <a:moveTo>
                      <a:pt x="16" y="7"/>
                    </a:moveTo>
                    <a:lnTo>
                      <a:pt x="7" y="29"/>
                    </a:lnTo>
                    <a:lnTo>
                      <a:pt x="2" y="50"/>
                    </a:lnTo>
                    <a:lnTo>
                      <a:pt x="0" y="73"/>
                    </a:lnTo>
                    <a:lnTo>
                      <a:pt x="2" y="83"/>
                    </a:lnTo>
                    <a:lnTo>
                      <a:pt x="13" y="94"/>
                    </a:lnTo>
                    <a:lnTo>
                      <a:pt x="24" y="100"/>
                    </a:lnTo>
                    <a:lnTo>
                      <a:pt x="30" y="101"/>
                    </a:lnTo>
                    <a:lnTo>
                      <a:pt x="59" y="76"/>
                    </a:lnTo>
                    <a:lnTo>
                      <a:pt x="89" y="37"/>
                    </a:lnTo>
                    <a:lnTo>
                      <a:pt x="80" y="20"/>
                    </a:lnTo>
                    <a:lnTo>
                      <a:pt x="71" y="15"/>
                    </a:lnTo>
                    <a:lnTo>
                      <a:pt x="59" y="7"/>
                    </a:lnTo>
                    <a:lnTo>
                      <a:pt x="43" y="1"/>
                    </a:lnTo>
                    <a:lnTo>
                      <a:pt x="30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ffbfb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6"/>
              <p:cNvSpPr/>
              <p:nvPr/>
            </p:nvSpPr>
            <p:spPr>
              <a:xfrm>
                <a:off x="7861320" y="1786320"/>
                <a:ext cx="55080" cy="59760"/>
              </a:xfrm>
              <a:custGeom>
                <a:avLst/>
                <a:gdLst/>
                <a:ahLst/>
                <a:rect l="l" t="t" r="r" b="b"/>
                <a:pathLst>
                  <a:path w="53" h="36">
                    <a:moveTo>
                      <a:pt x="53" y="36"/>
                    </a:moveTo>
                    <a:lnTo>
                      <a:pt x="42" y="23"/>
                    </a:lnTo>
                    <a:lnTo>
                      <a:pt x="27" y="12"/>
                    </a:lnTo>
                    <a:lnTo>
                      <a:pt x="14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7"/>
              <p:cNvSpPr/>
              <p:nvPr/>
            </p:nvSpPr>
            <p:spPr>
              <a:xfrm>
                <a:off x="7949160" y="1600920"/>
                <a:ext cx="55080" cy="69480"/>
              </a:xfrm>
              <a:custGeom>
                <a:avLst/>
                <a:gdLst/>
                <a:ahLst/>
                <a:rect l="l" t="t" r="r" b="b"/>
                <a:pathLst>
                  <a:path w="52" h="36">
                    <a:moveTo>
                      <a:pt x="52" y="36"/>
                    </a:moveTo>
                    <a:lnTo>
                      <a:pt x="39" y="21"/>
                    </a:lnTo>
                    <a:lnTo>
                      <a:pt x="25" y="10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8"/>
              <p:cNvSpPr/>
              <p:nvPr/>
            </p:nvSpPr>
            <p:spPr>
              <a:xfrm>
                <a:off x="7976880" y="1582920"/>
                <a:ext cx="33840" cy="6948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9" y="40"/>
                    </a:moveTo>
                    <a:lnTo>
                      <a:pt x="18" y="21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9"/>
              <p:cNvSpPr/>
              <p:nvPr/>
            </p:nvSpPr>
            <p:spPr>
              <a:xfrm>
                <a:off x="8408880" y="863280"/>
                <a:ext cx="110520" cy="139320"/>
              </a:xfrm>
              <a:custGeom>
                <a:avLst/>
                <a:gdLst/>
                <a:ahLst/>
                <a:rect l="l" t="t" r="r" b="b"/>
                <a:pathLst>
                  <a:path w="100" h="79">
                    <a:moveTo>
                      <a:pt x="0" y="79"/>
                    </a:moveTo>
                    <a:lnTo>
                      <a:pt x="50" y="23"/>
                    </a:lnTo>
                    <a:lnTo>
                      <a:pt x="10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0"/>
              <p:cNvSpPr/>
              <p:nvPr/>
            </p:nvSpPr>
            <p:spPr>
              <a:xfrm>
                <a:off x="8004240" y="2585520"/>
                <a:ext cx="33840" cy="43560"/>
              </a:xfrm>
              <a:custGeom>
                <a:avLst/>
                <a:gdLst/>
                <a:ahLst/>
                <a:rect l="l" t="t" r="r" b="b"/>
                <a:pathLst>
                  <a:path w="31" h="25">
                    <a:moveTo>
                      <a:pt x="31" y="25"/>
                    </a:moveTo>
                    <a:lnTo>
                      <a:pt x="16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1"/>
              <p:cNvSpPr/>
              <p:nvPr/>
            </p:nvSpPr>
            <p:spPr>
              <a:xfrm>
                <a:off x="7949160" y="2172960"/>
                <a:ext cx="50040" cy="69480"/>
              </a:xfrm>
              <a:custGeom>
                <a:avLst/>
                <a:gdLst/>
                <a:ahLst/>
                <a:rect l="l" t="t" r="r" b="b"/>
                <a:pathLst>
                  <a:path w="42" h="40">
                    <a:moveTo>
                      <a:pt x="42" y="40"/>
                    </a:moveTo>
                    <a:lnTo>
                      <a:pt x="29" y="23"/>
                    </a:lnTo>
                    <a:lnTo>
                      <a:pt x="12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2"/>
              <p:cNvSpPr/>
              <p:nvPr/>
            </p:nvSpPr>
            <p:spPr>
              <a:xfrm>
                <a:off x="7744320" y="254196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1" y="36"/>
                    </a:moveTo>
                    <a:lnTo>
                      <a:pt x="17" y="1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WordArt 43"/>
          <p:cNvSpPr txBox="1"/>
          <p:nvPr/>
        </p:nvSpPr>
        <p:spPr>
          <a:xfrm>
            <a:off x="1806480" y="798480"/>
            <a:ext cx="5556240" cy="1184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LilyUPC"/>
              </a:rPr>
              <a:t>มี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LilyUPC"/>
              </a:rPr>
              <a:t>2  </a:t>
            </a: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LilyUPC"/>
              </a:rPr>
              <a:t>ฉบั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LilyUPC"/>
              <a:ea typeface="LilyUPC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684360" y="2536920"/>
            <a:ext cx="7920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1" lang="th-TH" sz="8000" spc="-1" strike="noStrike">
                <a:solidFill>
                  <a:srgbClr val="0000ff"/>
                </a:solidFill>
                <a:latin typeface="Tahoma"/>
                <a:cs typeface="JasmineUPC"/>
              </a:rPr>
              <a:t>เนื้อหา เหมือนกัน</a:t>
            </a:r>
            <a:br>
              <a:rPr sz="8000"/>
            </a:br>
            <a:r>
              <a:rPr b="1" lang="th-TH" sz="60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ฉบับที่ </a:t>
            </a:r>
            <a:r>
              <a:rPr b="1" lang="th-TH" sz="60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1 </a:t>
            </a:r>
            <a:r>
              <a:rPr b="1" lang="en-US" sz="60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: </a:t>
            </a:r>
            <a:r>
              <a:rPr b="1" lang="th-TH" sz="60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โรงเรียนประมินตนเอง</a:t>
            </a:r>
            <a:r>
              <a:rPr b="1" lang="en-US" sz="8000" spc="-1" strike="noStrike">
                <a:solidFill>
                  <a:srgbClr val="ff0000"/>
                </a:solidFill>
                <a:latin typeface="Tahoma"/>
                <a:ea typeface="JasmineUPC"/>
              </a:rPr>
              <a:t> </a:t>
            </a:r>
            <a:r>
              <a:rPr b="1" lang="th-TH" sz="6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ฉบับที่ </a:t>
            </a:r>
            <a:r>
              <a:rPr b="1" lang="th-TH" sz="6000" spc="-1" strike="noStrike">
                <a:solidFill>
                  <a:srgbClr val="008000"/>
                </a:solidFill>
                <a:latin typeface="Browallia New"/>
                <a:ea typeface="Browallia New"/>
              </a:rPr>
              <a:t>2 </a:t>
            </a:r>
            <a:r>
              <a:rPr b="1" lang="en-US" sz="6000" spc="-1" strike="noStrike">
                <a:solidFill>
                  <a:srgbClr val="008000"/>
                </a:solidFill>
                <a:latin typeface="Browallia New"/>
                <a:ea typeface="Browallia New"/>
              </a:rPr>
              <a:t>: </a:t>
            </a:r>
            <a:r>
              <a:rPr b="1" lang="th-TH" sz="6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ศน</a:t>
            </a:r>
            <a:r>
              <a:rPr b="1" lang="th-TH" sz="6000" spc="-1" strike="noStrike">
                <a:solidFill>
                  <a:srgbClr val="008000"/>
                </a:solidFill>
                <a:latin typeface="Browallia New"/>
                <a:ea typeface="Browallia New"/>
              </a:rPr>
              <a:t>.</a:t>
            </a:r>
            <a:r>
              <a:rPr b="1" lang="th-TH" sz="6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ออกประเมิ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295200" y="333360"/>
            <a:ext cx="8496360" cy="17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3680" y="115920"/>
            <a:ext cx="8643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บบประเมินผลการดำเนินงานฯ</a:t>
            </a:r>
            <a:br>
              <a:rPr sz="6000"/>
            </a:br>
            <a:r>
              <a:rPr b="1" lang="th-TH" sz="6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             มี 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6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446120" y="2276640"/>
            <a:ext cx="72151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830240" y="2371680"/>
            <a:ext cx="671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1 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ข้อมูลพื้นฐา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1625760" y="3573360"/>
            <a:ext cx="7083360" cy="158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768320" y="3740040"/>
            <a:ext cx="714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2 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การประเมินเรียนร่วม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/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รวม</a:t>
            </a:r>
            <a:br>
              <a:rPr sz="4500"/>
            </a:br>
            <a:r>
              <a:rPr b="1" lang="th-TH" sz="4500" spc="-1" strike="noStrike">
                <a:solidFill>
                  <a:srgbClr val="ffff00"/>
                </a:solidFill>
                <a:latin typeface="Browallia New"/>
                <a:ea typeface="Browallia New"/>
              </a:rPr>
              <a:t>                    ตามมาตรฐาน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3120" y="2428920"/>
            <a:ext cx="1143000" cy="8380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20840" y="3567240"/>
            <a:ext cx="1143000" cy="9903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1625760" y="5435640"/>
            <a:ext cx="728640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47680" y="5438880"/>
            <a:ext cx="1219320" cy="99036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623960" y="5518080"/>
            <a:ext cx="746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th-TH" sz="4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3 </a:t>
            </a:r>
            <a:r>
              <a:rPr b="1" lang="th-TH" sz="4000" spc="-1" strike="noStrike">
                <a:solidFill>
                  <a:srgbClr val="ff99ff"/>
                </a:solidFill>
                <a:latin typeface="Browallia New"/>
                <a:cs typeface="Browallia New"/>
              </a:rPr>
              <a:t>เฉพาะ</a:t>
            </a:r>
            <a:r>
              <a:rPr b="1" lang="th-TH" sz="4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โรงเรียนต้นแบบการเรียนรว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95200" y="333360"/>
            <a:ext cx="8496360" cy="17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93680" y="115920"/>
            <a:ext cx="8643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แบบประเมินผลการดำเนินงานฯ</a:t>
            </a:r>
            <a:br>
              <a:rPr sz="6000"/>
            </a:br>
            <a:r>
              <a:rPr b="1" lang="th-TH" sz="6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             มี 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6   </a:t>
            </a:r>
            <a:r>
              <a:rPr b="1" lang="th-TH" sz="60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1467000" y="2276640"/>
            <a:ext cx="7445160" cy="1695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0240" y="2371680"/>
            <a:ext cx="6715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4 </a:t>
            </a:r>
            <a:r>
              <a:rPr b="1" lang="th-TH" sz="4800" spc="-1" strike="noStrike">
                <a:solidFill>
                  <a:srgbClr val="ffff00"/>
                </a:solidFill>
                <a:latin typeface="Browallia New"/>
                <a:cs typeface="Browallia New"/>
              </a:rPr>
              <a:t>เฉพาะ</a:t>
            </a:r>
            <a:r>
              <a:rPr b="1" lang="th-TH" sz="48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โรงเรียนที่มีห้องเรียน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      คู่ขนานสำหรับบุคคลออทิสติ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646280" y="4221000"/>
            <a:ext cx="7083360" cy="1095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04960" y="4300560"/>
            <a:ext cx="71438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5  </a:t>
            </a:r>
            <a:r>
              <a:rPr b="1" lang="th-TH" sz="45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ผลงานโรงเรียนที่ภาคภูมิใจฯ  </a:t>
            </a:r>
            <a:r>
              <a:rPr b="1" lang="th-TH" sz="45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     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23920" y="2705040"/>
            <a:ext cx="1143000" cy="8384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24000" y="422100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625760" y="5435640"/>
            <a:ext cx="7286400" cy="1219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247680" y="5438880"/>
            <a:ext cx="1219320" cy="99036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623960" y="5518080"/>
            <a:ext cx="746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ตอน 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6 </a:t>
            </a:r>
            <a:r>
              <a:rPr b="1" lang="th-TH" sz="4400" spc="-1" strike="noStrike">
                <a:solidFill>
                  <a:srgbClr val="ffffff"/>
                </a:solidFill>
                <a:latin typeface="Browallia New"/>
                <a:cs typeface="Browallia New"/>
              </a:rPr>
              <a:t>ปัญหาอุปสรรคและแนวทางแก้ไ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95280" y="476280"/>
            <a:ext cx="8534520" cy="1944720"/>
          </a:xfrm>
          <a:prstGeom prst="downArrowCallout">
            <a:avLst>
              <a:gd name="adj1" fmla="val -69435"/>
              <a:gd name="adj2" fmla="val 85536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Tahoma"/>
              </a:rPr>
              <a:t>การดำเนินงานของศึกษานิเทศก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50920" y="2421000"/>
            <a:ext cx="8823240" cy="424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th-TH" sz="5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ฉบับที่ </a:t>
            </a:r>
            <a:r>
              <a:rPr b="1" lang="th-TH" sz="5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1 </a:t>
            </a:r>
            <a:r>
              <a:rPr b="1" lang="en-US" sz="5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:</a:t>
            </a:r>
            <a:r>
              <a:rPr b="1" lang="th-TH" sz="5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 </a:t>
            </a:r>
            <a:r>
              <a:rPr b="1" lang="th-TH" sz="54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ส่งให้ทุกโรงเรียนในโครงการ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Browallia New"/>
                <a:ea typeface="Browallia New"/>
              </a:rPr>
              <a:t> 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ฉบับที่ 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: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นำไปประเมินตามสภาพจริง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</a:t>
            </a:r>
            <a:r>
              <a:rPr b="1" lang="th-TH" sz="54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*  </a:t>
            </a:r>
            <a:r>
              <a:rPr b="1" lang="th-TH" sz="54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ต้นแบบการเรียนรวม ทุกโรง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*  </a:t>
            </a:r>
            <a:r>
              <a:rPr b="1" lang="th-TH" sz="54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มินแกนนำและทั่วไป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           เท่าที่จะออกไปประเมินได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11280" y="184320"/>
            <a:ext cx="8210520" cy="703440"/>
          </a:xfrm>
          <a:prstGeom prst="rect">
            <a:avLst/>
          </a:prstGeom>
          <a:solidFill>
            <a:srgbClr val="cc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660066"/>
                </a:solidFill>
                <a:latin typeface="Tahoma"/>
                <a:cs typeface="Tahoma"/>
              </a:rPr>
              <a:t>การสุ่มออกประเมิ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1052640"/>
            <a:ext cx="8713800" cy="5435280"/>
          </a:xfrm>
          <a:prstGeom prst="rect">
            <a:avLst/>
          </a:prstGeom>
          <a:solidFill>
            <a:srgbClr val="e6e6e6"/>
          </a:solidFill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ำหรับ </a:t>
            </a:r>
            <a:r>
              <a:rPr b="1" lang="th-TH" sz="2800" spc="-1" strike="noStrike">
                <a:solidFill>
                  <a:srgbClr val="0000ff"/>
                </a:solidFill>
                <a:latin typeface="Tahoma"/>
                <a:cs typeface="Tahoma"/>
              </a:rPr>
              <a:t>โรงเรียนแกนนำจัดการเรียนร่วม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ละ</a:t>
            </a:r>
            <a:r>
              <a:rPr b="1" lang="th-TH" sz="2800" spc="-1" strike="noStrike">
                <a:solidFill>
                  <a:srgbClr val="009900"/>
                </a:solidFill>
                <a:latin typeface="Tahoma"/>
                <a:cs typeface="Tahoma"/>
              </a:rPr>
              <a:t>โรงเรียนทั่วไป ที่จัดการเรียนร่ว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รคำนึงถึ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1. </a:t>
            </a:r>
            <a:r>
              <a:rPr b="1" lang="th-TH" sz="2800" spc="-1" strike="noStrike">
                <a:solidFill>
                  <a:srgbClr val="ff0000"/>
                </a:solidFill>
                <a:latin typeface="Tahoma"/>
                <a:cs typeface="Tahoma"/>
              </a:rPr>
              <a:t>เจาะจง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โรงเรียนที่มี ห้องเรียนคู่ขนานสำหรับ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บุคคลออทิสติก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รอบคลุมขนาดโรงเรียน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รอบคลุมระดับของการเปิดสอน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4.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ตรียมข้อมูลที่เกี่ยวข้องของเขตพื้นที่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เพื่อเปรียบเทียบข้อมูลของโรงเรียนกับเขตฯ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5. 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สอบถามครูที่ผ่านการอบรม</a:t>
            </a:r>
            <a:r>
              <a:rPr b="1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ตามหลักสูตร</a:t>
            </a:r>
            <a:br>
              <a:rPr sz="2800"/>
            </a:br>
            <a:r>
              <a:rPr b="1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       การคัดกรองคนพิการทางการศึกษา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ดำเนินการ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ได้ถูกต้องตามหลักการหรือไม่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9749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th-TH" sz="6600" spc="-1" strike="noStrike">
                <a:solidFill>
                  <a:srgbClr val="ffff00"/>
                </a:solidFill>
                <a:latin typeface="Browallia New"/>
                <a:cs typeface="Browallia New"/>
              </a:rPr>
              <a:t>โปรดหาทีมออก นิเทศ ติดตาม</a:t>
            </a:r>
            <a:br>
              <a:rPr sz="6600"/>
            </a:br>
            <a:r>
              <a:rPr b="1" lang="th-TH" sz="6600" spc="-1" strike="noStrike">
                <a:solidFill>
                  <a:srgbClr val="ffff00"/>
                </a:solidFill>
                <a:latin typeface="Browallia New"/>
                <a:cs typeface="Browallia New"/>
              </a:rPr>
              <a:t>และประเมินผลการดำเนินงาน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693520"/>
            <a:ext cx="8713800" cy="4048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</p:spPr>
        <p:txBody>
          <a:bodyPr anchor="t">
            <a:normAutofit fontScale="81000"/>
          </a:bodyPr>
          <a:p>
            <a:pPr marL="504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จ้าหน้าที่จากศูนย์การศึกษาพิเศ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มนิเทศ จากศึกษานิเทศก์ หรือ นักวิชาการ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ลุ่มส่งเสริมการจัดการศึกษา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 </a:t>
            </a: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หรือประสานกับเครือข่ายของเขตฯ ที่เห็นว่า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ประสบการณ์ด้านงานการศึกษาพิเศ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XAAB3474"/>
          <p:cNvPicPr/>
          <p:nvPr/>
        </p:nvPicPr>
        <p:blipFill>
          <a:blip r:embed="rId1"/>
          <a:stretch/>
        </p:blipFill>
        <p:spPr>
          <a:xfrm>
            <a:off x="7740720" y="2133720"/>
            <a:ext cx="107928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482760" y="1595520"/>
            <a:ext cx="8207280" cy="5677560"/>
          </a:xfrm>
          <a:prstGeom prst="flowChartPunchedTape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Unicode MS"/>
                <a:cs typeface="LilyUPC"/>
              </a:rPr>
              <a:t>ทั้ง </a:t>
            </a:r>
            <a:r>
              <a:rPr b="1" lang="th-TH" sz="5400" spc="-1" strike="noStrike">
                <a:solidFill>
                  <a:srgbClr val="000000"/>
                </a:solidFill>
                <a:latin typeface="Arial Unicode MS"/>
                <a:ea typeface="LilyUPC"/>
              </a:rPr>
              <a:t>2 </a:t>
            </a:r>
            <a:r>
              <a:rPr b="1" lang="th-TH" sz="5400" spc="-1" strike="noStrike">
                <a:solidFill>
                  <a:srgbClr val="000000"/>
                </a:solidFill>
                <a:latin typeface="Arial Unicode MS"/>
                <a:cs typeface="LilyUPC"/>
              </a:rPr>
              <a:t>ทาง 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LilyUPC"/>
              </a:rPr>
              <a:t>: </a:t>
            </a:r>
            <a:r>
              <a:rPr b="1" lang="th-TH" sz="5400" spc="-1" strike="noStrike">
                <a:solidFill>
                  <a:srgbClr val="000000"/>
                </a:solidFill>
                <a:latin typeface="Arial Unicode MS"/>
                <a:cs typeface="LilyUPC"/>
              </a:rPr>
              <a:t>โรงเรียนประเมินและ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rial Unicode MS"/>
                <a:cs typeface="LilyUPC"/>
              </a:rPr>
              <a:t>ท่านออกไปประเมินตามสภาพจริ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oy227"/>
          <p:cNvPicPr/>
          <p:nvPr/>
        </p:nvPicPr>
        <p:blipFill>
          <a:blip r:embed="rId1"/>
          <a:stretch/>
        </p:blipFill>
        <p:spPr>
          <a:xfrm>
            <a:off x="179280" y="23760"/>
            <a:ext cx="8785440" cy="2205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374840" y="620640"/>
            <a:ext cx="69134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ilyUPC"/>
              </a:rPr>
              <a:t>โปรดเก็บข้อมูล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ilyUPC"/>
              <a:ea typeface="LilyUPC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57120" y="4135320"/>
            <a:ext cx="8429760" cy="5061960"/>
          </a:xfrm>
          <a:prstGeom prst="flowChartPunchedTape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5400000"/>
          </a:gra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 Unicode MS"/>
                <a:cs typeface="LilyUPC"/>
              </a:rPr>
              <a:t>วิเคราะห์ข้อมูลจากการประเมิน ในลักษณะ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Arial Unicode MS"/>
                <a:cs typeface="LilyUPC"/>
              </a:rPr>
              <a:t>ของงานวิจัย และรายงานเป็นชิ้นงานของท่า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579600" y="134136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0000cc"/>
                </a:solidFill>
                <a:latin typeface="Browallia New"/>
                <a:cs typeface="Browallia New"/>
              </a:rPr>
              <a:t>โปรด  </a:t>
            </a:r>
            <a:r>
              <a:rPr b="1" i="1" lang="th-TH" sz="80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อย่าส่งให้โรงเรียน</a:t>
            </a:r>
            <a:br>
              <a:rPr sz="8000"/>
            </a:br>
            <a:r>
              <a:rPr b="1" i="1" lang="th-TH" sz="8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รอกข้อมูล</a:t>
            </a:r>
            <a:br>
              <a:rPr sz="8000"/>
            </a:br>
            <a:r>
              <a:rPr b="1" lang="th-TH" sz="8000" spc="-1" strike="noStrike">
                <a:solidFill>
                  <a:srgbClr val="0000ff"/>
                </a:solidFill>
                <a:latin typeface="Browallia New"/>
                <a:cs typeface="Browallia New"/>
              </a:rPr>
              <a:t>แล้วท่านเป็นผู้สรุ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4:16:44Z</dcterms:created>
  <dc:creator>wasana</dc:creator>
  <dc:description/>
  <dc:language>en-US</dc:language>
  <cp:lastModifiedBy>User</cp:lastModifiedBy>
  <dcterms:modified xsi:type="dcterms:W3CDTF">2015-06-05T09:00:13Z</dcterms:modified>
  <cp:revision>257</cp:revision>
  <dc:subject/>
  <dc:title>แบบฝึก Backward  Design</dc:title>
</cp:coreProperties>
</file>