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2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6CAD-A3C8-436C-A06E-891B86720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ให้ภาพรวมโดยย่อของงานนำเสนอ อธิบายโฟกัสหลักของงานนำเสนอและเหตุใดงานนำเสนอนี้จึงมีความสำคั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แนะนำหัวข้อหลักแต่ละหัวข้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เมื่อต้องการให้แนวทางแก่ผู้ฟัง คุณสามารถ เล่นภาพนิ่งของภาพรวมนี้ ซ้ำได้ตลอดทั้งการนำเสนอ โดยเน้นหัวข้อเฉพาะที่คุณจะอภิปรายถัดไ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F89F-42D4-4687-8852-D6673975AF31}" type="slidenum"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9C6-60F6-4516-AE55-BF4D803D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775-6B56-4943-B353-BD71E090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17A-840D-4D2B-94EA-8AE66427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777-2E6F-4F31-96ED-F0C4AD89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95C0-A602-4148-816A-1851F8EE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2AF5-0244-4158-A749-7A4E6A9B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B7F1-118C-42AF-ADD7-1A754D85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F301-0DCF-4C02-825D-C2216F8E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D538-36C0-4CD4-B101-C72A9953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D4DA-2C47-4BC4-A0DB-684198D3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F7F6-E871-4746-B5EE-36CCCE95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D11-5AAB-4EB7-84F6-176ECF71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B000-68AD-4245-BBD7-AE4CF34D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DEC4-C472-4550-9B65-2BF38B8C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F10E-15D3-4FF5-800E-9246532A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02EE-1EAC-468C-AFB5-DB9DFEC7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F8B9-E5EF-4FA1-B82E-C2A2E3D1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7BD50-035E-40E5-A697-CDC3045B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D794-43A2-4041-8438-C7852B16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07CC-6703-4D31-9860-F0017C9D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1CE60-7109-4AA3-AC1E-7C48E3CB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A047-0220-4DC3-9715-E4D5DE8F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560-3B81-4BEF-B057-DBE6EA2C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42DB-2B8A-4BA5-98EC-D38CC675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C493-614A-4717-AAD4-68CFDBEC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86AD-FBAC-4DA3-8426-1CB77C88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11D4-34EC-4BF8-998E-621B7260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17B4-7E46-45FB-BD07-93C72679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9B37A-E685-4113-B5E6-FE31EB8B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C398-FE0A-4657-881B-FDDE7B94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A53D-86DA-4317-BFE2-D4D676F9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B6C8-12B8-4DFE-9288-8ADC5D20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7766-AE56-4412-BE07-00E93903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7A7-0651-400D-A7CB-353B601C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085D-0290-4775-AF7D-E8025F88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E580-2913-4727-9236-2A284BD1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42EE7-3834-47D4-9328-4BE02B66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1C37-7E65-4B3E-967A-8CFCD1AE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69D81-0C9B-4568-9DDA-EE9A3FC0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061F-4E36-42CD-9316-94BF65B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78AC-ACA4-47DE-B15F-121B91B8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C26E-5D0D-487A-9204-EEE4B5B8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0D0C-7976-44FE-BBCE-0A156B19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F16CD-D4F7-4E00-B9D9-823F68E4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980-CF6F-4CC7-92B1-81ED0EAA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73E9-BB73-4560-9903-E481D6B4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81C6-FF07-4A2B-9DCB-F12EDBD1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3746-D554-48F6-BCFE-D823641E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AB72-1A35-454C-8640-22FA0764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0C54-6E4C-4A5E-9759-3F680300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49C4F-D125-45E2-9027-6AE7C0E7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00A1F-B37D-4C02-9CF9-A5D910E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A42C-69B7-4100-A0AB-700E532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5333-A0BA-4871-A557-729E6243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61EA8-05F1-45E4-8658-8CD840BA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705-9375-400C-B582-121AE76F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9F9EF-AE2D-4AED-96B3-C28A63D6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0DBFF-D978-47A8-BF32-15084F91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31E2A-BDF2-4F72-9531-4B179C98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38015-E3B3-4A52-A8EB-2265FE37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AA811-04A0-44C5-9858-BEC225EF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0FBF-11E3-42D9-A305-A69523FA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ABBF8-1BE5-4E4A-8048-C4581712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401AA-C7B9-464D-8DB6-6A0883F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94345-8CB8-4E8A-BFCE-9EFA9169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30A7-5F5F-4D46-9878-FB0E01CD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71B-571F-4843-B60B-CE658BB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7345D-E67A-4F05-A69A-69D0299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A0A67-30E9-4FE8-9F69-B889E8B0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8CB7D-4311-49A8-8888-D0B57CC6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B63-4A84-4885-9DBC-E336EE5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F35-A317-48CA-B352-18594E85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6E74-3FAC-497C-BA95-33C3A356BECF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CB4-5EB9-435D-9602-063F8413CDD7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B7F2-71F5-4B72-9B75-1A1B93C23889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EA06-42F4-490E-B0E0-690B8876EFB3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071-45FC-4007-A02A-0DAC407D3C47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F37F-4DA1-4A92-9EFF-8787AC0F12C8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2200" spc="-1" strike="noStrike">
              <a:solidFill>
                <a:srgbClr val="212745"/>
              </a:solidFill>
              <a:latin typeface="Trebuchet MS"/>
              <a:ea typeface="IrisUP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817560" y="3131640"/>
            <a:ext cx="717552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5400" spc="-1" strike="noStrike">
              <a:solidFill>
                <a:srgbClr val="000000"/>
              </a:solidFill>
              <a:latin typeface="Trebuchet MS"/>
              <a:ea typeface="IrisUPC"/>
            </a:endParaRPr>
          </a:p>
        </p:txBody>
      </p:sp>
      <p:pic>
        <p:nvPicPr>
          <p:cNvPr id="306" name="Picture 1" descr="คำอธิบาย: C:\Users\Administrator\Desktop\uy16 (1).jpg"/>
          <p:cNvPicPr/>
          <p:nvPr/>
        </p:nvPicPr>
        <p:blipFill>
          <a:blip r:embed="rId1"/>
          <a:stretch/>
        </p:blipFill>
        <p:spPr>
          <a:xfrm>
            <a:off x="152280" y="246240"/>
            <a:ext cx="8693280" cy="6351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D:\TonZA\Documents\งานต้น\รูปภาพข้อมูล ทำปก\เช็ค.jpg"/>
          <p:cNvPicPr/>
          <p:nvPr/>
        </p:nvPicPr>
        <p:blipFill>
          <a:blip r:embed="rId2"/>
          <a:stretch/>
        </p:blipFill>
        <p:spPr>
          <a:xfrm>
            <a:off x="785880" y="3859200"/>
            <a:ext cx="2103480" cy="1596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TonZA\Documents\งานต้น\รูปภาพข้อมูล ทำปก\1375950403.png"/>
          <p:cNvPicPr/>
          <p:nvPr/>
        </p:nvPicPr>
        <p:blipFill>
          <a:blip r:embed="rId3"/>
          <a:stretch/>
        </p:blipFill>
        <p:spPr>
          <a:xfrm>
            <a:off x="3151080" y="3730680"/>
            <a:ext cx="3206880" cy="2225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คำอธิบาย: D:\TonZA\Documents\งานต้น\รูปภาพข้อมูล ทำปก\recruitmentpagexsmall.jpg"/>
          <p:cNvPicPr/>
          <p:nvPr/>
        </p:nvPicPr>
        <p:blipFill>
          <a:blip r:embed="rId4"/>
          <a:stretch/>
        </p:blipFill>
        <p:spPr>
          <a:xfrm>
            <a:off x="6929280" y="2714760"/>
            <a:ext cx="1916280" cy="2817720"/>
          </a:xfrm>
          <a:prstGeom prst="rect">
            <a:avLst/>
          </a:prstGeom>
          <a:ln w="0">
            <a:noFill/>
          </a:ln>
        </p:spPr>
      </p:pic>
      <p:pic>
        <p:nvPicPr>
          <p:cNvPr id="310" name="รูปภาพ 11" descr="คำอธิบาย: D:\TonZA\Documents\งานต้นที่กระทรวง\รูปภาพ\สัญลักษณ์ สพฐ..jpg"/>
          <p:cNvPicPr/>
          <p:nvPr/>
        </p:nvPicPr>
        <p:blipFill>
          <a:blip r:embed="rId5"/>
          <a:stretch/>
        </p:blipFill>
        <p:spPr>
          <a:xfrm>
            <a:off x="415800" y="246240"/>
            <a:ext cx="1152720" cy="1641240"/>
          </a:xfrm>
          <a:prstGeom prst="rect">
            <a:avLst/>
          </a:prstGeom>
          <a:ln w="0">
            <a:noFill/>
          </a:ln>
        </p:spPr>
      </p:pic>
      <p:sp>
        <p:nvSpPr>
          <p:cNvPr id="311" name="สี่เหลี่ยมผืนผ้า 7"/>
          <p:cNvSpPr/>
          <p:nvPr/>
        </p:nvSpPr>
        <p:spPr>
          <a:xfrm>
            <a:off x="957240" y="3929040"/>
            <a:ext cx="67867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00000"/>
                </a:solidFill>
                <a:latin typeface="Angsana New"/>
                <a:cs typeface="Calibri"/>
              </a:rPr>
              <a:t>สำนักบริหารงานการศึกษา</a:t>
            </a:r>
            <a:r>
              <a:rPr b="1" lang="th-TH" sz="3600" spc="-1" strike="noStrike">
                <a:solidFill>
                  <a:srgbClr val="c00000"/>
                </a:solidFill>
                <a:latin typeface="Angsana New"/>
                <a:cs typeface="Calibri"/>
              </a:rPr>
              <a:t>พิเศ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00000"/>
                </a:solidFill>
                <a:latin typeface="Angsana New"/>
                <a:cs typeface="Calibri"/>
              </a:rPr>
              <a:t>สำนักงานคณะกรรมการการศึกษาขั้นพื้นฐา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15228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5228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15228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สี่เหลี่ยมผืนผ้า 11"/>
          <p:cNvSpPr/>
          <p:nvPr/>
        </p:nvSpPr>
        <p:spPr>
          <a:xfrm>
            <a:off x="438120" y="453960"/>
            <a:ext cx="8572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หลักสูตรการอบรม</a:t>
            </a:r>
            <a:br>
              <a:rPr sz="6000"/>
            </a:br>
            <a:r>
              <a:rPr b="1" lang="th-TH" sz="6000" spc="-1" strike="noStrike">
                <a:solidFill>
                  <a:srgbClr val="000000"/>
                </a:solidFill>
                <a:latin typeface="TH SarabunPSK"/>
                <a:ea typeface="TH SarabunPSK"/>
              </a:rPr>
              <a:t>“ ผู้ดำเนินการคัดกรอง</a:t>
            </a:r>
            <a:br>
              <a:rPr sz="6000"/>
            </a:br>
            <a:r>
              <a:rPr b="1" lang="th-TH" sz="6000" spc="-1" strike="noStrike">
                <a:solidFill>
                  <a:srgbClr val="000000"/>
                </a:solidFill>
                <a:latin typeface="TH SarabunPSK"/>
                <a:cs typeface="TH SarabunPSK"/>
              </a:rPr>
              <a:t>คนพิการทางการศึกษา 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itle 1"/>
          <p:cNvSpPr/>
          <p:nvPr/>
        </p:nvSpPr>
        <p:spPr>
          <a:xfrm>
            <a:off x="250920" y="571680"/>
            <a:ext cx="8675640" cy="5286240"/>
          </a:xfrm>
          <a:prstGeom prst="rect">
            <a:avLst/>
          </a:prstGeom>
          <a:gradFill rotWithShape="0">
            <a:gsLst>
              <a:gs pos="0">
                <a:srgbClr val="98a4ed"/>
              </a:gs>
              <a:gs pos="100000">
                <a:srgbClr val="e1e3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000000"/>
                </a:solidFill>
                <a:latin typeface="Trebuchet MS"/>
                <a:cs typeface="IrisUPC"/>
              </a:rPr>
              <a:t>การอบรมเป็น</a:t>
            </a:r>
            <a:r>
              <a:rPr b="1" lang="th-TH" sz="6600" spc="-1" strike="noStrike">
                <a:solidFill>
                  <a:srgbClr val="000000"/>
                </a:solidFill>
                <a:latin typeface="Trebuchet MS"/>
                <a:cs typeface="IrisUPC"/>
              </a:rPr>
              <a:t>ผู้ดำเนินการคัดกรอง</a:t>
            </a:r>
            <a:br>
              <a:rPr sz="6600"/>
            </a:br>
            <a:r>
              <a:rPr b="1" lang="th-TH" sz="9600" spc="-1" strike="noStrike">
                <a:solidFill>
                  <a:srgbClr val="000000"/>
                </a:solidFill>
                <a:latin typeface="Trebuchet MS"/>
                <a:cs typeface="IrisUPC"/>
              </a:rPr>
              <a:t>คนพิการทางการศึกษา</a:t>
            </a:r>
            <a:br>
              <a:rPr sz="8000"/>
            </a:br>
            <a:r>
              <a:rPr b="1" lang="th-TH" sz="8800" spc="-1" strike="noStrike">
                <a:solidFill>
                  <a:srgbClr val="000000"/>
                </a:solidFill>
                <a:latin typeface="Trebuchet MS"/>
                <a:cs typeface="IrisUPC"/>
              </a:rPr>
              <a:t>ในโรงเรียน เรียนร่วม</a:t>
            </a:r>
            <a:r>
              <a:rPr b="1" lang="th-TH" sz="8800" spc="-1" strike="noStrike">
                <a:solidFill>
                  <a:srgbClr val="000000"/>
                </a:solidFill>
                <a:latin typeface="Trebuchet MS"/>
                <a:ea typeface="IrisUPC"/>
              </a:rPr>
              <a:t>/</a:t>
            </a:r>
            <a:br>
              <a:rPr sz="8800"/>
            </a:br>
            <a:r>
              <a:rPr b="1" lang="th-TH" sz="8800" spc="-1" strike="noStrike">
                <a:solidFill>
                  <a:srgbClr val="000000"/>
                </a:solidFill>
                <a:latin typeface="Trebuchet MS"/>
                <a:cs typeface="IrisUPC"/>
              </a:rPr>
              <a:t>เรียนรว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ชื่อเรื่อง 2" descr=""/>
          <p:cNvPicPr/>
          <p:nvPr/>
        </p:nvPicPr>
        <p:blipFill>
          <a:blip r:embed="rId1"/>
          <a:stretch/>
        </p:blipFill>
        <p:spPr>
          <a:xfrm>
            <a:off x="858960" y="285840"/>
            <a:ext cx="7499160" cy="1774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78920" y="1628640"/>
            <a:ext cx="8713800" cy="4824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e67c8"/>
            </a:solidFill>
            <a:miter/>
          </a:ln>
        </p:spPr>
        <p:txBody>
          <a:bodyPr anchor="t">
            <a:normAutofit fontScale="80000"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33cc"/>
                </a:solidFill>
                <a:latin typeface="Trebuchet MS"/>
                <a:ea typeface="IrisUPC"/>
              </a:rPr>
              <a:t>       </a:t>
            </a:r>
            <a:r>
              <a:rPr b="1" lang="th-TH" sz="4800" spc="-1" strike="noStrike">
                <a:solidFill>
                  <a:srgbClr val="0033cc"/>
                </a:solidFill>
                <a:latin typeface="Trebuchet MS"/>
                <a:cs typeface="IrisUPC"/>
              </a:rPr>
              <a:t>ให้ผู้เข้ารับการอบรม   </a:t>
            </a:r>
            <a:r>
              <a:rPr b="1" lang="th-TH" sz="4800" spc="-1" strike="noStrike">
                <a:solidFill>
                  <a:srgbClr val="000000"/>
                </a:solidFill>
                <a:latin typeface="Trebuchet MS"/>
                <a:cs typeface="IrisUPC"/>
              </a:rPr>
              <a:t>มีความรู้ และ ทักษะ 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Trebuchet MS"/>
                <a:cs typeface="IrisUPC"/>
              </a:rPr>
              <a:t>ในการคัดกรอง ผู้พิการทางการศึกษา ที่อยู่ในโรงเรียนด้วยแบบคัดกรอง </a:t>
            </a:r>
            <a:r>
              <a:rPr b="1" lang="th-TH" sz="4000" spc="-1" strike="noStrike">
                <a:solidFill>
                  <a:srgbClr val="ff0000"/>
                </a:solidFill>
                <a:latin typeface="Trebuchet MS"/>
                <a:cs typeface="IrisUPC"/>
              </a:rPr>
              <a:t>ตามประกาศคณะกรรมการ</a:t>
            </a:r>
            <a:r>
              <a:rPr b="1" lang="th-TH" sz="4800" spc="-1" strike="noStrike">
                <a:solidFill>
                  <a:srgbClr val="000000"/>
                </a:solidFill>
                <a:latin typeface="Trebuchet MS"/>
                <a:cs typeface="IrisUPC"/>
              </a:rPr>
              <a:t>ให้คนพิการได้รับสิทธิช่วยเหลือทางการศึกษา  เรื่องกำหนดหลักเกณฑ์และวิธีการ การรับรองบุคคลของสถานศึกษาว่าเป็นคนพิการ</a:t>
            </a:r>
            <a:r>
              <a:rPr b="1" lang="th-TH" sz="4800" spc="-1" strike="noStrike">
                <a:solidFill>
                  <a:srgbClr val="404040"/>
                </a:solidFill>
                <a:latin typeface="Trebuchet MS"/>
                <a:ea typeface="IrisUPC"/>
              </a:rPr>
              <a:t> </a:t>
            </a:r>
            <a:r>
              <a:rPr b="1" lang="th-TH" sz="4800" spc="-1" strike="noStrike">
                <a:solidFill>
                  <a:srgbClr val="ff0000"/>
                </a:solidFill>
                <a:latin typeface="Trebuchet MS"/>
                <a:cs typeface="IrisUPC"/>
              </a:rPr>
              <a:t>พ</a:t>
            </a:r>
            <a:r>
              <a:rPr b="1" lang="th-TH" sz="4800" spc="-1" strike="noStrike">
                <a:solidFill>
                  <a:srgbClr val="ff0000"/>
                </a:solidFill>
                <a:latin typeface="Trebuchet MS"/>
                <a:ea typeface="IrisUPC"/>
              </a:rPr>
              <a:t>.</a:t>
            </a:r>
            <a:r>
              <a:rPr b="1" lang="th-TH" sz="4800" spc="-1" strike="noStrike">
                <a:solidFill>
                  <a:srgbClr val="ff0000"/>
                </a:solidFill>
                <a:latin typeface="Trebuchet MS"/>
                <a:cs typeface="IrisUPC"/>
              </a:rPr>
              <a:t>ศ</a:t>
            </a:r>
            <a:r>
              <a:rPr b="1" lang="th-TH" sz="4800" spc="-1" strike="noStrike">
                <a:solidFill>
                  <a:srgbClr val="ff0000"/>
                </a:solidFill>
                <a:latin typeface="Trebuchet MS"/>
                <a:ea typeface="IrisUPC"/>
              </a:rPr>
              <a:t>.2556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ชื่อเรื่อง 1" descr=""/>
          <p:cNvPicPr/>
          <p:nvPr/>
        </p:nvPicPr>
        <p:blipFill>
          <a:blip r:embed="rId1"/>
          <a:stretch/>
        </p:blipFill>
        <p:spPr>
          <a:xfrm>
            <a:off x="49320" y="-171360"/>
            <a:ext cx="9186840" cy="1457280"/>
          </a:xfrm>
          <a:prstGeom prst="rect">
            <a:avLst/>
          </a:prstGeom>
          <a:ln w="0">
            <a:noFill/>
          </a:ln>
        </p:spPr>
      </p:pic>
      <p:sp>
        <p:nvSpPr>
          <p:cNvPr id="320" name="ตัวแทนเนื้อหา 2"/>
          <p:cNvSpPr/>
          <p:nvPr/>
        </p:nvSpPr>
        <p:spPr>
          <a:xfrm>
            <a:off x="571680" y="1000080"/>
            <a:ext cx="8273880" cy="5643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IrisUPC"/>
              </a:rPr>
              <a:t>ทราบบทบาทหน้าที่ของการเป็นผู้คัดกรอง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IrisUPC"/>
              </a:rPr>
              <a:t>ผู้พิการทางการศึกษ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IrisUPC"/>
              </a:rPr>
              <a:t>การเป็นผู้คัดกรองผู้พิการทางการศึกษาที่ถูกต้อง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IrisUPC"/>
              </a:rPr>
              <a:t>ตามหลักวิช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IrisUPC"/>
              </a:rPr>
              <a:t>มีความรู้ด้านกฎหมายที่เกี่ยวข้องกับการศึกษา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IrisUPC"/>
              </a:rPr>
              <a:t>ของผู้พิการทางการศึกษ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ea typeface="Iris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IrisUPC"/>
              </a:rPr>
              <a:t>มีความรู้เรื่องประเภทองผู้พิการทางการศึกษ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ea typeface="Iris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IrisUPC"/>
              </a:rPr>
              <a:t>มีทักษะในการคัดกรองที่มีคุณภาพ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ea typeface="Iris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IrisUPC"/>
              </a:rPr>
              <a:t>สามารถนำผลการคัดกรองไปใช้จัดการศึกษ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ea typeface="IrisUPC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Oval 2"/>
          <p:cNvSpPr/>
          <p:nvPr/>
        </p:nvSpPr>
        <p:spPr>
          <a:xfrm>
            <a:off x="762120" y="152280"/>
            <a:ext cx="7543800" cy="1524240"/>
          </a:xfrm>
          <a:prstGeom prst="ellipse">
            <a:avLst/>
          </a:prstGeom>
          <a:gradFill rotWithShape="0">
            <a:gsLst>
              <a:gs pos="0">
                <a:srgbClr val="4e67c8"/>
              </a:gs>
              <a:gs pos="50000">
                <a:srgbClr val="ffffff"/>
              </a:gs>
              <a:gs pos="100000">
                <a:srgbClr val="4e67c8"/>
              </a:gs>
            </a:gsLst>
            <a:lin ang="5400000"/>
          </a:gradFill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500120" y="-25812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c00000"/>
                </a:solidFill>
                <a:latin typeface="FreesiaUPC"/>
                <a:cs typeface="FreesiaUPC"/>
              </a:rPr>
              <a:t>จะคัดกรองได้ก็ต่อเมื่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571680" y="3566160"/>
            <a:ext cx="7929360" cy="1556280"/>
          </a:xfrm>
          <a:prstGeom prst="rect">
            <a:avLst/>
          </a:prstGeom>
          <a:solidFill>
            <a:srgbClr val="beebd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IrisUPC"/>
                <a:ea typeface="IrisUPC"/>
              </a:rPr>
              <a:t>2.</a:t>
            </a:r>
            <a:r>
              <a:rPr b="1" lang="th-TH" sz="4800" spc="-1" strike="noStrike">
                <a:solidFill>
                  <a:srgbClr val="000000"/>
                </a:solidFill>
                <a:latin typeface="IrisUPC"/>
                <a:cs typeface="IrisUPC"/>
              </a:rPr>
              <a:t>ผู้ปกครองต้องยินยอม</a:t>
            </a:r>
            <a:r>
              <a:rPr b="1" lang="th-TH" sz="4800" spc="-1" strike="noStrike">
                <a:solidFill>
                  <a:srgbClr val="000000"/>
                </a:solidFill>
                <a:latin typeface="IrisUPC"/>
                <a:ea typeface="IrisUPC"/>
              </a:rPr>
              <a:t>(</a:t>
            </a:r>
            <a:r>
              <a:rPr b="1" lang="th-TH" sz="4800" spc="-1" strike="noStrike">
                <a:solidFill>
                  <a:srgbClr val="000000"/>
                </a:solidFill>
                <a:latin typeface="IrisUPC"/>
                <a:cs typeface="IrisUPC"/>
              </a:rPr>
              <a:t>ลายลักษณ์อักษร</a:t>
            </a:r>
            <a:r>
              <a:rPr b="1" lang="th-TH" sz="4800" spc="-1" strike="noStrike">
                <a:solidFill>
                  <a:srgbClr val="000000"/>
                </a:solidFill>
                <a:latin typeface="IrisUPC"/>
                <a:ea typeface="IrisUPC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642960" y="970920"/>
            <a:ext cx="7786800" cy="3568320"/>
          </a:xfrm>
          <a:prstGeom prst="rect">
            <a:avLst/>
          </a:prstGeom>
          <a:solidFill>
            <a:srgbClr val="ffe6d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IrisUPC"/>
                <a:ea typeface="IrisUPC"/>
              </a:rPr>
              <a:t>1.</a:t>
            </a:r>
            <a:r>
              <a:rPr b="1" lang="th-TH" sz="5400" spc="-1" strike="noStrike">
                <a:solidFill>
                  <a:srgbClr val="000000"/>
                </a:solidFill>
                <a:latin typeface="IrisUPC"/>
                <a:cs typeface="IrisUPC"/>
              </a:rPr>
              <a:t>ผู้คัดกรองต้องผ่านการอบรม 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IrisUPC"/>
                <a:ea typeface="IrisUPC"/>
              </a:rPr>
              <a:t>    ตามหลักสูตรแนบท้ายประกาศ 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500040" y="4276440"/>
            <a:ext cx="8215200" cy="3018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IrisUPC"/>
                <a:ea typeface="IrisUPC"/>
              </a:rPr>
              <a:t>3. </a:t>
            </a:r>
            <a:r>
              <a:rPr b="1" lang="th-TH" sz="4800" spc="-1" strike="noStrike">
                <a:solidFill>
                  <a:srgbClr val="000000"/>
                </a:solidFill>
                <a:latin typeface="IrisUPC"/>
                <a:cs typeface="IrisUPC"/>
              </a:rPr>
              <a:t>เมื่อพบแนวโน้มพบความพิการ ให้จัดบริการ</a:t>
            </a:r>
            <a:br>
              <a:rPr sz="4800"/>
            </a:br>
            <a:r>
              <a:rPr b="1" lang="th-TH" sz="4800" spc="-1" strike="noStrike">
                <a:solidFill>
                  <a:srgbClr val="000000"/>
                </a:solidFill>
                <a:latin typeface="IrisUPC"/>
                <a:ea typeface="IrisUPC"/>
              </a:rPr>
              <a:t>   ช่วยเหลือ และส่งต่อแพทย์เพื่อการวินิจฉั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2"/>
          <p:cNvSpPr/>
          <p:nvPr/>
        </p:nvSpPr>
        <p:spPr>
          <a:xfrm>
            <a:off x="0" y="1271520"/>
            <a:ext cx="9001080" cy="4965840"/>
          </a:xfrm>
          <a:custGeom>
            <a:avLst/>
            <a:gdLst>
              <a:gd name="textAreaLeft" fmla="*/ 0 w 9001080"/>
              <a:gd name="textAreaRight" fmla="*/ 9001440 w 9001080"/>
              <a:gd name="textAreaTop" fmla="*/ 0 h 4965840"/>
              <a:gd name="textAreaBottom" fmla="*/ 4966200 h 4965840"/>
            </a:gdLst>
            <a:ahLst/>
            <a:rect l="textAreaLeft" t="textAreaTop" r="textAreaRight" b="textAreaBottom"/>
            <a:pathLst>
              <a:path w="4964" h="3128">
                <a:moveTo>
                  <a:pt x="4300" y="3095"/>
                </a:moveTo>
                <a:cubicBezTo>
                  <a:pt x="4125" y="3063"/>
                  <a:pt x="3767" y="3106"/>
                  <a:pt x="3767" y="3106"/>
                </a:cubicBezTo>
                <a:cubicBezTo>
                  <a:pt x="3715" y="3112"/>
                  <a:pt x="3664" y="3128"/>
                  <a:pt x="3611" y="3128"/>
                </a:cubicBezTo>
                <a:cubicBezTo>
                  <a:pt x="3559" y="3128"/>
                  <a:pt x="3508" y="3109"/>
                  <a:pt x="3456" y="3106"/>
                </a:cubicBezTo>
                <a:cubicBezTo>
                  <a:pt x="3367" y="3101"/>
                  <a:pt x="3278" y="3099"/>
                  <a:pt x="3189" y="3095"/>
                </a:cubicBezTo>
                <a:cubicBezTo>
                  <a:pt x="3064" y="3073"/>
                  <a:pt x="2948" y="3033"/>
                  <a:pt x="2822" y="3017"/>
                </a:cubicBezTo>
                <a:cubicBezTo>
                  <a:pt x="2699" y="2986"/>
                  <a:pt x="2654" y="2963"/>
                  <a:pt x="2522" y="2950"/>
                </a:cubicBezTo>
                <a:cubicBezTo>
                  <a:pt x="2367" y="2919"/>
                  <a:pt x="2449" y="2925"/>
                  <a:pt x="2278" y="2939"/>
                </a:cubicBezTo>
                <a:cubicBezTo>
                  <a:pt x="2204" y="2963"/>
                  <a:pt x="2143" y="2983"/>
                  <a:pt x="2067" y="2995"/>
                </a:cubicBezTo>
                <a:cubicBezTo>
                  <a:pt x="1874" y="2985"/>
                  <a:pt x="1691" y="2955"/>
                  <a:pt x="1500" y="2939"/>
                </a:cubicBezTo>
                <a:cubicBezTo>
                  <a:pt x="1445" y="2925"/>
                  <a:pt x="1388" y="2912"/>
                  <a:pt x="1333" y="2895"/>
                </a:cubicBezTo>
                <a:cubicBezTo>
                  <a:pt x="1290" y="2882"/>
                  <a:pt x="1234" y="2854"/>
                  <a:pt x="1189" y="2850"/>
                </a:cubicBezTo>
                <a:cubicBezTo>
                  <a:pt x="1071" y="2839"/>
                  <a:pt x="952" y="2836"/>
                  <a:pt x="833" y="2828"/>
                </a:cubicBezTo>
                <a:cubicBezTo>
                  <a:pt x="703" y="2807"/>
                  <a:pt x="575" y="2788"/>
                  <a:pt x="444" y="2772"/>
                </a:cubicBezTo>
                <a:cubicBezTo>
                  <a:pt x="393" y="2759"/>
                  <a:pt x="374" y="2749"/>
                  <a:pt x="344" y="2706"/>
                </a:cubicBezTo>
                <a:cubicBezTo>
                  <a:pt x="337" y="2684"/>
                  <a:pt x="339" y="2656"/>
                  <a:pt x="322" y="2639"/>
                </a:cubicBezTo>
                <a:cubicBezTo>
                  <a:pt x="305" y="2622"/>
                  <a:pt x="276" y="2628"/>
                  <a:pt x="255" y="2617"/>
                </a:cubicBezTo>
                <a:cubicBezTo>
                  <a:pt x="238" y="2609"/>
                  <a:pt x="226" y="2594"/>
                  <a:pt x="211" y="2583"/>
                </a:cubicBezTo>
                <a:cubicBezTo>
                  <a:pt x="183" y="2499"/>
                  <a:pt x="203" y="2536"/>
                  <a:pt x="155" y="2472"/>
                </a:cubicBezTo>
                <a:cubicBezTo>
                  <a:pt x="146" y="2446"/>
                  <a:pt x="130" y="2422"/>
                  <a:pt x="122" y="2395"/>
                </a:cubicBezTo>
                <a:cubicBezTo>
                  <a:pt x="89" y="2284"/>
                  <a:pt x="140" y="2368"/>
                  <a:pt x="78" y="2283"/>
                </a:cubicBezTo>
                <a:cubicBezTo>
                  <a:pt x="67" y="2219"/>
                  <a:pt x="44" y="2170"/>
                  <a:pt x="33" y="2106"/>
                </a:cubicBezTo>
                <a:cubicBezTo>
                  <a:pt x="29" y="2061"/>
                  <a:pt x="27" y="2016"/>
                  <a:pt x="22" y="1972"/>
                </a:cubicBezTo>
                <a:cubicBezTo>
                  <a:pt x="16" y="1927"/>
                  <a:pt x="0" y="1839"/>
                  <a:pt x="0" y="1839"/>
                </a:cubicBezTo>
                <a:cubicBezTo>
                  <a:pt x="9" y="1667"/>
                  <a:pt x="31" y="1499"/>
                  <a:pt x="44" y="1328"/>
                </a:cubicBezTo>
                <a:cubicBezTo>
                  <a:pt x="48" y="1188"/>
                  <a:pt x="25" y="929"/>
                  <a:pt x="122" y="784"/>
                </a:cubicBezTo>
                <a:cubicBezTo>
                  <a:pt x="155" y="683"/>
                  <a:pt x="255" y="608"/>
                  <a:pt x="322" y="528"/>
                </a:cubicBezTo>
                <a:cubicBezTo>
                  <a:pt x="388" y="449"/>
                  <a:pt x="446" y="364"/>
                  <a:pt x="511" y="284"/>
                </a:cubicBezTo>
                <a:cubicBezTo>
                  <a:pt x="545" y="243"/>
                  <a:pt x="576" y="191"/>
                  <a:pt x="622" y="161"/>
                </a:cubicBezTo>
                <a:cubicBezTo>
                  <a:pt x="677" y="125"/>
                  <a:pt x="738" y="112"/>
                  <a:pt x="800" y="95"/>
                </a:cubicBezTo>
                <a:cubicBezTo>
                  <a:pt x="968" y="48"/>
                  <a:pt x="1056" y="38"/>
                  <a:pt x="1244" y="28"/>
                </a:cubicBezTo>
                <a:cubicBezTo>
                  <a:pt x="1442" y="38"/>
                  <a:pt x="1636" y="58"/>
                  <a:pt x="1833" y="73"/>
                </a:cubicBezTo>
                <a:cubicBezTo>
                  <a:pt x="1977" y="108"/>
                  <a:pt x="2142" y="107"/>
                  <a:pt x="2289" y="117"/>
                </a:cubicBezTo>
                <a:cubicBezTo>
                  <a:pt x="2393" y="124"/>
                  <a:pt x="2600" y="139"/>
                  <a:pt x="2600" y="139"/>
                </a:cubicBezTo>
                <a:cubicBezTo>
                  <a:pt x="2810" y="133"/>
                  <a:pt x="3016" y="133"/>
                  <a:pt x="3222" y="95"/>
                </a:cubicBezTo>
                <a:cubicBezTo>
                  <a:pt x="3326" y="76"/>
                  <a:pt x="3428" y="27"/>
                  <a:pt x="3534" y="17"/>
                </a:cubicBezTo>
                <a:cubicBezTo>
                  <a:pt x="3593" y="11"/>
                  <a:pt x="3652" y="10"/>
                  <a:pt x="3711" y="6"/>
                </a:cubicBezTo>
                <a:cubicBezTo>
                  <a:pt x="3846" y="12"/>
                  <a:pt x="4036" y="0"/>
                  <a:pt x="4167" y="73"/>
                </a:cubicBezTo>
                <a:cubicBezTo>
                  <a:pt x="4256" y="123"/>
                  <a:pt x="4398" y="205"/>
                  <a:pt x="4467" y="273"/>
                </a:cubicBezTo>
                <a:cubicBezTo>
                  <a:pt x="4531" y="336"/>
                  <a:pt x="4559" y="367"/>
                  <a:pt x="4645" y="395"/>
                </a:cubicBezTo>
                <a:cubicBezTo>
                  <a:pt x="4689" y="439"/>
                  <a:pt x="4711" y="488"/>
                  <a:pt x="4745" y="539"/>
                </a:cubicBezTo>
                <a:cubicBezTo>
                  <a:pt x="4757" y="575"/>
                  <a:pt x="4777" y="603"/>
                  <a:pt x="4789" y="639"/>
                </a:cubicBezTo>
                <a:cubicBezTo>
                  <a:pt x="4810" y="831"/>
                  <a:pt x="4807" y="1026"/>
                  <a:pt x="4834" y="1217"/>
                </a:cubicBezTo>
                <a:cubicBezTo>
                  <a:pt x="4840" y="1256"/>
                  <a:pt x="4847" y="1315"/>
                  <a:pt x="4867" y="1350"/>
                </a:cubicBezTo>
                <a:cubicBezTo>
                  <a:pt x="4880" y="1373"/>
                  <a:pt x="4897" y="1395"/>
                  <a:pt x="4912" y="1417"/>
                </a:cubicBezTo>
                <a:cubicBezTo>
                  <a:pt x="4919" y="1428"/>
                  <a:pt x="4934" y="1450"/>
                  <a:pt x="4934" y="1450"/>
                </a:cubicBezTo>
                <a:cubicBezTo>
                  <a:pt x="4941" y="1472"/>
                  <a:pt x="4949" y="1495"/>
                  <a:pt x="4956" y="1517"/>
                </a:cubicBezTo>
                <a:cubicBezTo>
                  <a:pt x="4964" y="1542"/>
                  <a:pt x="4949" y="1569"/>
                  <a:pt x="4945" y="1595"/>
                </a:cubicBezTo>
                <a:cubicBezTo>
                  <a:pt x="4934" y="1661"/>
                  <a:pt x="4919" y="1735"/>
                  <a:pt x="4889" y="1795"/>
                </a:cubicBezTo>
                <a:cubicBezTo>
                  <a:pt x="4853" y="1868"/>
                  <a:pt x="4809" y="1924"/>
                  <a:pt x="4789" y="2006"/>
                </a:cubicBezTo>
                <a:cubicBezTo>
                  <a:pt x="4785" y="2039"/>
                  <a:pt x="4783" y="2073"/>
                  <a:pt x="4778" y="2106"/>
                </a:cubicBezTo>
                <a:cubicBezTo>
                  <a:pt x="4776" y="2121"/>
                  <a:pt x="4766" y="2135"/>
                  <a:pt x="4767" y="2150"/>
                </a:cubicBezTo>
                <a:cubicBezTo>
                  <a:pt x="4769" y="2173"/>
                  <a:pt x="4765" y="2217"/>
                  <a:pt x="4789" y="2217"/>
                </a:cubicBezTo>
                <a:cubicBezTo>
                  <a:pt x="4808" y="2217"/>
                  <a:pt x="4826" y="2217"/>
                  <a:pt x="4845" y="2217"/>
                </a:cubicBezTo>
              </a:path>
            </a:pathLst>
          </a:custGeom>
          <a:solidFill>
            <a:srgbClr val="800000"/>
          </a:solidFill>
          <a:ln w="5724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28760" y="1628280"/>
            <a:ext cx="8286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75680" indent="0">
              <a:lnSpc>
                <a:spcPct val="90000"/>
              </a:lnSpc>
              <a:spcBef>
                <a:spcPts val="16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Trebuchet MS"/>
                <a:ea typeface="IrisUPC"/>
              </a:rPr>
              <a:t>1. </a:t>
            </a:r>
            <a:r>
              <a:rPr b="1" lang="th-TH" sz="6600" spc="-1" strike="noStrike">
                <a:solidFill>
                  <a:srgbClr val="ffffff"/>
                </a:solidFill>
                <a:latin typeface="Trebuchet MS"/>
                <a:cs typeface="IrisUPC"/>
              </a:rPr>
              <a:t>มีเวลาเข้ารับการอบรม </a:t>
            </a:r>
            <a:r>
              <a:rPr b="1" lang="th-TH" sz="6600" spc="-1" strike="noStrike">
                <a:solidFill>
                  <a:srgbClr val="ffffff"/>
                </a:solidFill>
                <a:latin typeface="Trebuchet MS"/>
                <a:ea typeface="IrisUPC"/>
              </a:rPr>
              <a:t>80</a:t>
            </a:r>
            <a:r>
              <a:rPr b="1" lang="en-US" sz="66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  <a:p>
            <a:pPr marL="175680" indent="0">
              <a:lnSpc>
                <a:spcPct val="90000"/>
              </a:lnSpc>
              <a:spcBef>
                <a:spcPts val="16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Trebuchet MS"/>
                <a:ea typeface="IrisUPC"/>
              </a:rPr>
              <a:t>2. </a:t>
            </a:r>
            <a:r>
              <a:rPr b="1" lang="th-TH" sz="6600" spc="-1" strike="noStrike">
                <a:solidFill>
                  <a:srgbClr val="ffffff"/>
                </a:solidFill>
                <a:latin typeface="Trebuchet MS"/>
                <a:cs typeface="IrisUPC"/>
              </a:rPr>
              <a:t>ส่งงานที่วิทยากรให้ </a:t>
            </a:r>
            <a:r>
              <a:rPr b="1" lang="th-TH" sz="6600" spc="-1" strike="noStrike">
                <a:solidFill>
                  <a:srgbClr val="ffffff"/>
                </a:solidFill>
                <a:latin typeface="Trebuchet MS"/>
                <a:ea typeface="IrisUPC"/>
              </a:rPr>
              <a:t>80</a:t>
            </a:r>
            <a:r>
              <a:rPr b="1" lang="en-US" sz="6600" spc="-1" strike="noStrike">
                <a:solidFill>
                  <a:srgbClr val="ffffff"/>
                </a:solidFill>
                <a:latin typeface="Trebuchet MS"/>
              </a:rPr>
              <a:t>%</a:t>
            </a:r>
            <a:r>
              <a:rPr b="1" lang="th-TH" sz="6600" spc="-1" strike="noStrike">
                <a:solidFill>
                  <a:srgbClr val="ffffff"/>
                </a:solidFill>
                <a:latin typeface="Trebuchet MS"/>
                <a:ea typeface="IrisUPC"/>
              </a:rPr>
              <a:t>    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  <a:p>
            <a:pPr marL="175680" indent="0">
              <a:lnSpc>
                <a:spcPct val="60000"/>
              </a:lnSpc>
              <a:spcBef>
                <a:spcPts val="16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Trebuchet MS"/>
                <a:ea typeface="IrisUPC"/>
              </a:rPr>
              <a:t> </a:t>
            </a:r>
            <a:r>
              <a:rPr b="1" lang="th-TH" sz="6600" spc="-1" strike="noStrike">
                <a:solidFill>
                  <a:srgbClr val="ffffff"/>
                </a:solidFill>
                <a:latin typeface="Trebuchet MS"/>
                <a:ea typeface="IrisUPC"/>
              </a:rPr>
              <a:t>3. </a:t>
            </a:r>
            <a:r>
              <a:rPr b="1" lang="th-TH" sz="6600" spc="-1" strike="noStrike">
                <a:solidFill>
                  <a:srgbClr val="ffffff"/>
                </a:solidFill>
                <a:latin typeface="Trebuchet MS"/>
                <a:cs typeface="IrisUPC"/>
              </a:rPr>
              <a:t>คะแนนทดสอบ ผ่าน </a:t>
            </a:r>
            <a:r>
              <a:rPr b="1" lang="th-TH" sz="6600" spc="-1" strike="noStrike">
                <a:solidFill>
                  <a:srgbClr val="ffffff"/>
                </a:solidFill>
                <a:latin typeface="Trebuchet MS"/>
                <a:ea typeface="IrisUPC"/>
              </a:rPr>
              <a:t>80</a:t>
            </a:r>
            <a:r>
              <a:rPr b="1" lang="en-US" sz="6600" spc="-1" strike="noStrike">
                <a:solidFill>
                  <a:srgbClr val="ffffff"/>
                </a:solidFill>
                <a:latin typeface="Trebuchet MS"/>
              </a:rPr>
              <a:t> %</a:t>
            </a:r>
            <a:br>
              <a:rPr sz="6600"/>
            </a:b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  <a:p>
            <a:pPr marL="175680" indent="0">
              <a:lnSpc>
                <a:spcPct val="60000"/>
              </a:lnSpc>
              <a:spcBef>
                <a:spcPts val="16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. </a:t>
            </a:r>
            <a:r>
              <a:rPr b="1" lang="th-TH" sz="6000" spc="-1" strike="noStrike">
                <a:solidFill>
                  <a:srgbClr val="ffffff"/>
                </a:solidFill>
                <a:latin typeface="Trebuchet MS"/>
                <a:cs typeface="IrisUPC"/>
              </a:rPr>
              <a:t>ร่วมกิจกรรมกลุ่มด้วยความตั้งใจ</a:t>
            </a:r>
            <a:br>
              <a:rPr sz="6600"/>
            </a:b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Object 2" descr=""/>
          <p:cNvPicPr/>
          <p:nvPr/>
        </p:nvPicPr>
        <p:blipFill>
          <a:blip r:embed="rId1"/>
          <a:stretch/>
        </p:blipFill>
        <p:spPr>
          <a:xfrm>
            <a:off x="8169120" y="5213520"/>
            <a:ext cx="689040" cy="855360"/>
          </a:xfrm>
          <a:prstGeom prst="rect">
            <a:avLst/>
          </a:prstGeom>
          <a:ln w="0">
            <a:noFill/>
          </a:ln>
        </p:spPr>
      </p:pic>
      <p:pic>
        <p:nvPicPr>
          <p:cNvPr id="329" name="Object 3" descr=""/>
          <p:cNvPicPr/>
          <p:nvPr/>
        </p:nvPicPr>
        <p:blipFill>
          <a:blip r:embed="rId2"/>
          <a:stretch/>
        </p:blipFill>
        <p:spPr>
          <a:xfrm>
            <a:off x="7643880" y="5691240"/>
            <a:ext cx="801720" cy="1166760"/>
          </a:xfrm>
          <a:prstGeom prst="rect">
            <a:avLst/>
          </a:prstGeom>
          <a:ln w="0">
            <a:noFill/>
          </a:ln>
        </p:spPr>
      </p:pic>
      <p:sp>
        <p:nvSpPr>
          <p:cNvPr id="330" name="WordArt 6"/>
          <p:cNvSpPr txBox="1"/>
          <p:nvPr/>
        </p:nvSpPr>
        <p:spPr>
          <a:xfrm>
            <a:off x="611280" y="404640"/>
            <a:ext cx="760392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LilyUPC"/>
              </a:rPr>
              <a:t>วิธีประเมินการผ่านการอบรม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LilyUPC"/>
              <a:ea typeface="LilyUP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-181080" y="0"/>
            <a:ext cx="9577080" cy="6896160"/>
            <a:chOff x="-181080" y="0"/>
            <a:chExt cx="9577080" cy="6896160"/>
          </a:xfrm>
        </p:grpSpPr>
        <p:sp>
          <p:nvSpPr>
            <p:cNvPr id="332" name="AutoShape 3"/>
            <p:cNvSpPr/>
            <p:nvPr/>
          </p:nvSpPr>
          <p:spPr>
            <a:xfrm>
              <a:off x="-181080" y="0"/>
              <a:ext cx="95770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>
              <a:off x="1440" y="5153040"/>
              <a:ext cx="9211320" cy="1450800"/>
            </a:xfrm>
            <a:custGeom>
              <a:avLst/>
              <a:gdLst>
                <a:gd name="textAreaLeft" fmla="*/ 0 w 9211320"/>
                <a:gd name="textAreaRight" fmla="*/ 9211680 w 9211320"/>
                <a:gd name="textAreaTop" fmla="*/ 0 h 1450800"/>
                <a:gd name="textAreaBottom" fmla="*/ 1450800 h 1450800"/>
              </a:gdLst>
              <a:ahLst/>
              <a:rect l="textAreaLeft" t="textAreaTop" r="textAreaRight" b="textAreaBottom"/>
              <a:pathLst>
                <a:path w="5540" h="914">
                  <a:moveTo>
                    <a:pt x="2771" y="190"/>
                  </a:moveTo>
                  <a:lnTo>
                    <a:pt x="2794" y="190"/>
                  </a:lnTo>
                  <a:lnTo>
                    <a:pt x="2822" y="184"/>
                  </a:lnTo>
                  <a:lnTo>
                    <a:pt x="2862" y="179"/>
                  </a:lnTo>
                  <a:lnTo>
                    <a:pt x="2904" y="166"/>
                  </a:lnTo>
                  <a:lnTo>
                    <a:pt x="2955" y="150"/>
                  </a:lnTo>
                  <a:lnTo>
                    <a:pt x="3011" y="126"/>
                  </a:lnTo>
                  <a:lnTo>
                    <a:pt x="3070" y="96"/>
                  </a:lnTo>
                  <a:lnTo>
                    <a:pt x="3135" y="59"/>
                  </a:lnTo>
                  <a:lnTo>
                    <a:pt x="3169" y="40"/>
                  </a:lnTo>
                  <a:lnTo>
                    <a:pt x="3203" y="24"/>
                  </a:lnTo>
                  <a:lnTo>
                    <a:pt x="3239" y="13"/>
                  </a:lnTo>
                  <a:lnTo>
                    <a:pt x="3276" y="5"/>
                  </a:lnTo>
                  <a:lnTo>
                    <a:pt x="3313" y="0"/>
                  </a:lnTo>
                  <a:lnTo>
                    <a:pt x="3352" y="0"/>
                  </a:lnTo>
                  <a:lnTo>
                    <a:pt x="3389" y="0"/>
                  </a:lnTo>
                  <a:lnTo>
                    <a:pt x="3431" y="5"/>
                  </a:lnTo>
                  <a:lnTo>
                    <a:pt x="3471" y="13"/>
                  </a:lnTo>
                  <a:lnTo>
                    <a:pt x="3513" y="21"/>
                  </a:lnTo>
                  <a:lnTo>
                    <a:pt x="3555" y="35"/>
                  </a:lnTo>
                  <a:lnTo>
                    <a:pt x="3600" y="48"/>
                  </a:lnTo>
                  <a:lnTo>
                    <a:pt x="3645" y="61"/>
                  </a:lnTo>
                  <a:lnTo>
                    <a:pt x="3691" y="80"/>
                  </a:lnTo>
                  <a:lnTo>
                    <a:pt x="3738" y="99"/>
                  </a:lnTo>
                  <a:lnTo>
                    <a:pt x="3786" y="118"/>
                  </a:lnTo>
                  <a:lnTo>
                    <a:pt x="3834" y="136"/>
                  </a:lnTo>
                  <a:lnTo>
                    <a:pt x="3885" y="150"/>
                  </a:lnTo>
                  <a:lnTo>
                    <a:pt x="3933" y="163"/>
                  </a:lnTo>
                  <a:lnTo>
                    <a:pt x="3978" y="171"/>
                  </a:lnTo>
                  <a:lnTo>
                    <a:pt x="4026" y="174"/>
                  </a:lnTo>
                  <a:lnTo>
                    <a:pt x="4071" y="176"/>
                  </a:lnTo>
                  <a:lnTo>
                    <a:pt x="4116" y="174"/>
                  </a:lnTo>
                  <a:lnTo>
                    <a:pt x="4161" y="171"/>
                  </a:lnTo>
                  <a:lnTo>
                    <a:pt x="4204" y="163"/>
                  </a:lnTo>
                  <a:lnTo>
                    <a:pt x="4246" y="155"/>
                  </a:lnTo>
                  <a:lnTo>
                    <a:pt x="4285" y="144"/>
                  </a:lnTo>
                  <a:lnTo>
                    <a:pt x="4325" y="131"/>
                  </a:lnTo>
                  <a:lnTo>
                    <a:pt x="4364" y="115"/>
                  </a:lnTo>
                  <a:lnTo>
                    <a:pt x="4401" y="99"/>
                  </a:lnTo>
                  <a:lnTo>
                    <a:pt x="4435" y="83"/>
                  </a:lnTo>
                  <a:lnTo>
                    <a:pt x="4469" y="64"/>
                  </a:lnTo>
                  <a:lnTo>
                    <a:pt x="4503" y="45"/>
                  </a:lnTo>
                  <a:lnTo>
                    <a:pt x="4536" y="32"/>
                  </a:lnTo>
                  <a:lnTo>
                    <a:pt x="4573" y="21"/>
                  </a:lnTo>
                  <a:lnTo>
                    <a:pt x="4607" y="13"/>
                  </a:lnTo>
                  <a:lnTo>
                    <a:pt x="4643" y="8"/>
                  </a:lnTo>
                  <a:lnTo>
                    <a:pt x="4677" y="5"/>
                  </a:lnTo>
                  <a:lnTo>
                    <a:pt x="4714" y="5"/>
                  </a:lnTo>
                  <a:lnTo>
                    <a:pt x="4751" y="8"/>
                  </a:lnTo>
                  <a:lnTo>
                    <a:pt x="4784" y="13"/>
                  </a:lnTo>
                  <a:lnTo>
                    <a:pt x="4821" y="21"/>
                  </a:lnTo>
                  <a:lnTo>
                    <a:pt x="4855" y="29"/>
                  </a:lnTo>
                  <a:lnTo>
                    <a:pt x="4889" y="43"/>
                  </a:lnTo>
                  <a:lnTo>
                    <a:pt x="4920" y="56"/>
                  </a:lnTo>
                  <a:lnTo>
                    <a:pt x="4951" y="72"/>
                  </a:lnTo>
                  <a:lnTo>
                    <a:pt x="4982" y="88"/>
                  </a:lnTo>
                  <a:lnTo>
                    <a:pt x="5010" y="107"/>
                  </a:lnTo>
                  <a:lnTo>
                    <a:pt x="5033" y="120"/>
                  </a:lnTo>
                  <a:lnTo>
                    <a:pt x="5058" y="134"/>
                  </a:lnTo>
                  <a:lnTo>
                    <a:pt x="5086" y="147"/>
                  </a:lnTo>
                  <a:lnTo>
                    <a:pt x="5120" y="160"/>
                  </a:lnTo>
                  <a:lnTo>
                    <a:pt x="5154" y="171"/>
                  </a:lnTo>
                  <a:lnTo>
                    <a:pt x="5190" y="182"/>
                  </a:lnTo>
                  <a:lnTo>
                    <a:pt x="5227" y="192"/>
                  </a:lnTo>
                  <a:lnTo>
                    <a:pt x="5264" y="200"/>
                  </a:lnTo>
                  <a:lnTo>
                    <a:pt x="5303" y="206"/>
                  </a:lnTo>
                  <a:lnTo>
                    <a:pt x="5340" y="211"/>
                  </a:lnTo>
                  <a:lnTo>
                    <a:pt x="5379" y="214"/>
                  </a:lnTo>
                  <a:lnTo>
                    <a:pt x="5416" y="214"/>
                  </a:lnTo>
                  <a:lnTo>
                    <a:pt x="5450" y="214"/>
                  </a:lnTo>
                  <a:lnTo>
                    <a:pt x="5484" y="208"/>
                  </a:lnTo>
                  <a:lnTo>
                    <a:pt x="5512" y="200"/>
                  </a:lnTo>
                  <a:lnTo>
                    <a:pt x="5540" y="190"/>
                  </a:lnTo>
                  <a:lnTo>
                    <a:pt x="5540" y="395"/>
                  </a:lnTo>
                  <a:lnTo>
                    <a:pt x="5520" y="371"/>
                  </a:lnTo>
                  <a:lnTo>
                    <a:pt x="5498" y="347"/>
                  </a:lnTo>
                  <a:lnTo>
                    <a:pt x="5472" y="329"/>
                  </a:lnTo>
                  <a:lnTo>
                    <a:pt x="5444" y="313"/>
                  </a:lnTo>
                  <a:lnTo>
                    <a:pt x="5416" y="299"/>
                  </a:lnTo>
                  <a:lnTo>
                    <a:pt x="5385" y="289"/>
                  </a:lnTo>
                  <a:lnTo>
                    <a:pt x="5354" y="280"/>
                  </a:lnTo>
                  <a:lnTo>
                    <a:pt x="5323" y="275"/>
                  </a:lnTo>
                  <a:lnTo>
                    <a:pt x="5289" y="272"/>
                  </a:lnTo>
                  <a:lnTo>
                    <a:pt x="5258" y="272"/>
                  </a:lnTo>
                  <a:lnTo>
                    <a:pt x="5224" y="278"/>
                  </a:lnTo>
                  <a:lnTo>
                    <a:pt x="5193" y="286"/>
                  </a:lnTo>
                  <a:lnTo>
                    <a:pt x="5162" y="297"/>
                  </a:lnTo>
                  <a:lnTo>
                    <a:pt x="5134" y="310"/>
                  </a:lnTo>
                  <a:lnTo>
                    <a:pt x="5106" y="329"/>
                  </a:lnTo>
                  <a:lnTo>
                    <a:pt x="5080" y="350"/>
                  </a:lnTo>
                  <a:lnTo>
                    <a:pt x="5049" y="387"/>
                  </a:lnTo>
                  <a:lnTo>
                    <a:pt x="5021" y="435"/>
                  </a:lnTo>
                  <a:lnTo>
                    <a:pt x="5002" y="489"/>
                  </a:lnTo>
                  <a:lnTo>
                    <a:pt x="4990" y="545"/>
                  </a:lnTo>
                  <a:lnTo>
                    <a:pt x="4987" y="604"/>
                  </a:lnTo>
                  <a:lnTo>
                    <a:pt x="4999" y="660"/>
                  </a:lnTo>
                  <a:lnTo>
                    <a:pt x="5021" y="713"/>
                  </a:lnTo>
                  <a:lnTo>
                    <a:pt x="5061" y="761"/>
                  </a:lnTo>
                  <a:lnTo>
                    <a:pt x="5111" y="799"/>
                  </a:lnTo>
                  <a:lnTo>
                    <a:pt x="5162" y="823"/>
                  </a:lnTo>
                  <a:lnTo>
                    <a:pt x="5213" y="834"/>
                  </a:lnTo>
                  <a:lnTo>
                    <a:pt x="5261" y="831"/>
                  </a:lnTo>
                  <a:lnTo>
                    <a:pt x="5306" y="820"/>
                  </a:lnTo>
                  <a:lnTo>
                    <a:pt x="5346" y="801"/>
                  </a:lnTo>
                  <a:lnTo>
                    <a:pt x="5374" y="775"/>
                  </a:lnTo>
                  <a:lnTo>
                    <a:pt x="5396" y="748"/>
                  </a:lnTo>
                  <a:lnTo>
                    <a:pt x="5408" y="716"/>
                  </a:lnTo>
                  <a:lnTo>
                    <a:pt x="5416" y="681"/>
                  </a:lnTo>
                  <a:lnTo>
                    <a:pt x="5416" y="647"/>
                  </a:lnTo>
                  <a:lnTo>
                    <a:pt x="5410" y="612"/>
                  </a:lnTo>
                  <a:lnTo>
                    <a:pt x="5399" y="580"/>
                  </a:lnTo>
                  <a:lnTo>
                    <a:pt x="5379" y="553"/>
                  </a:lnTo>
                  <a:lnTo>
                    <a:pt x="5351" y="532"/>
                  </a:lnTo>
                  <a:lnTo>
                    <a:pt x="5317" y="518"/>
                  </a:lnTo>
                  <a:lnTo>
                    <a:pt x="5278" y="518"/>
                  </a:lnTo>
                  <a:lnTo>
                    <a:pt x="5244" y="529"/>
                  </a:lnTo>
                  <a:lnTo>
                    <a:pt x="5219" y="553"/>
                  </a:lnTo>
                  <a:lnTo>
                    <a:pt x="5205" y="585"/>
                  </a:lnTo>
                  <a:lnTo>
                    <a:pt x="5196" y="617"/>
                  </a:lnTo>
                  <a:lnTo>
                    <a:pt x="5202" y="647"/>
                  </a:lnTo>
                  <a:lnTo>
                    <a:pt x="5216" y="671"/>
                  </a:lnTo>
                  <a:lnTo>
                    <a:pt x="5241" y="684"/>
                  </a:lnTo>
                  <a:lnTo>
                    <a:pt x="5219" y="681"/>
                  </a:lnTo>
                  <a:lnTo>
                    <a:pt x="5196" y="671"/>
                  </a:lnTo>
                  <a:lnTo>
                    <a:pt x="5176" y="652"/>
                  </a:lnTo>
                  <a:lnTo>
                    <a:pt x="5162" y="628"/>
                  </a:lnTo>
                  <a:lnTo>
                    <a:pt x="5151" y="596"/>
                  </a:lnTo>
                  <a:lnTo>
                    <a:pt x="5151" y="564"/>
                  </a:lnTo>
                  <a:lnTo>
                    <a:pt x="5157" y="529"/>
                  </a:lnTo>
                  <a:lnTo>
                    <a:pt x="5176" y="494"/>
                  </a:lnTo>
                  <a:lnTo>
                    <a:pt x="5207" y="465"/>
                  </a:lnTo>
                  <a:lnTo>
                    <a:pt x="5241" y="446"/>
                  </a:lnTo>
                  <a:lnTo>
                    <a:pt x="5281" y="435"/>
                  </a:lnTo>
                  <a:lnTo>
                    <a:pt x="5320" y="435"/>
                  </a:lnTo>
                  <a:lnTo>
                    <a:pt x="5360" y="446"/>
                  </a:lnTo>
                  <a:lnTo>
                    <a:pt x="5396" y="462"/>
                  </a:lnTo>
                  <a:lnTo>
                    <a:pt x="5427" y="486"/>
                  </a:lnTo>
                  <a:lnTo>
                    <a:pt x="5455" y="516"/>
                  </a:lnTo>
                  <a:lnTo>
                    <a:pt x="5472" y="548"/>
                  </a:lnTo>
                  <a:lnTo>
                    <a:pt x="5486" y="582"/>
                  </a:lnTo>
                  <a:lnTo>
                    <a:pt x="5495" y="625"/>
                  </a:lnTo>
                  <a:lnTo>
                    <a:pt x="5498" y="668"/>
                  </a:lnTo>
                  <a:lnTo>
                    <a:pt x="5492" y="713"/>
                  </a:lnTo>
                  <a:lnTo>
                    <a:pt x="5481" y="756"/>
                  </a:lnTo>
                  <a:lnTo>
                    <a:pt x="5461" y="799"/>
                  </a:lnTo>
                  <a:lnTo>
                    <a:pt x="5430" y="834"/>
                  </a:lnTo>
                  <a:lnTo>
                    <a:pt x="5391" y="866"/>
                  </a:lnTo>
                  <a:lnTo>
                    <a:pt x="5348" y="890"/>
                  </a:lnTo>
                  <a:lnTo>
                    <a:pt x="5303" y="906"/>
                  </a:lnTo>
                  <a:lnTo>
                    <a:pt x="5255" y="914"/>
                  </a:lnTo>
                  <a:lnTo>
                    <a:pt x="5207" y="914"/>
                  </a:lnTo>
                  <a:lnTo>
                    <a:pt x="5159" y="906"/>
                  </a:lnTo>
                  <a:lnTo>
                    <a:pt x="5111" y="890"/>
                  </a:lnTo>
                  <a:lnTo>
                    <a:pt x="5066" y="866"/>
                  </a:lnTo>
                  <a:lnTo>
                    <a:pt x="5049" y="855"/>
                  </a:lnTo>
                  <a:lnTo>
                    <a:pt x="5033" y="842"/>
                  </a:lnTo>
                  <a:lnTo>
                    <a:pt x="5018" y="831"/>
                  </a:lnTo>
                  <a:lnTo>
                    <a:pt x="5004" y="820"/>
                  </a:lnTo>
                  <a:lnTo>
                    <a:pt x="4993" y="807"/>
                  </a:lnTo>
                  <a:lnTo>
                    <a:pt x="4982" y="793"/>
                  </a:lnTo>
                  <a:lnTo>
                    <a:pt x="4968" y="780"/>
                  </a:lnTo>
                  <a:lnTo>
                    <a:pt x="4956" y="767"/>
                  </a:lnTo>
                  <a:lnTo>
                    <a:pt x="4928" y="753"/>
                  </a:lnTo>
                  <a:lnTo>
                    <a:pt x="4900" y="743"/>
                  </a:lnTo>
                  <a:lnTo>
                    <a:pt x="4872" y="732"/>
                  </a:lnTo>
                  <a:lnTo>
                    <a:pt x="4841" y="721"/>
                  </a:lnTo>
                  <a:lnTo>
                    <a:pt x="4810" y="713"/>
                  </a:lnTo>
                  <a:lnTo>
                    <a:pt x="4779" y="708"/>
                  </a:lnTo>
                  <a:lnTo>
                    <a:pt x="4748" y="703"/>
                  </a:lnTo>
                  <a:lnTo>
                    <a:pt x="4717" y="700"/>
                  </a:lnTo>
                  <a:lnTo>
                    <a:pt x="4686" y="700"/>
                  </a:lnTo>
                  <a:lnTo>
                    <a:pt x="4655" y="700"/>
                  </a:lnTo>
                  <a:lnTo>
                    <a:pt x="4621" y="703"/>
                  </a:lnTo>
                  <a:lnTo>
                    <a:pt x="4590" y="708"/>
                  </a:lnTo>
                  <a:lnTo>
                    <a:pt x="4559" y="716"/>
                  </a:lnTo>
                  <a:lnTo>
                    <a:pt x="4528" y="727"/>
                  </a:lnTo>
                  <a:lnTo>
                    <a:pt x="4500" y="740"/>
                  </a:lnTo>
                  <a:lnTo>
                    <a:pt x="4469" y="756"/>
                  </a:lnTo>
                  <a:lnTo>
                    <a:pt x="4435" y="775"/>
                  </a:lnTo>
                  <a:lnTo>
                    <a:pt x="4401" y="793"/>
                  </a:lnTo>
                  <a:lnTo>
                    <a:pt x="4364" y="809"/>
                  </a:lnTo>
                  <a:lnTo>
                    <a:pt x="4325" y="823"/>
                  </a:lnTo>
                  <a:lnTo>
                    <a:pt x="4285" y="836"/>
                  </a:lnTo>
                  <a:lnTo>
                    <a:pt x="4246" y="847"/>
                  </a:lnTo>
                  <a:lnTo>
                    <a:pt x="4204" y="858"/>
                  </a:lnTo>
                  <a:lnTo>
                    <a:pt x="4161" y="863"/>
                  </a:lnTo>
                  <a:lnTo>
                    <a:pt x="4116" y="866"/>
                  </a:lnTo>
                  <a:lnTo>
                    <a:pt x="4071" y="868"/>
                  </a:lnTo>
                  <a:lnTo>
                    <a:pt x="4026" y="866"/>
                  </a:lnTo>
                  <a:lnTo>
                    <a:pt x="3978" y="863"/>
                  </a:lnTo>
                  <a:lnTo>
                    <a:pt x="3933" y="855"/>
                  </a:lnTo>
                  <a:lnTo>
                    <a:pt x="3885" y="844"/>
                  </a:lnTo>
                  <a:lnTo>
                    <a:pt x="3834" y="828"/>
                  </a:lnTo>
                  <a:lnTo>
                    <a:pt x="3786" y="809"/>
                  </a:lnTo>
                  <a:lnTo>
                    <a:pt x="3738" y="791"/>
                  </a:lnTo>
                  <a:lnTo>
                    <a:pt x="3691" y="772"/>
                  </a:lnTo>
                  <a:lnTo>
                    <a:pt x="3645" y="753"/>
                  </a:lnTo>
                  <a:lnTo>
                    <a:pt x="3600" y="740"/>
                  </a:lnTo>
                  <a:lnTo>
                    <a:pt x="3555" y="727"/>
                  </a:lnTo>
                  <a:lnTo>
                    <a:pt x="3513" y="713"/>
                  </a:lnTo>
                  <a:lnTo>
                    <a:pt x="3471" y="705"/>
                  </a:lnTo>
                  <a:lnTo>
                    <a:pt x="3431" y="697"/>
                  </a:lnTo>
                  <a:lnTo>
                    <a:pt x="3389" y="692"/>
                  </a:lnTo>
                  <a:lnTo>
                    <a:pt x="3352" y="692"/>
                  </a:lnTo>
                  <a:lnTo>
                    <a:pt x="3313" y="692"/>
                  </a:lnTo>
                  <a:lnTo>
                    <a:pt x="3276" y="697"/>
                  </a:lnTo>
                  <a:lnTo>
                    <a:pt x="3239" y="705"/>
                  </a:lnTo>
                  <a:lnTo>
                    <a:pt x="3203" y="716"/>
                  </a:lnTo>
                  <a:lnTo>
                    <a:pt x="3169" y="732"/>
                  </a:lnTo>
                  <a:lnTo>
                    <a:pt x="3135" y="751"/>
                  </a:lnTo>
                  <a:lnTo>
                    <a:pt x="3070" y="788"/>
                  </a:lnTo>
                  <a:lnTo>
                    <a:pt x="3011" y="820"/>
                  </a:lnTo>
                  <a:lnTo>
                    <a:pt x="2955" y="844"/>
                  </a:lnTo>
                  <a:lnTo>
                    <a:pt x="2904" y="860"/>
                  </a:lnTo>
                  <a:lnTo>
                    <a:pt x="2862" y="874"/>
                  </a:lnTo>
                  <a:lnTo>
                    <a:pt x="2822" y="879"/>
                  </a:lnTo>
                  <a:lnTo>
                    <a:pt x="2794" y="884"/>
                  </a:lnTo>
                  <a:lnTo>
                    <a:pt x="2771" y="884"/>
                  </a:lnTo>
                  <a:lnTo>
                    <a:pt x="2749" y="884"/>
                  </a:lnTo>
                  <a:lnTo>
                    <a:pt x="2721" y="879"/>
                  </a:lnTo>
                  <a:lnTo>
                    <a:pt x="2684" y="874"/>
                  </a:lnTo>
                  <a:lnTo>
                    <a:pt x="2639" y="860"/>
                  </a:lnTo>
                  <a:lnTo>
                    <a:pt x="2588" y="844"/>
                  </a:lnTo>
                  <a:lnTo>
                    <a:pt x="2532" y="820"/>
                  </a:lnTo>
                  <a:lnTo>
                    <a:pt x="2473" y="788"/>
                  </a:lnTo>
                  <a:lnTo>
                    <a:pt x="2408" y="751"/>
                  </a:lnTo>
                  <a:lnTo>
                    <a:pt x="2374" y="732"/>
                  </a:lnTo>
                  <a:lnTo>
                    <a:pt x="2340" y="716"/>
                  </a:lnTo>
                  <a:lnTo>
                    <a:pt x="2303" y="705"/>
                  </a:lnTo>
                  <a:lnTo>
                    <a:pt x="2267" y="697"/>
                  </a:lnTo>
                  <a:lnTo>
                    <a:pt x="2230" y="692"/>
                  </a:lnTo>
                  <a:lnTo>
                    <a:pt x="2191" y="692"/>
                  </a:lnTo>
                  <a:lnTo>
                    <a:pt x="2154" y="692"/>
                  </a:lnTo>
                  <a:lnTo>
                    <a:pt x="2112" y="697"/>
                  </a:lnTo>
                  <a:lnTo>
                    <a:pt x="2072" y="705"/>
                  </a:lnTo>
                  <a:lnTo>
                    <a:pt x="2030" y="713"/>
                  </a:lnTo>
                  <a:lnTo>
                    <a:pt x="1988" y="727"/>
                  </a:lnTo>
                  <a:lnTo>
                    <a:pt x="1943" y="740"/>
                  </a:lnTo>
                  <a:lnTo>
                    <a:pt x="1897" y="753"/>
                  </a:lnTo>
                  <a:lnTo>
                    <a:pt x="1852" y="772"/>
                  </a:lnTo>
                  <a:lnTo>
                    <a:pt x="1804" y="791"/>
                  </a:lnTo>
                  <a:lnTo>
                    <a:pt x="1756" y="809"/>
                  </a:lnTo>
                  <a:lnTo>
                    <a:pt x="1709" y="828"/>
                  </a:lnTo>
                  <a:lnTo>
                    <a:pt x="1658" y="844"/>
                  </a:lnTo>
                  <a:lnTo>
                    <a:pt x="1610" y="855"/>
                  </a:lnTo>
                  <a:lnTo>
                    <a:pt x="1565" y="863"/>
                  </a:lnTo>
                  <a:lnTo>
                    <a:pt x="1517" y="866"/>
                  </a:lnTo>
                  <a:lnTo>
                    <a:pt x="1472" y="868"/>
                  </a:lnTo>
                  <a:lnTo>
                    <a:pt x="1427" y="866"/>
                  </a:lnTo>
                  <a:lnTo>
                    <a:pt x="1381" y="863"/>
                  </a:lnTo>
                  <a:lnTo>
                    <a:pt x="1339" y="858"/>
                  </a:lnTo>
                  <a:lnTo>
                    <a:pt x="1297" y="847"/>
                  </a:lnTo>
                  <a:lnTo>
                    <a:pt x="1255" y="836"/>
                  </a:lnTo>
                  <a:lnTo>
                    <a:pt x="1215" y="823"/>
                  </a:lnTo>
                  <a:lnTo>
                    <a:pt x="1176" y="809"/>
                  </a:lnTo>
                  <a:lnTo>
                    <a:pt x="1139" y="793"/>
                  </a:lnTo>
                  <a:lnTo>
                    <a:pt x="1105" y="775"/>
                  </a:lnTo>
                  <a:lnTo>
                    <a:pt x="1071" y="756"/>
                  </a:lnTo>
                  <a:lnTo>
                    <a:pt x="1040" y="740"/>
                  </a:lnTo>
                  <a:lnTo>
                    <a:pt x="1012" y="727"/>
                  </a:lnTo>
                  <a:lnTo>
                    <a:pt x="981" y="716"/>
                  </a:lnTo>
                  <a:lnTo>
                    <a:pt x="950" y="708"/>
                  </a:lnTo>
                  <a:lnTo>
                    <a:pt x="919" y="703"/>
                  </a:lnTo>
                  <a:lnTo>
                    <a:pt x="885" y="700"/>
                  </a:lnTo>
                  <a:lnTo>
                    <a:pt x="854" y="700"/>
                  </a:lnTo>
                  <a:lnTo>
                    <a:pt x="823" y="700"/>
                  </a:lnTo>
                  <a:lnTo>
                    <a:pt x="792" y="703"/>
                  </a:lnTo>
                  <a:lnTo>
                    <a:pt x="761" y="708"/>
                  </a:lnTo>
                  <a:lnTo>
                    <a:pt x="730" y="713"/>
                  </a:lnTo>
                  <a:lnTo>
                    <a:pt x="699" y="721"/>
                  </a:lnTo>
                  <a:lnTo>
                    <a:pt x="668" y="732"/>
                  </a:lnTo>
                  <a:lnTo>
                    <a:pt x="640" y="743"/>
                  </a:lnTo>
                  <a:lnTo>
                    <a:pt x="612" y="753"/>
                  </a:lnTo>
                  <a:lnTo>
                    <a:pt x="584" y="767"/>
                  </a:lnTo>
                  <a:lnTo>
                    <a:pt x="572" y="780"/>
                  </a:lnTo>
                  <a:lnTo>
                    <a:pt x="558" y="793"/>
                  </a:lnTo>
                  <a:lnTo>
                    <a:pt x="547" y="807"/>
                  </a:lnTo>
                  <a:lnTo>
                    <a:pt x="536" y="820"/>
                  </a:lnTo>
                  <a:lnTo>
                    <a:pt x="522" y="831"/>
                  </a:lnTo>
                  <a:lnTo>
                    <a:pt x="507" y="842"/>
                  </a:lnTo>
                  <a:lnTo>
                    <a:pt x="491" y="855"/>
                  </a:lnTo>
                  <a:lnTo>
                    <a:pt x="474" y="866"/>
                  </a:lnTo>
                  <a:lnTo>
                    <a:pt x="429" y="890"/>
                  </a:lnTo>
                  <a:lnTo>
                    <a:pt x="381" y="906"/>
                  </a:lnTo>
                  <a:lnTo>
                    <a:pt x="333" y="914"/>
                  </a:lnTo>
                  <a:lnTo>
                    <a:pt x="285" y="914"/>
                  </a:lnTo>
                  <a:lnTo>
                    <a:pt x="237" y="906"/>
                  </a:lnTo>
                  <a:lnTo>
                    <a:pt x="192" y="890"/>
                  </a:lnTo>
                  <a:lnTo>
                    <a:pt x="149" y="866"/>
                  </a:lnTo>
                  <a:lnTo>
                    <a:pt x="110" y="834"/>
                  </a:lnTo>
                  <a:lnTo>
                    <a:pt x="79" y="799"/>
                  </a:lnTo>
                  <a:lnTo>
                    <a:pt x="59" y="756"/>
                  </a:lnTo>
                  <a:lnTo>
                    <a:pt x="48" y="713"/>
                  </a:lnTo>
                  <a:lnTo>
                    <a:pt x="42" y="668"/>
                  </a:lnTo>
                  <a:lnTo>
                    <a:pt x="45" y="625"/>
                  </a:lnTo>
                  <a:lnTo>
                    <a:pt x="54" y="582"/>
                  </a:lnTo>
                  <a:lnTo>
                    <a:pt x="68" y="548"/>
                  </a:lnTo>
                  <a:lnTo>
                    <a:pt x="85" y="516"/>
                  </a:lnTo>
                  <a:lnTo>
                    <a:pt x="113" y="486"/>
                  </a:lnTo>
                  <a:lnTo>
                    <a:pt x="144" y="462"/>
                  </a:lnTo>
                  <a:lnTo>
                    <a:pt x="180" y="446"/>
                  </a:lnTo>
                  <a:lnTo>
                    <a:pt x="220" y="435"/>
                  </a:lnTo>
                  <a:lnTo>
                    <a:pt x="259" y="435"/>
                  </a:lnTo>
                  <a:lnTo>
                    <a:pt x="299" y="446"/>
                  </a:lnTo>
                  <a:lnTo>
                    <a:pt x="333" y="465"/>
                  </a:lnTo>
                  <a:lnTo>
                    <a:pt x="364" y="494"/>
                  </a:lnTo>
                  <a:lnTo>
                    <a:pt x="383" y="529"/>
                  </a:lnTo>
                  <a:lnTo>
                    <a:pt x="389" y="564"/>
                  </a:lnTo>
                  <a:lnTo>
                    <a:pt x="389" y="596"/>
                  </a:lnTo>
                  <a:lnTo>
                    <a:pt x="378" y="628"/>
                  </a:lnTo>
                  <a:lnTo>
                    <a:pt x="364" y="652"/>
                  </a:lnTo>
                  <a:lnTo>
                    <a:pt x="344" y="671"/>
                  </a:lnTo>
                  <a:lnTo>
                    <a:pt x="321" y="681"/>
                  </a:lnTo>
                  <a:lnTo>
                    <a:pt x="299" y="684"/>
                  </a:lnTo>
                  <a:lnTo>
                    <a:pt x="324" y="671"/>
                  </a:lnTo>
                  <a:lnTo>
                    <a:pt x="338" y="647"/>
                  </a:lnTo>
                  <a:lnTo>
                    <a:pt x="344" y="617"/>
                  </a:lnTo>
                  <a:lnTo>
                    <a:pt x="338" y="585"/>
                  </a:lnTo>
                  <a:lnTo>
                    <a:pt x="321" y="553"/>
                  </a:lnTo>
                  <a:lnTo>
                    <a:pt x="296" y="529"/>
                  </a:lnTo>
                  <a:lnTo>
                    <a:pt x="262" y="518"/>
                  </a:lnTo>
                  <a:lnTo>
                    <a:pt x="223" y="518"/>
                  </a:lnTo>
                  <a:lnTo>
                    <a:pt x="189" y="532"/>
                  </a:lnTo>
                  <a:lnTo>
                    <a:pt x="161" y="553"/>
                  </a:lnTo>
                  <a:lnTo>
                    <a:pt x="141" y="580"/>
                  </a:lnTo>
                  <a:lnTo>
                    <a:pt x="130" y="612"/>
                  </a:lnTo>
                  <a:lnTo>
                    <a:pt x="124" y="647"/>
                  </a:lnTo>
                  <a:lnTo>
                    <a:pt x="124" y="681"/>
                  </a:lnTo>
                  <a:lnTo>
                    <a:pt x="132" y="716"/>
                  </a:lnTo>
                  <a:lnTo>
                    <a:pt x="144" y="748"/>
                  </a:lnTo>
                  <a:lnTo>
                    <a:pt x="166" y="775"/>
                  </a:lnTo>
                  <a:lnTo>
                    <a:pt x="194" y="801"/>
                  </a:lnTo>
                  <a:lnTo>
                    <a:pt x="234" y="820"/>
                  </a:lnTo>
                  <a:lnTo>
                    <a:pt x="279" y="831"/>
                  </a:lnTo>
                  <a:lnTo>
                    <a:pt x="327" y="834"/>
                  </a:lnTo>
                  <a:lnTo>
                    <a:pt x="378" y="823"/>
                  </a:lnTo>
                  <a:lnTo>
                    <a:pt x="429" y="799"/>
                  </a:lnTo>
                  <a:lnTo>
                    <a:pt x="479" y="761"/>
                  </a:lnTo>
                  <a:lnTo>
                    <a:pt x="519" y="713"/>
                  </a:lnTo>
                  <a:lnTo>
                    <a:pt x="541" y="660"/>
                  </a:lnTo>
                  <a:lnTo>
                    <a:pt x="553" y="604"/>
                  </a:lnTo>
                  <a:lnTo>
                    <a:pt x="550" y="545"/>
                  </a:lnTo>
                  <a:lnTo>
                    <a:pt x="538" y="489"/>
                  </a:lnTo>
                  <a:lnTo>
                    <a:pt x="519" y="435"/>
                  </a:lnTo>
                  <a:lnTo>
                    <a:pt x="491" y="387"/>
                  </a:lnTo>
                  <a:lnTo>
                    <a:pt x="460" y="350"/>
                  </a:lnTo>
                  <a:lnTo>
                    <a:pt x="434" y="329"/>
                  </a:lnTo>
                  <a:lnTo>
                    <a:pt x="406" y="310"/>
                  </a:lnTo>
                  <a:lnTo>
                    <a:pt x="378" y="297"/>
                  </a:lnTo>
                  <a:lnTo>
                    <a:pt x="347" y="286"/>
                  </a:lnTo>
                  <a:lnTo>
                    <a:pt x="316" y="278"/>
                  </a:lnTo>
                  <a:lnTo>
                    <a:pt x="282" y="272"/>
                  </a:lnTo>
                  <a:lnTo>
                    <a:pt x="251" y="272"/>
                  </a:lnTo>
                  <a:lnTo>
                    <a:pt x="217" y="275"/>
                  </a:lnTo>
                  <a:lnTo>
                    <a:pt x="186" y="280"/>
                  </a:lnTo>
                  <a:lnTo>
                    <a:pt x="155" y="289"/>
                  </a:lnTo>
                  <a:lnTo>
                    <a:pt x="124" y="299"/>
                  </a:lnTo>
                  <a:lnTo>
                    <a:pt x="96" y="313"/>
                  </a:lnTo>
                  <a:lnTo>
                    <a:pt x="68" y="329"/>
                  </a:lnTo>
                  <a:lnTo>
                    <a:pt x="42" y="347"/>
                  </a:lnTo>
                  <a:lnTo>
                    <a:pt x="20" y="371"/>
                  </a:lnTo>
                  <a:lnTo>
                    <a:pt x="0" y="395"/>
                  </a:lnTo>
                  <a:lnTo>
                    <a:pt x="0" y="190"/>
                  </a:lnTo>
                  <a:lnTo>
                    <a:pt x="28" y="200"/>
                  </a:lnTo>
                  <a:lnTo>
                    <a:pt x="56" y="208"/>
                  </a:lnTo>
                  <a:lnTo>
                    <a:pt x="90" y="214"/>
                  </a:lnTo>
                  <a:lnTo>
                    <a:pt x="124" y="214"/>
                  </a:lnTo>
                  <a:lnTo>
                    <a:pt x="161" y="214"/>
                  </a:lnTo>
                  <a:lnTo>
                    <a:pt x="200" y="211"/>
                  </a:lnTo>
                  <a:lnTo>
                    <a:pt x="237" y="206"/>
                  </a:lnTo>
                  <a:lnTo>
                    <a:pt x="276" y="200"/>
                  </a:lnTo>
                  <a:lnTo>
                    <a:pt x="313" y="192"/>
                  </a:lnTo>
                  <a:lnTo>
                    <a:pt x="350" y="182"/>
                  </a:lnTo>
                  <a:lnTo>
                    <a:pt x="386" y="171"/>
                  </a:lnTo>
                  <a:lnTo>
                    <a:pt x="420" y="160"/>
                  </a:lnTo>
                  <a:lnTo>
                    <a:pt x="454" y="147"/>
                  </a:lnTo>
                  <a:lnTo>
                    <a:pt x="482" y="134"/>
                  </a:lnTo>
                  <a:lnTo>
                    <a:pt x="507" y="120"/>
                  </a:lnTo>
                  <a:lnTo>
                    <a:pt x="530" y="107"/>
                  </a:lnTo>
                  <a:lnTo>
                    <a:pt x="558" y="88"/>
                  </a:lnTo>
                  <a:lnTo>
                    <a:pt x="589" y="72"/>
                  </a:lnTo>
                  <a:lnTo>
                    <a:pt x="620" y="56"/>
                  </a:lnTo>
                  <a:lnTo>
                    <a:pt x="654" y="43"/>
                  </a:lnTo>
                  <a:lnTo>
                    <a:pt x="685" y="29"/>
                  </a:lnTo>
                  <a:lnTo>
                    <a:pt x="719" y="21"/>
                  </a:lnTo>
                  <a:lnTo>
                    <a:pt x="756" y="13"/>
                  </a:lnTo>
                  <a:lnTo>
                    <a:pt x="789" y="8"/>
                  </a:lnTo>
                  <a:lnTo>
                    <a:pt x="826" y="5"/>
                  </a:lnTo>
                  <a:lnTo>
                    <a:pt x="863" y="5"/>
                  </a:lnTo>
                  <a:lnTo>
                    <a:pt x="897" y="8"/>
                  </a:lnTo>
                  <a:lnTo>
                    <a:pt x="933" y="13"/>
                  </a:lnTo>
                  <a:lnTo>
                    <a:pt x="967" y="21"/>
                  </a:lnTo>
                  <a:lnTo>
                    <a:pt x="1004" y="32"/>
                  </a:lnTo>
                  <a:lnTo>
                    <a:pt x="1037" y="45"/>
                  </a:lnTo>
                  <a:lnTo>
                    <a:pt x="1071" y="64"/>
                  </a:lnTo>
                  <a:lnTo>
                    <a:pt x="1105" y="83"/>
                  </a:lnTo>
                  <a:lnTo>
                    <a:pt x="1139" y="99"/>
                  </a:lnTo>
                  <a:lnTo>
                    <a:pt x="1176" y="115"/>
                  </a:lnTo>
                  <a:lnTo>
                    <a:pt x="1215" y="131"/>
                  </a:lnTo>
                  <a:lnTo>
                    <a:pt x="1255" y="144"/>
                  </a:lnTo>
                  <a:lnTo>
                    <a:pt x="1297" y="155"/>
                  </a:lnTo>
                  <a:lnTo>
                    <a:pt x="1339" y="163"/>
                  </a:lnTo>
                  <a:lnTo>
                    <a:pt x="1381" y="171"/>
                  </a:lnTo>
                  <a:lnTo>
                    <a:pt x="1427" y="174"/>
                  </a:lnTo>
                  <a:lnTo>
                    <a:pt x="1472" y="176"/>
                  </a:lnTo>
                  <a:lnTo>
                    <a:pt x="1517" y="174"/>
                  </a:lnTo>
                  <a:lnTo>
                    <a:pt x="1565" y="171"/>
                  </a:lnTo>
                  <a:lnTo>
                    <a:pt x="1610" y="163"/>
                  </a:lnTo>
                  <a:lnTo>
                    <a:pt x="1658" y="150"/>
                  </a:lnTo>
                  <a:lnTo>
                    <a:pt x="1709" y="136"/>
                  </a:lnTo>
                  <a:lnTo>
                    <a:pt x="1756" y="118"/>
                  </a:lnTo>
                  <a:lnTo>
                    <a:pt x="1804" y="99"/>
                  </a:lnTo>
                  <a:lnTo>
                    <a:pt x="1852" y="80"/>
                  </a:lnTo>
                  <a:lnTo>
                    <a:pt x="1897" y="61"/>
                  </a:lnTo>
                  <a:lnTo>
                    <a:pt x="1943" y="48"/>
                  </a:lnTo>
                  <a:lnTo>
                    <a:pt x="1988" y="35"/>
                  </a:lnTo>
                  <a:lnTo>
                    <a:pt x="2030" y="21"/>
                  </a:lnTo>
                  <a:lnTo>
                    <a:pt x="2072" y="13"/>
                  </a:lnTo>
                  <a:lnTo>
                    <a:pt x="2112" y="5"/>
                  </a:lnTo>
                  <a:lnTo>
                    <a:pt x="2154" y="0"/>
                  </a:lnTo>
                  <a:lnTo>
                    <a:pt x="2191" y="0"/>
                  </a:lnTo>
                  <a:lnTo>
                    <a:pt x="2230" y="0"/>
                  </a:lnTo>
                  <a:lnTo>
                    <a:pt x="2267" y="5"/>
                  </a:lnTo>
                  <a:lnTo>
                    <a:pt x="2303" y="13"/>
                  </a:lnTo>
                  <a:lnTo>
                    <a:pt x="2340" y="24"/>
                  </a:lnTo>
                  <a:lnTo>
                    <a:pt x="2374" y="40"/>
                  </a:lnTo>
                  <a:lnTo>
                    <a:pt x="2408" y="59"/>
                  </a:lnTo>
                  <a:lnTo>
                    <a:pt x="2473" y="96"/>
                  </a:lnTo>
                  <a:lnTo>
                    <a:pt x="2532" y="126"/>
                  </a:lnTo>
                  <a:lnTo>
                    <a:pt x="2588" y="150"/>
                  </a:lnTo>
                  <a:lnTo>
                    <a:pt x="2639" y="166"/>
                  </a:lnTo>
                  <a:lnTo>
                    <a:pt x="2684" y="179"/>
                  </a:lnTo>
                  <a:lnTo>
                    <a:pt x="2721" y="184"/>
                  </a:lnTo>
                  <a:lnTo>
                    <a:pt x="2749" y="190"/>
                  </a:lnTo>
                  <a:lnTo>
                    <a:pt x="2771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882720" y="5475240"/>
              <a:ext cx="7449120" cy="916200"/>
            </a:xfrm>
            <a:custGeom>
              <a:avLst/>
              <a:gdLst>
                <a:gd name="textAreaLeft" fmla="*/ 0 w 7449120"/>
                <a:gd name="textAreaRight" fmla="*/ 7449480 w 744912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4480" h="577">
                  <a:moveTo>
                    <a:pt x="2241" y="192"/>
                  </a:moveTo>
                  <a:lnTo>
                    <a:pt x="2264" y="192"/>
                  </a:lnTo>
                  <a:lnTo>
                    <a:pt x="2292" y="187"/>
                  </a:lnTo>
                  <a:lnTo>
                    <a:pt x="2332" y="182"/>
                  </a:lnTo>
                  <a:lnTo>
                    <a:pt x="2374" y="168"/>
                  </a:lnTo>
                  <a:lnTo>
                    <a:pt x="2425" y="152"/>
                  </a:lnTo>
                  <a:lnTo>
                    <a:pt x="2481" y="128"/>
                  </a:lnTo>
                  <a:lnTo>
                    <a:pt x="2540" y="96"/>
                  </a:lnTo>
                  <a:lnTo>
                    <a:pt x="2605" y="59"/>
                  </a:lnTo>
                  <a:lnTo>
                    <a:pt x="2639" y="40"/>
                  </a:lnTo>
                  <a:lnTo>
                    <a:pt x="2673" y="24"/>
                  </a:lnTo>
                  <a:lnTo>
                    <a:pt x="2709" y="13"/>
                  </a:lnTo>
                  <a:lnTo>
                    <a:pt x="2746" y="5"/>
                  </a:lnTo>
                  <a:lnTo>
                    <a:pt x="2783" y="0"/>
                  </a:lnTo>
                  <a:lnTo>
                    <a:pt x="2822" y="0"/>
                  </a:lnTo>
                  <a:lnTo>
                    <a:pt x="2859" y="0"/>
                  </a:lnTo>
                  <a:lnTo>
                    <a:pt x="2901" y="5"/>
                  </a:lnTo>
                  <a:lnTo>
                    <a:pt x="2941" y="13"/>
                  </a:lnTo>
                  <a:lnTo>
                    <a:pt x="2983" y="21"/>
                  </a:lnTo>
                  <a:lnTo>
                    <a:pt x="3025" y="35"/>
                  </a:lnTo>
                  <a:lnTo>
                    <a:pt x="3070" y="48"/>
                  </a:lnTo>
                  <a:lnTo>
                    <a:pt x="3115" y="64"/>
                  </a:lnTo>
                  <a:lnTo>
                    <a:pt x="3161" y="80"/>
                  </a:lnTo>
                  <a:lnTo>
                    <a:pt x="3208" y="102"/>
                  </a:lnTo>
                  <a:lnTo>
                    <a:pt x="3256" y="120"/>
                  </a:lnTo>
                  <a:lnTo>
                    <a:pt x="3304" y="139"/>
                  </a:lnTo>
                  <a:lnTo>
                    <a:pt x="3355" y="152"/>
                  </a:lnTo>
                  <a:lnTo>
                    <a:pt x="3403" y="163"/>
                  </a:lnTo>
                  <a:lnTo>
                    <a:pt x="3448" y="171"/>
                  </a:lnTo>
                  <a:lnTo>
                    <a:pt x="3496" y="176"/>
                  </a:lnTo>
                  <a:lnTo>
                    <a:pt x="3541" y="176"/>
                  </a:lnTo>
                  <a:lnTo>
                    <a:pt x="3586" y="176"/>
                  </a:lnTo>
                  <a:lnTo>
                    <a:pt x="3631" y="171"/>
                  </a:lnTo>
                  <a:lnTo>
                    <a:pt x="3674" y="166"/>
                  </a:lnTo>
                  <a:lnTo>
                    <a:pt x="3716" y="158"/>
                  </a:lnTo>
                  <a:lnTo>
                    <a:pt x="3755" y="147"/>
                  </a:lnTo>
                  <a:lnTo>
                    <a:pt x="3795" y="134"/>
                  </a:lnTo>
                  <a:lnTo>
                    <a:pt x="3834" y="118"/>
                  </a:lnTo>
                  <a:lnTo>
                    <a:pt x="3871" y="102"/>
                  </a:lnTo>
                  <a:lnTo>
                    <a:pt x="3905" y="86"/>
                  </a:lnTo>
                  <a:lnTo>
                    <a:pt x="3939" y="67"/>
                  </a:lnTo>
                  <a:lnTo>
                    <a:pt x="3973" y="48"/>
                  </a:lnTo>
                  <a:lnTo>
                    <a:pt x="4006" y="35"/>
                  </a:lnTo>
                  <a:lnTo>
                    <a:pt x="4043" y="24"/>
                  </a:lnTo>
                  <a:lnTo>
                    <a:pt x="4077" y="13"/>
                  </a:lnTo>
                  <a:lnTo>
                    <a:pt x="4113" y="8"/>
                  </a:lnTo>
                  <a:lnTo>
                    <a:pt x="4147" y="5"/>
                  </a:lnTo>
                  <a:lnTo>
                    <a:pt x="4184" y="5"/>
                  </a:lnTo>
                  <a:lnTo>
                    <a:pt x="4221" y="8"/>
                  </a:lnTo>
                  <a:lnTo>
                    <a:pt x="4254" y="13"/>
                  </a:lnTo>
                  <a:lnTo>
                    <a:pt x="4291" y="21"/>
                  </a:lnTo>
                  <a:lnTo>
                    <a:pt x="4325" y="29"/>
                  </a:lnTo>
                  <a:lnTo>
                    <a:pt x="4359" y="43"/>
                  </a:lnTo>
                  <a:lnTo>
                    <a:pt x="4390" y="56"/>
                  </a:lnTo>
                  <a:lnTo>
                    <a:pt x="4421" y="72"/>
                  </a:lnTo>
                  <a:lnTo>
                    <a:pt x="4452" y="88"/>
                  </a:lnTo>
                  <a:lnTo>
                    <a:pt x="4480" y="107"/>
                  </a:lnTo>
                  <a:lnTo>
                    <a:pt x="4455" y="134"/>
                  </a:lnTo>
                  <a:lnTo>
                    <a:pt x="4435" y="171"/>
                  </a:lnTo>
                  <a:lnTo>
                    <a:pt x="4412" y="214"/>
                  </a:lnTo>
                  <a:lnTo>
                    <a:pt x="4398" y="262"/>
                  </a:lnTo>
                  <a:lnTo>
                    <a:pt x="4387" y="313"/>
                  </a:lnTo>
                  <a:lnTo>
                    <a:pt x="4384" y="361"/>
                  </a:lnTo>
                  <a:lnTo>
                    <a:pt x="4387" y="409"/>
                  </a:lnTo>
                  <a:lnTo>
                    <a:pt x="4398" y="449"/>
                  </a:lnTo>
                  <a:lnTo>
                    <a:pt x="4373" y="438"/>
                  </a:lnTo>
                  <a:lnTo>
                    <a:pt x="4345" y="427"/>
                  </a:lnTo>
                  <a:lnTo>
                    <a:pt x="4316" y="417"/>
                  </a:lnTo>
                  <a:lnTo>
                    <a:pt x="4288" y="411"/>
                  </a:lnTo>
                  <a:lnTo>
                    <a:pt x="4260" y="403"/>
                  </a:lnTo>
                  <a:lnTo>
                    <a:pt x="4229" y="398"/>
                  </a:lnTo>
                  <a:lnTo>
                    <a:pt x="4201" y="395"/>
                  </a:lnTo>
                  <a:lnTo>
                    <a:pt x="4170" y="393"/>
                  </a:lnTo>
                  <a:lnTo>
                    <a:pt x="4142" y="395"/>
                  </a:lnTo>
                  <a:lnTo>
                    <a:pt x="4111" y="395"/>
                  </a:lnTo>
                  <a:lnTo>
                    <a:pt x="4082" y="401"/>
                  </a:lnTo>
                  <a:lnTo>
                    <a:pt x="4051" y="406"/>
                  </a:lnTo>
                  <a:lnTo>
                    <a:pt x="4023" y="414"/>
                  </a:lnTo>
                  <a:lnTo>
                    <a:pt x="3995" y="425"/>
                  </a:lnTo>
                  <a:lnTo>
                    <a:pt x="3967" y="435"/>
                  </a:lnTo>
                  <a:lnTo>
                    <a:pt x="3939" y="452"/>
                  </a:lnTo>
                  <a:lnTo>
                    <a:pt x="3905" y="470"/>
                  </a:lnTo>
                  <a:lnTo>
                    <a:pt x="3871" y="486"/>
                  </a:lnTo>
                  <a:lnTo>
                    <a:pt x="3834" y="502"/>
                  </a:lnTo>
                  <a:lnTo>
                    <a:pt x="3795" y="518"/>
                  </a:lnTo>
                  <a:lnTo>
                    <a:pt x="3755" y="532"/>
                  </a:lnTo>
                  <a:lnTo>
                    <a:pt x="3716" y="542"/>
                  </a:lnTo>
                  <a:lnTo>
                    <a:pt x="3674" y="550"/>
                  </a:lnTo>
                  <a:lnTo>
                    <a:pt x="3631" y="558"/>
                  </a:lnTo>
                  <a:lnTo>
                    <a:pt x="3586" y="561"/>
                  </a:lnTo>
                  <a:lnTo>
                    <a:pt x="3541" y="564"/>
                  </a:lnTo>
                  <a:lnTo>
                    <a:pt x="3496" y="561"/>
                  </a:lnTo>
                  <a:lnTo>
                    <a:pt x="3448" y="558"/>
                  </a:lnTo>
                  <a:lnTo>
                    <a:pt x="3403" y="550"/>
                  </a:lnTo>
                  <a:lnTo>
                    <a:pt x="3355" y="537"/>
                  </a:lnTo>
                  <a:lnTo>
                    <a:pt x="3304" y="524"/>
                  </a:lnTo>
                  <a:lnTo>
                    <a:pt x="3256" y="505"/>
                  </a:lnTo>
                  <a:lnTo>
                    <a:pt x="3208" y="486"/>
                  </a:lnTo>
                  <a:lnTo>
                    <a:pt x="3161" y="468"/>
                  </a:lnTo>
                  <a:lnTo>
                    <a:pt x="3115" y="449"/>
                  </a:lnTo>
                  <a:lnTo>
                    <a:pt x="3070" y="435"/>
                  </a:lnTo>
                  <a:lnTo>
                    <a:pt x="3025" y="422"/>
                  </a:lnTo>
                  <a:lnTo>
                    <a:pt x="2983" y="409"/>
                  </a:lnTo>
                  <a:lnTo>
                    <a:pt x="2941" y="401"/>
                  </a:lnTo>
                  <a:lnTo>
                    <a:pt x="2901" y="393"/>
                  </a:lnTo>
                  <a:lnTo>
                    <a:pt x="2859" y="387"/>
                  </a:lnTo>
                  <a:lnTo>
                    <a:pt x="2822" y="387"/>
                  </a:lnTo>
                  <a:lnTo>
                    <a:pt x="2783" y="387"/>
                  </a:lnTo>
                  <a:lnTo>
                    <a:pt x="2746" y="393"/>
                  </a:lnTo>
                  <a:lnTo>
                    <a:pt x="2709" y="401"/>
                  </a:lnTo>
                  <a:lnTo>
                    <a:pt x="2673" y="411"/>
                  </a:lnTo>
                  <a:lnTo>
                    <a:pt x="2639" y="427"/>
                  </a:lnTo>
                  <a:lnTo>
                    <a:pt x="2605" y="446"/>
                  </a:lnTo>
                  <a:lnTo>
                    <a:pt x="2540" y="484"/>
                  </a:lnTo>
                  <a:lnTo>
                    <a:pt x="2481" y="513"/>
                  </a:lnTo>
                  <a:lnTo>
                    <a:pt x="2425" y="537"/>
                  </a:lnTo>
                  <a:lnTo>
                    <a:pt x="2374" y="553"/>
                  </a:lnTo>
                  <a:lnTo>
                    <a:pt x="2332" y="566"/>
                  </a:lnTo>
                  <a:lnTo>
                    <a:pt x="2292" y="572"/>
                  </a:lnTo>
                  <a:lnTo>
                    <a:pt x="2264" y="577"/>
                  </a:lnTo>
                  <a:lnTo>
                    <a:pt x="2241" y="577"/>
                  </a:lnTo>
                  <a:lnTo>
                    <a:pt x="2219" y="577"/>
                  </a:lnTo>
                  <a:lnTo>
                    <a:pt x="2191" y="572"/>
                  </a:lnTo>
                  <a:lnTo>
                    <a:pt x="2154" y="566"/>
                  </a:lnTo>
                  <a:lnTo>
                    <a:pt x="2109" y="553"/>
                  </a:lnTo>
                  <a:lnTo>
                    <a:pt x="2058" y="537"/>
                  </a:lnTo>
                  <a:lnTo>
                    <a:pt x="2002" y="513"/>
                  </a:lnTo>
                  <a:lnTo>
                    <a:pt x="1943" y="484"/>
                  </a:lnTo>
                  <a:lnTo>
                    <a:pt x="1878" y="446"/>
                  </a:lnTo>
                  <a:lnTo>
                    <a:pt x="1844" y="427"/>
                  </a:lnTo>
                  <a:lnTo>
                    <a:pt x="1810" y="411"/>
                  </a:lnTo>
                  <a:lnTo>
                    <a:pt x="1773" y="401"/>
                  </a:lnTo>
                  <a:lnTo>
                    <a:pt x="1737" y="393"/>
                  </a:lnTo>
                  <a:lnTo>
                    <a:pt x="1700" y="387"/>
                  </a:lnTo>
                  <a:lnTo>
                    <a:pt x="1661" y="387"/>
                  </a:lnTo>
                  <a:lnTo>
                    <a:pt x="1624" y="387"/>
                  </a:lnTo>
                  <a:lnTo>
                    <a:pt x="1582" y="393"/>
                  </a:lnTo>
                  <a:lnTo>
                    <a:pt x="1542" y="401"/>
                  </a:lnTo>
                  <a:lnTo>
                    <a:pt x="1500" y="409"/>
                  </a:lnTo>
                  <a:lnTo>
                    <a:pt x="1458" y="422"/>
                  </a:lnTo>
                  <a:lnTo>
                    <a:pt x="1413" y="435"/>
                  </a:lnTo>
                  <a:lnTo>
                    <a:pt x="1367" y="449"/>
                  </a:lnTo>
                  <a:lnTo>
                    <a:pt x="1322" y="468"/>
                  </a:lnTo>
                  <a:lnTo>
                    <a:pt x="1274" y="486"/>
                  </a:lnTo>
                  <a:lnTo>
                    <a:pt x="1226" y="505"/>
                  </a:lnTo>
                  <a:lnTo>
                    <a:pt x="1179" y="524"/>
                  </a:lnTo>
                  <a:lnTo>
                    <a:pt x="1128" y="537"/>
                  </a:lnTo>
                  <a:lnTo>
                    <a:pt x="1080" y="550"/>
                  </a:lnTo>
                  <a:lnTo>
                    <a:pt x="1035" y="558"/>
                  </a:lnTo>
                  <a:lnTo>
                    <a:pt x="987" y="561"/>
                  </a:lnTo>
                  <a:lnTo>
                    <a:pt x="942" y="564"/>
                  </a:lnTo>
                  <a:lnTo>
                    <a:pt x="897" y="561"/>
                  </a:lnTo>
                  <a:lnTo>
                    <a:pt x="851" y="558"/>
                  </a:lnTo>
                  <a:lnTo>
                    <a:pt x="809" y="550"/>
                  </a:lnTo>
                  <a:lnTo>
                    <a:pt x="767" y="542"/>
                  </a:lnTo>
                  <a:lnTo>
                    <a:pt x="725" y="532"/>
                  </a:lnTo>
                  <a:lnTo>
                    <a:pt x="685" y="518"/>
                  </a:lnTo>
                  <a:lnTo>
                    <a:pt x="646" y="502"/>
                  </a:lnTo>
                  <a:lnTo>
                    <a:pt x="609" y="486"/>
                  </a:lnTo>
                  <a:lnTo>
                    <a:pt x="575" y="470"/>
                  </a:lnTo>
                  <a:lnTo>
                    <a:pt x="541" y="452"/>
                  </a:lnTo>
                  <a:lnTo>
                    <a:pt x="513" y="435"/>
                  </a:lnTo>
                  <a:lnTo>
                    <a:pt x="485" y="425"/>
                  </a:lnTo>
                  <a:lnTo>
                    <a:pt x="457" y="414"/>
                  </a:lnTo>
                  <a:lnTo>
                    <a:pt x="429" y="406"/>
                  </a:lnTo>
                  <a:lnTo>
                    <a:pt x="398" y="401"/>
                  </a:lnTo>
                  <a:lnTo>
                    <a:pt x="369" y="395"/>
                  </a:lnTo>
                  <a:lnTo>
                    <a:pt x="341" y="395"/>
                  </a:lnTo>
                  <a:lnTo>
                    <a:pt x="310" y="393"/>
                  </a:lnTo>
                  <a:lnTo>
                    <a:pt x="282" y="395"/>
                  </a:lnTo>
                  <a:lnTo>
                    <a:pt x="251" y="398"/>
                  </a:lnTo>
                  <a:lnTo>
                    <a:pt x="223" y="403"/>
                  </a:lnTo>
                  <a:lnTo>
                    <a:pt x="195" y="411"/>
                  </a:lnTo>
                  <a:lnTo>
                    <a:pt x="166" y="417"/>
                  </a:lnTo>
                  <a:lnTo>
                    <a:pt x="138" y="427"/>
                  </a:lnTo>
                  <a:lnTo>
                    <a:pt x="110" y="438"/>
                  </a:lnTo>
                  <a:lnTo>
                    <a:pt x="82" y="449"/>
                  </a:lnTo>
                  <a:lnTo>
                    <a:pt x="93" y="409"/>
                  </a:lnTo>
                  <a:lnTo>
                    <a:pt x="96" y="361"/>
                  </a:lnTo>
                  <a:lnTo>
                    <a:pt x="93" y="313"/>
                  </a:lnTo>
                  <a:lnTo>
                    <a:pt x="82" y="262"/>
                  </a:lnTo>
                  <a:lnTo>
                    <a:pt x="68" y="214"/>
                  </a:lnTo>
                  <a:lnTo>
                    <a:pt x="45" y="171"/>
                  </a:lnTo>
                  <a:lnTo>
                    <a:pt x="25" y="134"/>
                  </a:lnTo>
                  <a:lnTo>
                    <a:pt x="0" y="107"/>
                  </a:lnTo>
                  <a:lnTo>
                    <a:pt x="28" y="88"/>
                  </a:lnTo>
                  <a:lnTo>
                    <a:pt x="59" y="72"/>
                  </a:lnTo>
                  <a:lnTo>
                    <a:pt x="90" y="56"/>
                  </a:lnTo>
                  <a:lnTo>
                    <a:pt x="124" y="43"/>
                  </a:lnTo>
                  <a:lnTo>
                    <a:pt x="155" y="29"/>
                  </a:lnTo>
                  <a:lnTo>
                    <a:pt x="189" y="21"/>
                  </a:lnTo>
                  <a:lnTo>
                    <a:pt x="226" y="13"/>
                  </a:lnTo>
                  <a:lnTo>
                    <a:pt x="259" y="8"/>
                  </a:lnTo>
                  <a:lnTo>
                    <a:pt x="296" y="5"/>
                  </a:lnTo>
                  <a:lnTo>
                    <a:pt x="333" y="5"/>
                  </a:lnTo>
                  <a:lnTo>
                    <a:pt x="367" y="8"/>
                  </a:lnTo>
                  <a:lnTo>
                    <a:pt x="403" y="13"/>
                  </a:lnTo>
                  <a:lnTo>
                    <a:pt x="437" y="24"/>
                  </a:lnTo>
                  <a:lnTo>
                    <a:pt x="474" y="35"/>
                  </a:lnTo>
                  <a:lnTo>
                    <a:pt x="507" y="48"/>
                  </a:lnTo>
                  <a:lnTo>
                    <a:pt x="541" y="67"/>
                  </a:lnTo>
                  <a:lnTo>
                    <a:pt x="575" y="86"/>
                  </a:lnTo>
                  <a:lnTo>
                    <a:pt x="609" y="102"/>
                  </a:lnTo>
                  <a:lnTo>
                    <a:pt x="646" y="118"/>
                  </a:lnTo>
                  <a:lnTo>
                    <a:pt x="685" y="134"/>
                  </a:lnTo>
                  <a:lnTo>
                    <a:pt x="725" y="147"/>
                  </a:lnTo>
                  <a:lnTo>
                    <a:pt x="767" y="158"/>
                  </a:lnTo>
                  <a:lnTo>
                    <a:pt x="809" y="166"/>
                  </a:lnTo>
                  <a:lnTo>
                    <a:pt x="851" y="171"/>
                  </a:lnTo>
                  <a:lnTo>
                    <a:pt x="897" y="176"/>
                  </a:lnTo>
                  <a:lnTo>
                    <a:pt x="942" y="176"/>
                  </a:lnTo>
                  <a:lnTo>
                    <a:pt x="987" y="176"/>
                  </a:lnTo>
                  <a:lnTo>
                    <a:pt x="1035" y="171"/>
                  </a:lnTo>
                  <a:lnTo>
                    <a:pt x="1080" y="163"/>
                  </a:lnTo>
                  <a:lnTo>
                    <a:pt x="1128" y="152"/>
                  </a:lnTo>
                  <a:lnTo>
                    <a:pt x="1179" y="139"/>
                  </a:lnTo>
                  <a:lnTo>
                    <a:pt x="1226" y="120"/>
                  </a:lnTo>
                  <a:lnTo>
                    <a:pt x="1274" y="102"/>
                  </a:lnTo>
                  <a:lnTo>
                    <a:pt x="1322" y="80"/>
                  </a:lnTo>
                  <a:lnTo>
                    <a:pt x="1367" y="64"/>
                  </a:lnTo>
                  <a:lnTo>
                    <a:pt x="1413" y="48"/>
                  </a:lnTo>
                  <a:lnTo>
                    <a:pt x="1458" y="35"/>
                  </a:lnTo>
                  <a:lnTo>
                    <a:pt x="1500" y="21"/>
                  </a:lnTo>
                  <a:lnTo>
                    <a:pt x="1542" y="13"/>
                  </a:lnTo>
                  <a:lnTo>
                    <a:pt x="1582" y="5"/>
                  </a:lnTo>
                  <a:lnTo>
                    <a:pt x="1624" y="0"/>
                  </a:lnTo>
                  <a:lnTo>
                    <a:pt x="1661" y="0"/>
                  </a:lnTo>
                  <a:lnTo>
                    <a:pt x="1700" y="0"/>
                  </a:lnTo>
                  <a:lnTo>
                    <a:pt x="1737" y="5"/>
                  </a:lnTo>
                  <a:lnTo>
                    <a:pt x="1773" y="13"/>
                  </a:lnTo>
                  <a:lnTo>
                    <a:pt x="1810" y="24"/>
                  </a:lnTo>
                  <a:lnTo>
                    <a:pt x="1844" y="40"/>
                  </a:lnTo>
                  <a:lnTo>
                    <a:pt x="1878" y="59"/>
                  </a:lnTo>
                  <a:lnTo>
                    <a:pt x="1943" y="96"/>
                  </a:lnTo>
                  <a:lnTo>
                    <a:pt x="2002" y="128"/>
                  </a:lnTo>
                  <a:lnTo>
                    <a:pt x="2058" y="152"/>
                  </a:lnTo>
                  <a:lnTo>
                    <a:pt x="2109" y="168"/>
                  </a:lnTo>
                  <a:lnTo>
                    <a:pt x="2154" y="182"/>
                  </a:lnTo>
                  <a:lnTo>
                    <a:pt x="2191" y="187"/>
                  </a:lnTo>
                  <a:lnTo>
                    <a:pt x="2219" y="192"/>
                  </a:lnTo>
                  <a:lnTo>
                    <a:pt x="2241" y="192"/>
                  </a:lnTo>
                  <a:close/>
                </a:path>
              </a:pathLst>
            </a:custGeom>
            <a:solidFill>
              <a:srgbClr val="5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"/>
            <p:cNvSpPr/>
            <p:nvPr/>
          </p:nvSpPr>
          <p:spPr>
            <a:xfrm>
              <a:off x="1440" y="0"/>
              <a:ext cx="9211320" cy="5492880"/>
            </a:xfrm>
            <a:custGeom>
              <a:avLst/>
              <a:gdLst>
                <a:gd name="textAreaLeft" fmla="*/ 0 w 9211320"/>
                <a:gd name="textAreaRight" fmla="*/ 9211680 w 9211320"/>
                <a:gd name="textAreaTop" fmla="*/ 0 h 5492880"/>
                <a:gd name="textAreaBottom" fmla="*/ 5493240 h 5492880"/>
              </a:gdLst>
              <a:ahLst/>
              <a:rect l="textAreaLeft" t="textAreaTop" r="textAreaRight" b="textAreaBottom"/>
              <a:pathLst>
                <a:path w="5540" h="3460">
                  <a:moveTo>
                    <a:pt x="0" y="3436"/>
                  </a:moveTo>
                  <a:lnTo>
                    <a:pt x="28" y="3446"/>
                  </a:lnTo>
                  <a:lnTo>
                    <a:pt x="56" y="3454"/>
                  </a:lnTo>
                  <a:lnTo>
                    <a:pt x="90" y="3460"/>
                  </a:lnTo>
                  <a:lnTo>
                    <a:pt x="124" y="3460"/>
                  </a:lnTo>
                  <a:lnTo>
                    <a:pt x="161" y="3460"/>
                  </a:lnTo>
                  <a:lnTo>
                    <a:pt x="200" y="3457"/>
                  </a:lnTo>
                  <a:lnTo>
                    <a:pt x="237" y="3452"/>
                  </a:lnTo>
                  <a:lnTo>
                    <a:pt x="276" y="3446"/>
                  </a:lnTo>
                  <a:lnTo>
                    <a:pt x="313" y="3438"/>
                  </a:lnTo>
                  <a:lnTo>
                    <a:pt x="350" y="3428"/>
                  </a:lnTo>
                  <a:lnTo>
                    <a:pt x="386" y="3417"/>
                  </a:lnTo>
                  <a:lnTo>
                    <a:pt x="420" y="3406"/>
                  </a:lnTo>
                  <a:lnTo>
                    <a:pt x="454" y="3393"/>
                  </a:lnTo>
                  <a:lnTo>
                    <a:pt x="482" y="3380"/>
                  </a:lnTo>
                  <a:lnTo>
                    <a:pt x="507" y="3366"/>
                  </a:lnTo>
                  <a:lnTo>
                    <a:pt x="530" y="3353"/>
                  </a:lnTo>
                  <a:lnTo>
                    <a:pt x="558" y="3334"/>
                  </a:lnTo>
                  <a:lnTo>
                    <a:pt x="589" y="3318"/>
                  </a:lnTo>
                  <a:lnTo>
                    <a:pt x="620" y="3302"/>
                  </a:lnTo>
                  <a:lnTo>
                    <a:pt x="654" y="3289"/>
                  </a:lnTo>
                  <a:lnTo>
                    <a:pt x="685" y="3275"/>
                  </a:lnTo>
                  <a:lnTo>
                    <a:pt x="719" y="3267"/>
                  </a:lnTo>
                  <a:lnTo>
                    <a:pt x="756" y="3259"/>
                  </a:lnTo>
                  <a:lnTo>
                    <a:pt x="789" y="3254"/>
                  </a:lnTo>
                  <a:lnTo>
                    <a:pt x="826" y="3251"/>
                  </a:lnTo>
                  <a:lnTo>
                    <a:pt x="863" y="3251"/>
                  </a:lnTo>
                  <a:lnTo>
                    <a:pt x="897" y="3254"/>
                  </a:lnTo>
                  <a:lnTo>
                    <a:pt x="933" y="3259"/>
                  </a:lnTo>
                  <a:lnTo>
                    <a:pt x="967" y="3267"/>
                  </a:lnTo>
                  <a:lnTo>
                    <a:pt x="1004" y="3278"/>
                  </a:lnTo>
                  <a:lnTo>
                    <a:pt x="1037" y="3291"/>
                  </a:lnTo>
                  <a:lnTo>
                    <a:pt x="1071" y="3310"/>
                  </a:lnTo>
                  <a:lnTo>
                    <a:pt x="1105" y="3329"/>
                  </a:lnTo>
                  <a:lnTo>
                    <a:pt x="1139" y="3345"/>
                  </a:lnTo>
                  <a:lnTo>
                    <a:pt x="1176" y="3361"/>
                  </a:lnTo>
                  <a:lnTo>
                    <a:pt x="1215" y="3377"/>
                  </a:lnTo>
                  <a:lnTo>
                    <a:pt x="1255" y="3390"/>
                  </a:lnTo>
                  <a:lnTo>
                    <a:pt x="1297" y="3401"/>
                  </a:lnTo>
                  <a:lnTo>
                    <a:pt x="1339" y="3409"/>
                  </a:lnTo>
                  <a:lnTo>
                    <a:pt x="1381" y="3417"/>
                  </a:lnTo>
                  <a:lnTo>
                    <a:pt x="1427" y="3420"/>
                  </a:lnTo>
                  <a:lnTo>
                    <a:pt x="1472" y="3422"/>
                  </a:lnTo>
                  <a:lnTo>
                    <a:pt x="1517" y="3420"/>
                  </a:lnTo>
                  <a:lnTo>
                    <a:pt x="1565" y="3417"/>
                  </a:lnTo>
                  <a:lnTo>
                    <a:pt x="1610" y="3409"/>
                  </a:lnTo>
                  <a:lnTo>
                    <a:pt x="1658" y="3396"/>
                  </a:lnTo>
                  <a:lnTo>
                    <a:pt x="1709" y="3382"/>
                  </a:lnTo>
                  <a:lnTo>
                    <a:pt x="1756" y="3364"/>
                  </a:lnTo>
                  <a:lnTo>
                    <a:pt x="1804" y="3345"/>
                  </a:lnTo>
                  <a:lnTo>
                    <a:pt x="1852" y="3326"/>
                  </a:lnTo>
                  <a:lnTo>
                    <a:pt x="1897" y="3307"/>
                  </a:lnTo>
                  <a:lnTo>
                    <a:pt x="1943" y="3294"/>
                  </a:lnTo>
                  <a:lnTo>
                    <a:pt x="1988" y="3281"/>
                  </a:lnTo>
                  <a:lnTo>
                    <a:pt x="2030" y="3267"/>
                  </a:lnTo>
                  <a:lnTo>
                    <a:pt x="2072" y="3259"/>
                  </a:lnTo>
                  <a:lnTo>
                    <a:pt x="2112" y="3251"/>
                  </a:lnTo>
                  <a:lnTo>
                    <a:pt x="2154" y="3246"/>
                  </a:lnTo>
                  <a:lnTo>
                    <a:pt x="2191" y="3246"/>
                  </a:lnTo>
                  <a:lnTo>
                    <a:pt x="2230" y="3246"/>
                  </a:lnTo>
                  <a:lnTo>
                    <a:pt x="2267" y="3251"/>
                  </a:lnTo>
                  <a:lnTo>
                    <a:pt x="2303" y="3259"/>
                  </a:lnTo>
                  <a:lnTo>
                    <a:pt x="2340" y="3270"/>
                  </a:lnTo>
                  <a:lnTo>
                    <a:pt x="2374" y="3286"/>
                  </a:lnTo>
                  <a:lnTo>
                    <a:pt x="2408" y="3305"/>
                  </a:lnTo>
                  <a:lnTo>
                    <a:pt x="2473" y="3342"/>
                  </a:lnTo>
                  <a:lnTo>
                    <a:pt x="2532" y="3372"/>
                  </a:lnTo>
                  <a:lnTo>
                    <a:pt x="2588" y="3396"/>
                  </a:lnTo>
                  <a:lnTo>
                    <a:pt x="2639" y="3412"/>
                  </a:lnTo>
                  <a:lnTo>
                    <a:pt x="2684" y="3425"/>
                  </a:lnTo>
                  <a:lnTo>
                    <a:pt x="2721" y="3430"/>
                  </a:lnTo>
                  <a:lnTo>
                    <a:pt x="2749" y="3436"/>
                  </a:lnTo>
                  <a:lnTo>
                    <a:pt x="2771" y="3436"/>
                  </a:lnTo>
                  <a:lnTo>
                    <a:pt x="2794" y="3436"/>
                  </a:lnTo>
                  <a:lnTo>
                    <a:pt x="2822" y="3430"/>
                  </a:lnTo>
                  <a:lnTo>
                    <a:pt x="2862" y="3425"/>
                  </a:lnTo>
                  <a:lnTo>
                    <a:pt x="2904" y="3412"/>
                  </a:lnTo>
                  <a:lnTo>
                    <a:pt x="2955" y="3396"/>
                  </a:lnTo>
                  <a:lnTo>
                    <a:pt x="3011" y="3372"/>
                  </a:lnTo>
                  <a:lnTo>
                    <a:pt x="3070" y="3342"/>
                  </a:lnTo>
                  <a:lnTo>
                    <a:pt x="3135" y="3305"/>
                  </a:lnTo>
                  <a:lnTo>
                    <a:pt x="3169" y="3286"/>
                  </a:lnTo>
                  <a:lnTo>
                    <a:pt x="3203" y="3270"/>
                  </a:lnTo>
                  <a:lnTo>
                    <a:pt x="3239" y="3259"/>
                  </a:lnTo>
                  <a:lnTo>
                    <a:pt x="3276" y="3251"/>
                  </a:lnTo>
                  <a:lnTo>
                    <a:pt x="3313" y="3246"/>
                  </a:lnTo>
                  <a:lnTo>
                    <a:pt x="3352" y="3246"/>
                  </a:lnTo>
                  <a:lnTo>
                    <a:pt x="3389" y="3246"/>
                  </a:lnTo>
                  <a:lnTo>
                    <a:pt x="3431" y="3251"/>
                  </a:lnTo>
                  <a:lnTo>
                    <a:pt x="3471" y="3259"/>
                  </a:lnTo>
                  <a:lnTo>
                    <a:pt x="3513" y="3267"/>
                  </a:lnTo>
                  <a:lnTo>
                    <a:pt x="3555" y="3281"/>
                  </a:lnTo>
                  <a:lnTo>
                    <a:pt x="3600" y="3294"/>
                  </a:lnTo>
                  <a:lnTo>
                    <a:pt x="3645" y="3307"/>
                  </a:lnTo>
                  <a:lnTo>
                    <a:pt x="3691" y="3326"/>
                  </a:lnTo>
                  <a:lnTo>
                    <a:pt x="3738" y="3345"/>
                  </a:lnTo>
                  <a:lnTo>
                    <a:pt x="3786" y="3364"/>
                  </a:lnTo>
                  <a:lnTo>
                    <a:pt x="3834" y="3382"/>
                  </a:lnTo>
                  <a:lnTo>
                    <a:pt x="3885" y="3396"/>
                  </a:lnTo>
                  <a:lnTo>
                    <a:pt x="3933" y="3409"/>
                  </a:lnTo>
                  <a:lnTo>
                    <a:pt x="3978" y="3417"/>
                  </a:lnTo>
                  <a:lnTo>
                    <a:pt x="4026" y="3420"/>
                  </a:lnTo>
                  <a:lnTo>
                    <a:pt x="4071" y="3422"/>
                  </a:lnTo>
                  <a:lnTo>
                    <a:pt x="4116" y="3420"/>
                  </a:lnTo>
                  <a:lnTo>
                    <a:pt x="4161" y="3417"/>
                  </a:lnTo>
                  <a:lnTo>
                    <a:pt x="4204" y="3409"/>
                  </a:lnTo>
                  <a:lnTo>
                    <a:pt x="4246" y="3401"/>
                  </a:lnTo>
                  <a:lnTo>
                    <a:pt x="4285" y="3390"/>
                  </a:lnTo>
                  <a:lnTo>
                    <a:pt x="4325" y="3377"/>
                  </a:lnTo>
                  <a:lnTo>
                    <a:pt x="4364" y="3361"/>
                  </a:lnTo>
                  <a:lnTo>
                    <a:pt x="4401" y="3345"/>
                  </a:lnTo>
                  <a:lnTo>
                    <a:pt x="4435" y="3329"/>
                  </a:lnTo>
                  <a:lnTo>
                    <a:pt x="4469" y="3310"/>
                  </a:lnTo>
                  <a:lnTo>
                    <a:pt x="4503" y="3291"/>
                  </a:lnTo>
                  <a:lnTo>
                    <a:pt x="4536" y="3278"/>
                  </a:lnTo>
                  <a:lnTo>
                    <a:pt x="4573" y="3267"/>
                  </a:lnTo>
                  <a:lnTo>
                    <a:pt x="4607" y="3259"/>
                  </a:lnTo>
                  <a:lnTo>
                    <a:pt x="4643" y="3254"/>
                  </a:lnTo>
                  <a:lnTo>
                    <a:pt x="4677" y="3251"/>
                  </a:lnTo>
                  <a:lnTo>
                    <a:pt x="4714" y="3251"/>
                  </a:lnTo>
                  <a:lnTo>
                    <a:pt x="4751" y="3254"/>
                  </a:lnTo>
                  <a:lnTo>
                    <a:pt x="4784" y="3259"/>
                  </a:lnTo>
                  <a:lnTo>
                    <a:pt x="4821" y="3267"/>
                  </a:lnTo>
                  <a:lnTo>
                    <a:pt x="4855" y="3275"/>
                  </a:lnTo>
                  <a:lnTo>
                    <a:pt x="4889" y="3289"/>
                  </a:lnTo>
                  <a:lnTo>
                    <a:pt x="4920" y="3302"/>
                  </a:lnTo>
                  <a:lnTo>
                    <a:pt x="4951" y="3318"/>
                  </a:lnTo>
                  <a:lnTo>
                    <a:pt x="4982" y="3334"/>
                  </a:lnTo>
                  <a:lnTo>
                    <a:pt x="5010" y="3353"/>
                  </a:lnTo>
                  <a:lnTo>
                    <a:pt x="5033" y="3366"/>
                  </a:lnTo>
                  <a:lnTo>
                    <a:pt x="5058" y="3380"/>
                  </a:lnTo>
                  <a:lnTo>
                    <a:pt x="5086" y="3393"/>
                  </a:lnTo>
                  <a:lnTo>
                    <a:pt x="5120" y="3406"/>
                  </a:lnTo>
                  <a:lnTo>
                    <a:pt x="5154" y="3417"/>
                  </a:lnTo>
                  <a:lnTo>
                    <a:pt x="5190" y="3428"/>
                  </a:lnTo>
                  <a:lnTo>
                    <a:pt x="5227" y="3438"/>
                  </a:lnTo>
                  <a:lnTo>
                    <a:pt x="5264" y="3446"/>
                  </a:lnTo>
                  <a:lnTo>
                    <a:pt x="5303" y="3452"/>
                  </a:lnTo>
                  <a:lnTo>
                    <a:pt x="5340" y="3457"/>
                  </a:lnTo>
                  <a:lnTo>
                    <a:pt x="5379" y="3460"/>
                  </a:lnTo>
                  <a:lnTo>
                    <a:pt x="5416" y="3460"/>
                  </a:lnTo>
                  <a:lnTo>
                    <a:pt x="5450" y="3460"/>
                  </a:lnTo>
                  <a:lnTo>
                    <a:pt x="5484" y="3454"/>
                  </a:lnTo>
                  <a:lnTo>
                    <a:pt x="5512" y="3446"/>
                  </a:lnTo>
                  <a:lnTo>
                    <a:pt x="5540" y="3436"/>
                  </a:lnTo>
                  <a:lnTo>
                    <a:pt x="5540" y="0"/>
                  </a:lnTo>
                  <a:lnTo>
                    <a:pt x="0" y="0"/>
                  </a:lnTo>
                  <a:lnTo>
                    <a:pt x="0" y="3436"/>
                  </a:lnTo>
                  <a:close/>
                </a:path>
              </a:pathLst>
            </a:custGeom>
            <a:solidFill>
              <a:srgbClr val="ffd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"/>
            <p:cNvSpPr/>
            <p:nvPr/>
          </p:nvSpPr>
          <p:spPr>
            <a:xfrm>
              <a:off x="-134640" y="5584680"/>
              <a:ext cx="9484560" cy="1252800"/>
            </a:xfrm>
            <a:custGeom>
              <a:avLst/>
              <a:gdLst>
                <a:gd name="textAreaLeft" fmla="*/ 0 w 9484560"/>
                <a:gd name="textAreaRight" fmla="*/ 9484920 w 948456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5704" h="789">
                  <a:moveTo>
                    <a:pt x="82" y="123"/>
                  </a:moveTo>
                  <a:lnTo>
                    <a:pt x="102" y="99"/>
                  </a:lnTo>
                  <a:lnTo>
                    <a:pt x="124" y="75"/>
                  </a:lnTo>
                  <a:lnTo>
                    <a:pt x="150" y="57"/>
                  </a:lnTo>
                  <a:lnTo>
                    <a:pt x="178" y="41"/>
                  </a:lnTo>
                  <a:lnTo>
                    <a:pt x="206" y="27"/>
                  </a:lnTo>
                  <a:lnTo>
                    <a:pt x="237" y="17"/>
                  </a:lnTo>
                  <a:lnTo>
                    <a:pt x="268" y="8"/>
                  </a:lnTo>
                  <a:lnTo>
                    <a:pt x="299" y="3"/>
                  </a:lnTo>
                  <a:lnTo>
                    <a:pt x="333" y="0"/>
                  </a:lnTo>
                  <a:lnTo>
                    <a:pt x="364" y="0"/>
                  </a:lnTo>
                  <a:lnTo>
                    <a:pt x="398" y="6"/>
                  </a:lnTo>
                  <a:lnTo>
                    <a:pt x="429" y="14"/>
                  </a:lnTo>
                  <a:lnTo>
                    <a:pt x="460" y="25"/>
                  </a:lnTo>
                  <a:lnTo>
                    <a:pt x="488" y="38"/>
                  </a:lnTo>
                  <a:lnTo>
                    <a:pt x="516" y="57"/>
                  </a:lnTo>
                  <a:lnTo>
                    <a:pt x="542" y="78"/>
                  </a:lnTo>
                  <a:lnTo>
                    <a:pt x="573" y="115"/>
                  </a:lnTo>
                  <a:lnTo>
                    <a:pt x="601" y="163"/>
                  </a:lnTo>
                  <a:lnTo>
                    <a:pt x="620" y="217"/>
                  </a:lnTo>
                  <a:lnTo>
                    <a:pt x="632" y="273"/>
                  </a:lnTo>
                  <a:lnTo>
                    <a:pt x="635" y="332"/>
                  </a:lnTo>
                  <a:lnTo>
                    <a:pt x="623" y="388"/>
                  </a:lnTo>
                  <a:lnTo>
                    <a:pt x="601" y="441"/>
                  </a:lnTo>
                  <a:lnTo>
                    <a:pt x="561" y="489"/>
                  </a:lnTo>
                  <a:lnTo>
                    <a:pt x="511" y="527"/>
                  </a:lnTo>
                  <a:lnTo>
                    <a:pt x="460" y="551"/>
                  </a:lnTo>
                  <a:lnTo>
                    <a:pt x="409" y="562"/>
                  </a:lnTo>
                  <a:lnTo>
                    <a:pt x="361" y="559"/>
                  </a:lnTo>
                  <a:lnTo>
                    <a:pt x="316" y="548"/>
                  </a:lnTo>
                  <a:lnTo>
                    <a:pt x="276" y="529"/>
                  </a:lnTo>
                  <a:lnTo>
                    <a:pt x="248" y="503"/>
                  </a:lnTo>
                  <a:lnTo>
                    <a:pt x="226" y="476"/>
                  </a:lnTo>
                  <a:lnTo>
                    <a:pt x="214" y="444"/>
                  </a:lnTo>
                  <a:lnTo>
                    <a:pt x="206" y="409"/>
                  </a:lnTo>
                  <a:lnTo>
                    <a:pt x="206" y="375"/>
                  </a:lnTo>
                  <a:lnTo>
                    <a:pt x="212" y="340"/>
                  </a:lnTo>
                  <a:lnTo>
                    <a:pt x="223" y="308"/>
                  </a:lnTo>
                  <a:lnTo>
                    <a:pt x="243" y="281"/>
                  </a:lnTo>
                  <a:lnTo>
                    <a:pt x="271" y="260"/>
                  </a:lnTo>
                  <a:lnTo>
                    <a:pt x="305" y="246"/>
                  </a:lnTo>
                  <a:lnTo>
                    <a:pt x="344" y="246"/>
                  </a:lnTo>
                  <a:lnTo>
                    <a:pt x="378" y="257"/>
                  </a:lnTo>
                  <a:lnTo>
                    <a:pt x="403" y="281"/>
                  </a:lnTo>
                  <a:lnTo>
                    <a:pt x="420" y="313"/>
                  </a:lnTo>
                  <a:lnTo>
                    <a:pt x="426" y="345"/>
                  </a:lnTo>
                  <a:lnTo>
                    <a:pt x="420" y="375"/>
                  </a:lnTo>
                  <a:lnTo>
                    <a:pt x="406" y="399"/>
                  </a:lnTo>
                  <a:lnTo>
                    <a:pt x="381" y="412"/>
                  </a:lnTo>
                  <a:lnTo>
                    <a:pt x="403" y="409"/>
                  </a:lnTo>
                  <a:lnTo>
                    <a:pt x="426" y="399"/>
                  </a:lnTo>
                  <a:lnTo>
                    <a:pt x="446" y="380"/>
                  </a:lnTo>
                  <a:lnTo>
                    <a:pt x="460" y="356"/>
                  </a:lnTo>
                  <a:lnTo>
                    <a:pt x="471" y="324"/>
                  </a:lnTo>
                  <a:lnTo>
                    <a:pt x="471" y="292"/>
                  </a:lnTo>
                  <a:lnTo>
                    <a:pt x="465" y="257"/>
                  </a:lnTo>
                  <a:lnTo>
                    <a:pt x="446" y="222"/>
                  </a:lnTo>
                  <a:lnTo>
                    <a:pt x="415" y="193"/>
                  </a:lnTo>
                  <a:lnTo>
                    <a:pt x="381" y="174"/>
                  </a:lnTo>
                  <a:lnTo>
                    <a:pt x="341" y="163"/>
                  </a:lnTo>
                  <a:lnTo>
                    <a:pt x="302" y="163"/>
                  </a:lnTo>
                  <a:lnTo>
                    <a:pt x="262" y="174"/>
                  </a:lnTo>
                  <a:lnTo>
                    <a:pt x="226" y="190"/>
                  </a:lnTo>
                  <a:lnTo>
                    <a:pt x="195" y="214"/>
                  </a:lnTo>
                  <a:lnTo>
                    <a:pt x="167" y="244"/>
                  </a:lnTo>
                  <a:lnTo>
                    <a:pt x="150" y="276"/>
                  </a:lnTo>
                  <a:lnTo>
                    <a:pt x="136" y="310"/>
                  </a:lnTo>
                  <a:lnTo>
                    <a:pt x="127" y="353"/>
                  </a:lnTo>
                  <a:lnTo>
                    <a:pt x="124" y="396"/>
                  </a:lnTo>
                  <a:lnTo>
                    <a:pt x="130" y="441"/>
                  </a:lnTo>
                  <a:lnTo>
                    <a:pt x="141" y="484"/>
                  </a:lnTo>
                  <a:lnTo>
                    <a:pt x="161" y="527"/>
                  </a:lnTo>
                  <a:lnTo>
                    <a:pt x="192" y="562"/>
                  </a:lnTo>
                  <a:lnTo>
                    <a:pt x="231" y="594"/>
                  </a:lnTo>
                  <a:lnTo>
                    <a:pt x="274" y="618"/>
                  </a:lnTo>
                  <a:lnTo>
                    <a:pt x="319" y="634"/>
                  </a:lnTo>
                  <a:lnTo>
                    <a:pt x="367" y="642"/>
                  </a:lnTo>
                  <a:lnTo>
                    <a:pt x="415" y="642"/>
                  </a:lnTo>
                  <a:lnTo>
                    <a:pt x="463" y="634"/>
                  </a:lnTo>
                  <a:lnTo>
                    <a:pt x="511" y="618"/>
                  </a:lnTo>
                  <a:lnTo>
                    <a:pt x="556" y="594"/>
                  </a:lnTo>
                  <a:lnTo>
                    <a:pt x="573" y="583"/>
                  </a:lnTo>
                  <a:lnTo>
                    <a:pt x="589" y="570"/>
                  </a:lnTo>
                  <a:lnTo>
                    <a:pt x="604" y="559"/>
                  </a:lnTo>
                  <a:lnTo>
                    <a:pt x="618" y="548"/>
                  </a:lnTo>
                  <a:lnTo>
                    <a:pt x="629" y="535"/>
                  </a:lnTo>
                  <a:lnTo>
                    <a:pt x="640" y="521"/>
                  </a:lnTo>
                  <a:lnTo>
                    <a:pt x="654" y="508"/>
                  </a:lnTo>
                  <a:lnTo>
                    <a:pt x="666" y="495"/>
                  </a:lnTo>
                  <a:lnTo>
                    <a:pt x="694" y="481"/>
                  </a:lnTo>
                  <a:lnTo>
                    <a:pt x="722" y="471"/>
                  </a:lnTo>
                  <a:lnTo>
                    <a:pt x="750" y="460"/>
                  </a:lnTo>
                  <a:lnTo>
                    <a:pt x="781" y="449"/>
                  </a:lnTo>
                  <a:lnTo>
                    <a:pt x="812" y="441"/>
                  </a:lnTo>
                  <a:lnTo>
                    <a:pt x="843" y="436"/>
                  </a:lnTo>
                  <a:lnTo>
                    <a:pt x="874" y="431"/>
                  </a:lnTo>
                  <a:lnTo>
                    <a:pt x="905" y="428"/>
                  </a:lnTo>
                  <a:lnTo>
                    <a:pt x="936" y="428"/>
                  </a:lnTo>
                  <a:lnTo>
                    <a:pt x="967" y="428"/>
                  </a:lnTo>
                  <a:lnTo>
                    <a:pt x="1001" y="431"/>
                  </a:lnTo>
                  <a:lnTo>
                    <a:pt x="1032" y="436"/>
                  </a:lnTo>
                  <a:lnTo>
                    <a:pt x="1063" y="444"/>
                  </a:lnTo>
                  <a:lnTo>
                    <a:pt x="1094" y="455"/>
                  </a:lnTo>
                  <a:lnTo>
                    <a:pt x="1122" y="468"/>
                  </a:lnTo>
                  <a:lnTo>
                    <a:pt x="1153" y="484"/>
                  </a:lnTo>
                  <a:lnTo>
                    <a:pt x="1187" y="503"/>
                  </a:lnTo>
                  <a:lnTo>
                    <a:pt x="1221" y="521"/>
                  </a:lnTo>
                  <a:lnTo>
                    <a:pt x="1258" y="537"/>
                  </a:lnTo>
                  <a:lnTo>
                    <a:pt x="1297" y="551"/>
                  </a:lnTo>
                  <a:lnTo>
                    <a:pt x="1337" y="564"/>
                  </a:lnTo>
                  <a:lnTo>
                    <a:pt x="1379" y="575"/>
                  </a:lnTo>
                  <a:lnTo>
                    <a:pt x="1421" y="586"/>
                  </a:lnTo>
                  <a:lnTo>
                    <a:pt x="1463" y="591"/>
                  </a:lnTo>
                  <a:lnTo>
                    <a:pt x="1509" y="594"/>
                  </a:lnTo>
                  <a:lnTo>
                    <a:pt x="1554" y="596"/>
                  </a:lnTo>
                  <a:lnTo>
                    <a:pt x="1599" y="594"/>
                  </a:lnTo>
                  <a:lnTo>
                    <a:pt x="1647" y="591"/>
                  </a:lnTo>
                  <a:lnTo>
                    <a:pt x="1692" y="583"/>
                  </a:lnTo>
                  <a:lnTo>
                    <a:pt x="1740" y="572"/>
                  </a:lnTo>
                  <a:lnTo>
                    <a:pt x="1791" y="556"/>
                  </a:lnTo>
                  <a:lnTo>
                    <a:pt x="1838" y="537"/>
                  </a:lnTo>
                  <a:lnTo>
                    <a:pt x="1886" y="519"/>
                  </a:lnTo>
                  <a:lnTo>
                    <a:pt x="1934" y="500"/>
                  </a:lnTo>
                  <a:lnTo>
                    <a:pt x="1979" y="481"/>
                  </a:lnTo>
                  <a:lnTo>
                    <a:pt x="2025" y="468"/>
                  </a:lnTo>
                  <a:lnTo>
                    <a:pt x="2070" y="455"/>
                  </a:lnTo>
                  <a:lnTo>
                    <a:pt x="2112" y="441"/>
                  </a:lnTo>
                  <a:lnTo>
                    <a:pt x="2154" y="433"/>
                  </a:lnTo>
                  <a:lnTo>
                    <a:pt x="2194" y="425"/>
                  </a:lnTo>
                  <a:lnTo>
                    <a:pt x="2236" y="420"/>
                  </a:lnTo>
                  <a:lnTo>
                    <a:pt x="2273" y="420"/>
                  </a:lnTo>
                  <a:lnTo>
                    <a:pt x="2312" y="420"/>
                  </a:lnTo>
                  <a:lnTo>
                    <a:pt x="2349" y="425"/>
                  </a:lnTo>
                  <a:lnTo>
                    <a:pt x="2385" y="433"/>
                  </a:lnTo>
                  <a:lnTo>
                    <a:pt x="2422" y="444"/>
                  </a:lnTo>
                  <a:lnTo>
                    <a:pt x="2456" y="460"/>
                  </a:lnTo>
                  <a:lnTo>
                    <a:pt x="2490" y="479"/>
                  </a:lnTo>
                  <a:lnTo>
                    <a:pt x="2555" y="516"/>
                  </a:lnTo>
                  <a:lnTo>
                    <a:pt x="2614" y="548"/>
                  </a:lnTo>
                  <a:lnTo>
                    <a:pt x="2670" y="572"/>
                  </a:lnTo>
                  <a:lnTo>
                    <a:pt x="2721" y="588"/>
                  </a:lnTo>
                  <a:lnTo>
                    <a:pt x="2766" y="602"/>
                  </a:lnTo>
                  <a:lnTo>
                    <a:pt x="2803" y="607"/>
                  </a:lnTo>
                  <a:lnTo>
                    <a:pt x="2831" y="612"/>
                  </a:lnTo>
                  <a:lnTo>
                    <a:pt x="2853" y="612"/>
                  </a:lnTo>
                  <a:lnTo>
                    <a:pt x="2876" y="612"/>
                  </a:lnTo>
                  <a:lnTo>
                    <a:pt x="2904" y="607"/>
                  </a:lnTo>
                  <a:lnTo>
                    <a:pt x="2944" y="602"/>
                  </a:lnTo>
                  <a:lnTo>
                    <a:pt x="2986" y="588"/>
                  </a:lnTo>
                  <a:lnTo>
                    <a:pt x="3037" y="572"/>
                  </a:lnTo>
                  <a:lnTo>
                    <a:pt x="3093" y="548"/>
                  </a:lnTo>
                  <a:lnTo>
                    <a:pt x="3152" y="516"/>
                  </a:lnTo>
                  <a:lnTo>
                    <a:pt x="3217" y="479"/>
                  </a:lnTo>
                  <a:lnTo>
                    <a:pt x="3251" y="460"/>
                  </a:lnTo>
                  <a:lnTo>
                    <a:pt x="3285" y="444"/>
                  </a:lnTo>
                  <a:lnTo>
                    <a:pt x="3321" y="433"/>
                  </a:lnTo>
                  <a:lnTo>
                    <a:pt x="3358" y="425"/>
                  </a:lnTo>
                  <a:lnTo>
                    <a:pt x="3395" y="420"/>
                  </a:lnTo>
                  <a:lnTo>
                    <a:pt x="3434" y="420"/>
                  </a:lnTo>
                  <a:lnTo>
                    <a:pt x="3471" y="420"/>
                  </a:lnTo>
                  <a:lnTo>
                    <a:pt x="3513" y="425"/>
                  </a:lnTo>
                  <a:lnTo>
                    <a:pt x="3553" y="433"/>
                  </a:lnTo>
                  <a:lnTo>
                    <a:pt x="3595" y="441"/>
                  </a:lnTo>
                  <a:lnTo>
                    <a:pt x="3637" y="455"/>
                  </a:lnTo>
                  <a:lnTo>
                    <a:pt x="3682" y="468"/>
                  </a:lnTo>
                  <a:lnTo>
                    <a:pt x="3727" y="481"/>
                  </a:lnTo>
                  <a:lnTo>
                    <a:pt x="3773" y="500"/>
                  </a:lnTo>
                  <a:lnTo>
                    <a:pt x="3820" y="519"/>
                  </a:lnTo>
                  <a:lnTo>
                    <a:pt x="3868" y="537"/>
                  </a:lnTo>
                  <a:lnTo>
                    <a:pt x="3916" y="556"/>
                  </a:lnTo>
                  <a:lnTo>
                    <a:pt x="3967" y="572"/>
                  </a:lnTo>
                  <a:lnTo>
                    <a:pt x="4015" y="583"/>
                  </a:lnTo>
                  <a:lnTo>
                    <a:pt x="4060" y="591"/>
                  </a:lnTo>
                  <a:lnTo>
                    <a:pt x="4108" y="594"/>
                  </a:lnTo>
                  <a:lnTo>
                    <a:pt x="4153" y="596"/>
                  </a:lnTo>
                  <a:lnTo>
                    <a:pt x="4198" y="594"/>
                  </a:lnTo>
                  <a:lnTo>
                    <a:pt x="4243" y="591"/>
                  </a:lnTo>
                  <a:lnTo>
                    <a:pt x="4286" y="586"/>
                  </a:lnTo>
                  <a:lnTo>
                    <a:pt x="4328" y="575"/>
                  </a:lnTo>
                  <a:lnTo>
                    <a:pt x="4367" y="564"/>
                  </a:lnTo>
                  <a:lnTo>
                    <a:pt x="4407" y="551"/>
                  </a:lnTo>
                  <a:lnTo>
                    <a:pt x="4446" y="537"/>
                  </a:lnTo>
                  <a:lnTo>
                    <a:pt x="4483" y="521"/>
                  </a:lnTo>
                  <a:lnTo>
                    <a:pt x="4517" y="503"/>
                  </a:lnTo>
                  <a:lnTo>
                    <a:pt x="4551" y="484"/>
                  </a:lnTo>
                  <a:lnTo>
                    <a:pt x="4582" y="468"/>
                  </a:lnTo>
                  <a:lnTo>
                    <a:pt x="4610" y="455"/>
                  </a:lnTo>
                  <a:lnTo>
                    <a:pt x="4641" y="444"/>
                  </a:lnTo>
                  <a:lnTo>
                    <a:pt x="4672" y="436"/>
                  </a:lnTo>
                  <a:lnTo>
                    <a:pt x="4703" y="431"/>
                  </a:lnTo>
                  <a:lnTo>
                    <a:pt x="4737" y="428"/>
                  </a:lnTo>
                  <a:lnTo>
                    <a:pt x="4768" y="428"/>
                  </a:lnTo>
                  <a:lnTo>
                    <a:pt x="4799" y="428"/>
                  </a:lnTo>
                  <a:lnTo>
                    <a:pt x="4830" y="431"/>
                  </a:lnTo>
                  <a:lnTo>
                    <a:pt x="4861" y="436"/>
                  </a:lnTo>
                  <a:lnTo>
                    <a:pt x="4892" y="441"/>
                  </a:lnTo>
                  <a:lnTo>
                    <a:pt x="4923" y="449"/>
                  </a:lnTo>
                  <a:lnTo>
                    <a:pt x="4954" y="460"/>
                  </a:lnTo>
                  <a:lnTo>
                    <a:pt x="4982" y="471"/>
                  </a:lnTo>
                  <a:lnTo>
                    <a:pt x="5010" y="481"/>
                  </a:lnTo>
                  <a:lnTo>
                    <a:pt x="5038" y="495"/>
                  </a:lnTo>
                  <a:lnTo>
                    <a:pt x="5050" y="508"/>
                  </a:lnTo>
                  <a:lnTo>
                    <a:pt x="5064" y="521"/>
                  </a:lnTo>
                  <a:lnTo>
                    <a:pt x="5075" y="535"/>
                  </a:lnTo>
                  <a:lnTo>
                    <a:pt x="5086" y="548"/>
                  </a:lnTo>
                  <a:lnTo>
                    <a:pt x="5100" y="559"/>
                  </a:lnTo>
                  <a:lnTo>
                    <a:pt x="5115" y="570"/>
                  </a:lnTo>
                  <a:lnTo>
                    <a:pt x="5131" y="583"/>
                  </a:lnTo>
                  <a:lnTo>
                    <a:pt x="5148" y="594"/>
                  </a:lnTo>
                  <a:lnTo>
                    <a:pt x="5193" y="618"/>
                  </a:lnTo>
                  <a:lnTo>
                    <a:pt x="5241" y="634"/>
                  </a:lnTo>
                  <a:lnTo>
                    <a:pt x="5289" y="642"/>
                  </a:lnTo>
                  <a:lnTo>
                    <a:pt x="5337" y="642"/>
                  </a:lnTo>
                  <a:lnTo>
                    <a:pt x="5385" y="634"/>
                  </a:lnTo>
                  <a:lnTo>
                    <a:pt x="5430" y="618"/>
                  </a:lnTo>
                  <a:lnTo>
                    <a:pt x="5473" y="594"/>
                  </a:lnTo>
                  <a:lnTo>
                    <a:pt x="5512" y="562"/>
                  </a:lnTo>
                  <a:lnTo>
                    <a:pt x="5543" y="527"/>
                  </a:lnTo>
                  <a:lnTo>
                    <a:pt x="5563" y="484"/>
                  </a:lnTo>
                  <a:lnTo>
                    <a:pt x="5574" y="441"/>
                  </a:lnTo>
                  <a:lnTo>
                    <a:pt x="5580" y="396"/>
                  </a:lnTo>
                  <a:lnTo>
                    <a:pt x="5577" y="353"/>
                  </a:lnTo>
                  <a:lnTo>
                    <a:pt x="5568" y="310"/>
                  </a:lnTo>
                  <a:lnTo>
                    <a:pt x="5554" y="276"/>
                  </a:lnTo>
                  <a:lnTo>
                    <a:pt x="5537" y="244"/>
                  </a:lnTo>
                  <a:lnTo>
                    <a:pt x="5509" y="214"/>
                  </a:lnTo>
                  <a:lnTo>
                    <a:pt x="5478" y="190"/>
                  </a:lnTo>
                  <a:lnTo>
                    <a:pt x="5442" y="174"/>
                  </a:lnTo>
                  <a:lnTo>
                    <a:pt x="5402" y="163"/>
                  </a:lnTo>
                  <a:lnTo>
                    <a:pt x="5363" y="163"/>
                  </a:lnTo>
                  <a:lnTo>
                    <a:pt x="5323" y="174"/>
                  </a:lnTo>
                  <a:lnTo>
                    <a:pt x="5289" y="193"/>
                  </a:lnTo>
                  <a:lnTo>
                    <a:pt x="5258" y="222"/>
                  </a:lnTo>
                  <a:lnTo>
                    <a:pt x="5239" y="257"/>
                  </a:lnTo>
                  <a:lnTo>
                    <a:pt x="5233" y="292"/>
                  </a:lnTo>
                  <a:lnTo>
                    <a:pt x="5233" y="324"/>
                  </a:lnTo>
                  <a:lnTo>
                    <a:pt x="5244" y="356"/>
                  </a:lnTo>
                  <a:lnTo>
                    <a:pt x="5258" y="380"/>
                  </a:lnTo>
                  <a:lnTo>
                    <a:pt x="5278" y="399"/>
                  </a:lnTo>
                  <a:lnTo>
                    <a:pt x="5301" y="409"/>
                  </a:lnTo>
                  <a:lnTo>
                    <a:pt x="5323" y="412"/>
                  </a:lnTo>
                  <a:lnTo>
                    <a:pt x="5298" y="399"/>
                  </a:lnTo>
                  <a:lnTo>
                    <a:pt x="5284" y="375"/>
                  </a:lnTo>
                  <a:lnTo>
                    <a:pt x="5278" y="345"/>
                  </a:lnTo>
                  <a:lnTo>
                    <a:pt x="5287" y="313"/>
                  </a:lnTo>
                  <a:lnTo>
                    <a:pt x="5301" y="281"/>
                  </a:lnTo>
                  <a:lnTo>
                    <a:pt x="5326" y="257"/>
                  </a:lnTo>
                  <a:lnTo>
                    <a:pt x="5360" y="246"/>
                  </a:lnTo>
                  <a:lnTo>
                    <a:pt x="5399" y="246"/>
                  </a:lnTo>
                  <a:lnTo>
                    <a:pt x="5433" y="260"/>
                  </a:lnTo>
                  <a:lnTo>
                    <a:pt x="5461" y="281"/>
                  </a:lnTo>
                  <a:lnTo>
                    <a:pt x="5481" y="308"/>
                  </a:lnTo>
                  <a:lnTo>
                    <a:pt x="5492" y="340"/>
                  </a:lnTo>
                  <a:lnTo>
                    <a:pt x="5498" y="375"/>
                  </a:lnTo>
                  <a:lnTo>
                    <a:pt x="5498" y="409"/>
                  </a:lnTo>
                  <a:lnTo>
                    <a:pt x="5490" y="444"/>
                  </a:lnTo>
                  <a:lnTo>
                    <a:pt x="5478" y="476"/>
                  </a:lnTo>
                  <a:lnTo>
                    <a:pt x="5456" y="503"/>
                  </a:lnTo>
                  <a:lnTo>
                    <a:pt x="5428" y="529"/>
                  </a:lnTo>
                  <a:lnTo>
                    <a:pt x="5388" y="548"/>
                  </a:lnTo>
                  <a:lnTo>
                    <a:pt x="5343" y="559"/>
                  </a:lnTo>
                  <a:lnTo>
                    <a:pt x="5295" y="562"/>
                  </a:lnTo>
                  <a:lnTo>
                    <a:pt x="5244" y="551"/>
                  </a:lnTo>
                  <a:lnTo>
                    <a:pt x="5193" y="527"/>
                  </a:lnTo>
                  <a:lnTo>
                    <a:pt x="5143" y="489"/>
                  </a:lnTo>
                  <a:lnTo>
                    <a:pt x="5103" y="441"/>
                  </a:lnTo>
                  <a:lnTo>
                    <a:pt x="5081" y="388"/>
                  </a:lnTo>
                  <a:lnTo>
                    <a:pt x="5069" y="332"/>
                  </a:lnTo>
                  <a:lnTo>
                    <a:pt x="5072" y="273"/>
                  </a:lnTo>
                  <a:lnTo>
                    <a:pt x="5084" y="217"/>
                  </a:lnTo>
                  <a:lnTo>
                    <a:pt x="5103" y="163"/>
                  </a:lnTo>
                  <a:lnTo>
                    <a:pt x="5131" y="115"/>
                  </a:lnTo>
                  <a:lnTo>
                    <a:pt x="5162" y="78"/>
                  </a:lnTo>
                  <a:lnTo>
                    <a:pt x="5188" y="57"/>
                  </a:lnTo>
                  <a:lnTo>
                    <a:pt x="5216" y="38"/>
                  </a:lnTo>
                  <a:lnTo>
                    <a:pt x="5244" y="25"/>
                  </a:lnTo>
                  <a:lnTo>
                    <a:pt x="5275" y="14"/>
                  </a:lnTo>
                  <a:lnTo>
                    <a:pt x="5306" y="6"/>
                  </a:lnTo>
                  <a:lnTo>
                    <a:pt x="5340" y="0"/>
                  </a:lnTo>
                  <a:lnTo>
                    <a:pt x="5371" y="0"/>
                  </a:lnTo>
                  <a:lnTo>
                    <a:pt x="5405" y="3"/>
                  </a:lnTo>
                  <a:lnTo>
                    <a:pt x="5436" y="8"/>
                  </a:lnTo>
                  <a:lnTo>
                    <a:pt x="5467" y="17"/>
                  </a:lnTo>
                  <a:lnTo>
                    <a:pt x="5498" y="27"/>
                  </a:lnTo>
                  <a:lnTo>
                    <a:pt x="5526" y="41"/>
                  </a:lnTo>
                  <a:lnTo>
                    <a:pt x="5554" y="57"/>
                  </a:lnTo>
                  <a:lnTo>
                    <a:pt x="5580" y="75"/>
                  </a:lnTo>
                  <a:lnTo>
                    <a:pt x="5602" y="99"/>
                  </a:lnTo>
                  <a:lnTo>
                    <a:pt x="5622" y="123"/>
                  </a:lnTo>
                  <a:lnTo>
                    <a:pt x="5659" y="185"/>
                  </a:lnTo>
                  <a:lnTo>
                    <a:pt x="5684" y="246"/>
                  </a:lnTo>
                  <a:lnTo>
                    <a:pt x="5698" y="310"/>
                  </a:lnTo>
                  <a:lnTo>
                    <a:pt x="5704" y="372"/>
                  </a:lnTo>
                  <a:lnTo>
                    <a:pt x="5701" y="436"/>
                  </a:lnTo>
                  <a:lnTo>
                    <a:pt x="5687" y="497"/>
                  </a:lnTo>
                  <a:lnTo>
                    <a:pt x="5664" y="556"/>
                  </a:lnTo>
                  <a:lnTo>
                    <a:pt x="5633" y="612"/>
                  </a:lnTo>
                  <a:lnTo>
                    <a:pt x="5611" y="642"/>
                  </a:lnTo>
                  <a:lnTo>
                    <a:pt x="5583" y="668"/>
                  </a:lnTo>
                  <a:lnTo>
                    <a:pt x="5554" y="692"/>
                  </a:lnTo>
                  <a:lnTo>
                    <a:pt x="5523" y="714"/>
                  </a:lnTo>
                  <a:lnTo>
                    <a:pt x="5490" y="730"/>
                  </a:lnTo>
                  <a:lnTo>
                    <a:pt x="5456" y="743"/>
                  </a:lnTo>
                  <a:lnTo>
                    <a:pt x="5419" y="754"/>
                  </a:lnTo>
                  <a:lnTo>
                    <a:pt x="5380" y="759"/>
                  </a:lnTo>
                  <a:lnTo>
                    <a:pt x="5343" y="765"/>
                  </a:lnTo>
                  <a:lnTo>
                    <a:pt x="5303" y="765"/>
                  </a:lnTo>
                  <a:lnTo>
                    <a:pt x="5267" y="762"/>
                  </a:lnTo>
                  <a:lnTo>
                    <a:pt x="5230" y="757"/>
                  </a:lnTo>
                  <a:lnTo>
                    <a:pt x="5193" y="749"/>
                  </a:lnTo>
                  <a:lnTo>
                    <a:pt x="5157" y="738"/>
                  </a:lnTo>
                  <a:lnTo>
                    <a:pt x="5123" y="722"/>
                  </a:lnTo>
                  <a:lnTo>
                    <a:pt x="5092" y="706"/>
                  </a:lnTo>
                  <a:lnTo>
                    <a:pt x="5064" y="690"/>
                  </a:lnTo>
                  <a:lnTo>
                    <a:pt x="5033" y="674"/>
                  </a:lnTo>
                  <a:lnTo>
                    <a:pt x="5002" y="658"/>
                  </a:lnTo>
                  <a:lnTo>
                    <a:pt x="4968" y="644"/>
                  </a:lnTo>
                  <a:lnTo>
                    <a:pt x="4934" y="634"/>
                  </a:lnTo>
                  <a:lnTo>
                    <a:pt x="4900" y="626"/>
                  </a:lnTo>
                  <a:lnTo>
                    <a:pt x="4866" y="618"/>
                  </a:lnTo>
                  <a:lnTo>
                    <a:pt x="4830" y="612"/>
                  </a:lnTo>
                  <a:lnTo>
                    <a:pt x="4796" y="610"/>
                  </a:lnTo>
                  <a:lnTo>
                    <a:pt x="4759" y="607"/>
                  </a:lnTo>
                  <a:lnTo>
                    <a:pt x="4725" y="610"/>
                  </a:lnTo>
                  <a:lnTo>
                    <a:pt x="4689" y="615"/>
                  </a:lnTo>
                  <a:lnTo>
                    <a:pt x="4652" y="623"/>
                  </a:lnTo>
                  <a:lnTo>
                    <a:pt x="4618" y="634"/>
                  </a:lnTo>
                  <a:lnTo>
                    <a:pt x="4585" y="647"/>
                  </a:lnTo>
                  <a:lnTo>
                    <a:pt x="4551" y="666"/>
                  </a:lnTo>
                  <a:lnTo>
                    <a:pt x="4517" y="684"/>
                  </a:lnTo>
                  <a:lnTo>
                    <a:pt x="4483" y="700"/>
                  </a:lnTo>
                  <a:lnTo>
                    <a:pt x="4446" y="716"/>
                  </a:lnTo>
                  <a:lnTo>
                    <a:pt x="4407" y="730"/>
                  </a:lnTo>
                  <a:lnTo>
                    <a:pt x="4367" y="743"/>
                  </a:lnTo>
                  <a:lnTo>
                    <a:pt x="4328" y="754"/>
                  </a:lnTo>
                  <a:lnTo>
                    <a:pt x="4286" y="762"/>
                  </a:lnTo>
                  <a:lnTo>
                    <a:pt x="4243" y="770"/>
                  </a:lnTo>
                  <a:lnTo>
                    <a:pt x="4198" y="773"/>
                  </a:lnTo>
                  <a:lnTo>
                    <a:pt x="4153" y="775"/>
                  </a:lnTo>
                  <a:lnTo>
                    <a:pt x="4108" y="773"/>
                  </a:lnTo>
                  <a:lnTo>
                    <a:pt x="4060" y="770"/>
                  </a:lnTo>
                  <a:lnTo>
                    <a:pt x="4015" y="762"/>
                  </a:lnTo>
                  <a:lnTo>
                    <a:pt x="3967" y="749"/>
                  </a:lnTo>
                  <a:lnTo>
                    <a:pt x="3916" y="735"/>
                  </a:lnTo>
                  <a:lnTo>
                    <a:pt x="3868" y="716"/>
                  </a:lnTo>
                  <a:lnTo>
                    <a:pt x="3820" y="698"/>
                  </a:lnTo>
                  <a:lnTo>
                    <a:pt x="3773" y="679"/>
                  </a:lnTo>
                  <a:lnTo>
                    <a:pt x="3727" y="663"/>
                  </a:lnTo>
                  <a:lnTo>
                    <a:pt x="3682" y="647"/>
                  </a:lnTo>
                  <a:lnTo>
                    <a:pt x="3637" y="634"/>
                  </a:lnTo>
                  <a:lnTo>
                    <a:pt x="3595" y="623"/>
                  </a:lnTo>
                  <a:lnTo>
                    <a:pt x="3553" y="612"/>
                  </a:lnTo>
                  <a:lnTo>
                    <a:pt x="3513" y="607"/>
                  </a:lnTo>
                  <a:lnTo>
                    <a:pt x="3471" y="602"/>
                  </a:lnTo>
                  <a:lnTo>
                    <a:pt x="3434" y="599"/>
                  </a:lnTo>
                  <a:lnTo>
                    <a:pt x="3395" y="602"/>
                  </a:lnTo>
                  <a:lnTo>
                    <a:pt x="3358" y="607"/>
                  </a:lnTo>
                  <a:lnTo>
                    <a:pt x="3321" y="615"/>
                  </a:lnTo>
                  <a:lnTo>
                    <a:pt x="3285" y="626"/>
                  </a:lnTo>
                  <a:lnTo>
                    <a:pt x="3251" y="642"/>
                  </a:lnTo>
                  <a:lnTo>
                    <a:pt x="3217" y="660"/>
                  </a:lnTo>
                  <a:lnTo>
                    <a:pt x="3152" y="698"/>
                  </a:lnTo>
                  <a:lnTo>
                    <a:pt x="3093" y="727"/>
                  </a:lnTo>
                  <a:lnTo>
                    <a:pt x="3037" y="749"/>
                  </a:lnTo>
                  <a:lnTo>
                    <a:pt x="2986" y="765"/>
                  </a:lnTo>
                  <a:lnTo>
                    <a:pt x="2944" y="778"/>
                  </a:lnTo>
                  <a:lnTo>
                    <a:pt x="2904" y="783"/>
                  </a:lnTo>
                  <a:lnTo>
                    <a:pt x="2876" y="789"/>
                  </a:lnTo>
                  <a:lnTo>
                    <a:pt x="2853" y="789"/>
                  </a:lnTo>
                  <a:lnTo>
                    <a:pt x="2831" y="789"/>
                  </a:lnTo>
                  <a:lnTo>
                    <a:pt x="2803" y="783"/>
                  </a:lnTo>
                  <a:lnTo>
                    <a:pt x="2766" y="778"/>
                  </a:lnTo>
                  <a:lnTo>
                    <a:pt x="2721" y="765"/>
                  </a:lnTo>
                  <a:lnTo>
                    <a:pt x="2670" y="749"/>
                  </a:lnTo>
                  <a:lnTo>
                    <a:pt x="2614" y="727"/>
                  </a:lnTo>
                  <a:lnTo>
                    <a:pt x="2555" y="698"/>
                  </a:lnTo>
                  <a:lnTo>
                    <a:pt x="2490" y="660"/>
                  </a:lnTo>
                  <a:lnTo>
                    <a:pt x="2456" y="642"/>
                  </a:lnTo>
                  <a:lnTo>
                    <a:pt x="2422" y="626"/>
                  </a:lnTo>
                  <a:lnTo>
                    <a:pt x="2385" y="615"/>
                  </a:lnTo>
                  <a:lnTo>
                    <a:pt x="2349" y="607"/>
                  </a:lnTo>
                  <a:lnTo>
                    <a:pt x="2312" y="602"/>
                  </a:lnTo>
                  <a:lnTo>
                    <a:pt x="2273" y="599"/>
                  </a:lnTo>
                  <a:lnTo>
                    <a:pt x="2236" y="602"/>
                  </a:lnTo>
                  <a:lnTo>
                    <a:pt x="2194" y="607"/>
                  </a:lnTo>
                  <a:lnTo>
                    <a:pt x="2154" y="612"/>
                  </a:lnTo>
                  <a:lnTo>
                    <a:pt x="2112" y="623"/>
                  </a:lnTo>
                  <a:lnTo>
                    <a:pt x="2070" y="634"/>
                  </a:lnTo>
                  <a:lnTo>
                    <a:pt x="2025" y="647"/>
                  </a:lnTo>
                  <a:lnTo>
                    <a:pt x="1979" y="663"/>
                  </a:lnTo>
                  <a:lnTo>
                    <a:pt x="1934" y="679"/>
                  </a:lnTo>
                  <a:lnTo>
                    <a:pt x="1886" y="698"/>
                  </a:lnTo>
                  <a:lnTo>
                    <a:pt x="1838" y="716"/>
                  </a:lnTo>
                  <a:lnTo>
                    <a:pt x="1791" y="735"/>
                  </a:lnTo>
                  <a:lnTo>
                    <a:pt x="1740" y="749"/>
                  </a:lnTo>
                  <a:lnTo>
                    <a:pt x="1692" y="762"/>
                  </a:lnTo>
                  <a:lnTo>
                    <a:pt x="1647" y="770"/>
                  </a:lnTo>
                  <a:lnTo>
                    <a:pt x="1599" y="773"/>
                  </a:lnTo>
                  <a:lnTo>
                    <a:pt x="1554" y="775"/>
                  </a:lnTo>
                  <a:lnTo>
                    <a:pt x="1509" y="773"/>
                  </a:lnTo>
                  <a:lnTo>
                    <a:pt x="1463" y="770"/>
                  </a:lnTo>
                  <a:lnTo>
                    <a:pt x="1421" y="762"/>
                  </a:lnTo>
                  <a:lnTo>
                    <a:pt x="1379" y="754"/>
                  </a:lnTo>
                  <a:lnTo>
                    <a:pt x="1337" y="743"/>
                  </a:lnTo>
                  <a:lnTo>
                    <a:pt x="1297" y="730"/>
                  </a:lnTo>
                  <a:lnTo>
                    <a:pt x="1258" y="716"/>
                  </a:lnTo>
                  <a:lnTo>
                    <a:pt x="1221" y="700"/>
                  </a:lnTo>
                  <a:lnTo>
                    <a:pt x="1187" y="684"/>
                  </a:lnTo>
                  <a:lnTo>
                    <a:pt x="1153" y="666"/>
                  </a:lnTo>
                  <a:lnTo>
                    <a:pt x="1119" y="647"/>
                  </a:lnTo>
                  <a:lnTo>
                    <a:pt x="1086" y="634"/>
                  </a:lnTo>
                  <a:lnTo>
                    <a:pt x="1052" y="623"/>
                  </a:lnTo>
                  <a:lnTo>
                    <a:pt x="1015" y="615"/>
                  </a:lnTo>
                  <a:lnTo>
                    <a:pt x="979" y="610"/>
                  </a:lnTo>
                  <a:lnTo>
                    <a:pt x="945" y="607"/>
                  </a:lnTo>
                  <a:lnTo>
                    <a:pt x="908" y="610"/>
                  </a:lnTo>
                  <a:lnTo>
                    <a:pt x="874" y="612"/>
                  </a:lnTo>
                  <a:lnTo>
                    <a:pt x="838" y="618"/>
                  </a:lnTo>
                  <a:lnTo>
                    <a:pt x="804" y="626"/>
                  </a:lnTo>
                  <a:lnTo>
                    <a:pt x="770" y="634"/>
                  </a:lnTo>
                  <a:lnTo>
                    <a:pt x="736" y="644"/>
                  </a:lnTo>
                  <a:lnTo>
                    <a:pt x="702" y="658"/>
                  </a:lnTo>
                  <a:lnTo>
                    <a:pt x="671" y="674"/>
                  </a:lnTo>
                  <a:lnTo>
                    <a:pt x="640" y="690"/>
                  </a:lnTo>
                  <a:lnTo>
                    <a:pt x="612" y="706"/>
                  </a:lnTo>
                  <a:lnTo>
                    <a:pt x="581" y="722"/>
                  </a:lnTo>
                  <a:lnTo>
                    <a:pt x="547" y="738"/>
                  </a:lnTo>
                  <a:lnTo>
                    <a:pt x="511" y="749"/>
                  </a:lnTo>
                  <a:lnTo>
                    <a:pt x="474" y="757"/>
                  </a:lnTo>
                  <a:lnTo>
                    <a:pt x="437" y="762"/>
                  </a:lnTo>
                  <a:lnTo>
                    <a:pt x="401" y="765"/>
                  </a:lnTo>
                  <a:lnTo>
                    <a:pt x="361" y="765"/>
                  </a:lnTo>
                  <a:lnTo>
                    <a:pt x="324" y="759"/>
                  </a:lnTo>
                  <a:lnTo>
                    <a:pt x="285" y="754"/>
                  </a:lnTo>
                  <a:lnTo>
                    <a:pt x="248" y="743"/>
                  </a:lnTo>
                  <a:lnTo>
                    <a:pt x="214" y="730"/>
                  </a:lnTo>
                  <a:lnTo>
                    <a:pt x="181" y="714"/>
                  </a:lnTo>
                  <a:lnTo>
                    <a:pt x="150" y="692"/>
                  </a:lnTo>
                  <a:lnTo>
                    <a:pt x="121" y="668"/>
                  </a:lnTo>
                  <a:lnTo>
                    <a:pt x="93" y="642"/>
                  </a:lnTo>
                  <a:lnTo>
                    <a:pt x="71" y="612"/>
                  </a:lnTo>
                  <a:lnTo>
                    <a:pt x="40" y="556"/>
                  </a:lnTo>
                  <a:lnTo>
                    <a:pt x="17" y="497"/>
                  </a:lnTo>
                  <a:lnTo>
                    <a:pt x="3" y="436"/>
                  </a:lnTo>
                  <a:lnTo>
                    <a:pt x="0" y="372"/>
                  </a:lnTo>
                  <a:lnTo>
                    <a:pt x="6" y="310"/>
                  </a:lnTo>
                  <a:lnTo>
                    <a:pt x="20" y="246"/>
                  </a:lnTo>
                  <a:lnTo>
                    <a:pt x="45" y="185"/>
                  </a:lnTo>
                  <a:lnTo>
                    <a:pt x="82" y="123"/>
                  </a:lnTo>
                  <a:close/>
                </a:path>
              </a:pathLst>
            </a:custGeom>
            <a:solidFill>
              <a:srgbClr val="ff9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8"/>
          <p:cNvSpPr/>
          <p:nvPr/>
        </p:nvSpPr>
        <p:spPr>
          <a:xfrm>
            <a:off x="714240" y="-568080"/>
            <a:ext cx="8072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5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800" spc="-1" strike="noStrike">
                <a:solidFill>
                  <a:srgbClr val="0000ff"/>
                </a:solidFill>
                <a:latin typeface="Angsana New"/>
                <a:cs typeface="IrisUPC"/>
              </a:rPr>
              <a:t>เมื่อท่านผ่านการอบร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428760" y="13197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800" spc="-1" strike="noStrike">
                <a:solidFill>
                  <a:srgbClr val="006600"/>
                </a:solidFill>
                <a:latin typeface="Angsana New"/>
                <a:cs typeface="LilyUPC"/>
              </a:rPr>
              <a:t>จะได้รับ </a:t>
            </a:r>
            <a:r>
              <a:rPr b="1" lang="th-TH" sz="8800" spc="-1" strike="noStrike">
                <a:solidFill>
                  <a:srgbClr val="c3260c"/>
                </a:solidFill>
                <a:latin typeface="Angsana New"/>
                <a:cs typeface="LilyUPC"/>
              </a:rPr>
              <a:t>วุฒิบัต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142920" y="950760"/>
            <a:ext cx="8929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66"/>
                </a:solidFill>
                <a:latin typeface="Angsana New"/>
                <a:cs typeface="LilyUPC"/>
              </a:rPr>
              <a:t>หากใช้ผลการคัดกรอง ไม่เป็นไปเพื่อ</a:t>
            </a:r>
            <a:br>
              <a:rPr sz="6000"/>
            </a:br>
            <a:r>
              <a:rPr b="1" lang="th-TH" sz="6000" spc="-1" strike="noStrike">
                <a:solidFill>
                  <a:srgbClr val="000066"/>
                </a:solidFill>
                <a:latin typeface="Angsana New"/>
                <a:cs typeface="LilyUPC"/>
              </a:rPr>
              <a:t>การช่วยเหลือผู้พิการ หรือไม่เป็นไปตามประกาศ ท่านจะ </a:t>
            </a:r>
            <a:r>
              <a:rPr b="1" lang="th-TH" sz="6000" spc="-1" strike="noStrike">
                <a:solidFill>
                  <a:srgbClr val="c00000"/>
                </a:solidFill>
                <a:latin typeface="Angsana New"/>
                <a:ea typeface="LilyUPC"/>
              </a:rPr>
              <a:t>“ถูกเพิกถอนวุฒิบัตร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85880" y="856800"/>
            <a:ext cx="7572240" cy="4473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ff0066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1000" spc="-1" strike="noStrike">
                <a:solidFill>
                  <a:srgbClr val="000000"/>
                </a:solidFill>
                <a:latin typeface="Calibri"/>
                <a:cs typeface="Cordia New"/>
              </a:rPr>
              <a:t>เข้าใจ</a:t>
            </a:r>
            <a:br>
              <a:rPr sz="11000"/>
            </a:br>
            <a:r>
              <a:rPr b="1" i="1" lang="th-TH" sz="11000" spc="-1" strike="noStrike">
                <a:solidFill>
                  <a:srgbClr val="000000"/>
                </a:solidFill>
                <a:latin typeface="Calibri"/>
                <a:cs typeface="Cordia New"/>
              </a:rPr>
              <a:t>หรือยัง คะ 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3" descr="61-20081127180508.gif"/>
          <p:cNvPicPr/>
          <p:nvPr/>
        </p:nvPicPr>
        <p:blipFill>
          <a:blip r:embed="rId1"/>
          <a:stretch/>
        </p:blipFill>
        <p:spPr>
          <a:xfrm>
            <a:off x="6572160" y="3857760"/>
            <a:ext cx="17146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a00000024"/>
          <p:cNvPicPr/>
          <p:nvPr/>
        </p:nvPicPr>
        <p:blipFill>
          <a:blip r:embed="rId1"/>
          <a:stretch/>
        </p:blipFill>
        <p:spPr>
          <a:xfrm>
            <a:off x="5500800" y="2571840"/>
            <a:ext cx="3143160" cy="31827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1500120"/>
            <a:ext cx="657216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700" spc="-1" strike="noStrike">
                <a:solidFill>
                  <a:srgbClr val="006600"/>
                </a:solidFill>
                <a:latin typeface="Calibri"/>
                <a:cs typeface="Tahoma"/>
              </a:rPr>
              <a:t>จบแล้วค่ะ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6T16:41:58Z</dcterms:created>
  <dc:creator>ACER</dc:creator>
  <dc:description/>
  <dc:language>en-US</dc:language>
  <cp:lastModifiedBy>JPB</cp:lastModifiedBy>
  <dcterms:modified xsi:type="dcterms:W3CDTF">2005-06-03T14:13:54Z</dcterms:modified>
  <cp:revision>180</cp:revision>
  <dc:subject/>
  <dc:title>การจัดทำ แผนการจัดการศึกษาเฉพาะบุคคล</dc:title>
</cp:coreProperties>
</file>