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21.jpeg" ContentType="image/jpeg"/>
  <Override PartName="/ppt/media/image16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B25-FA1B-4384-847D-210C66CE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BA2-AF95-4724-A8DE-0A585B26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244-C906-4379-BE8D-F581BB36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A41-B55A-48D4-B310-E120AE4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B26-A0C4-4B53-B28A-A1A0F1E0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033-7997-4EC1-9E79-1CCD9E0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306-ABF9-4DC5-B999-8F41EE91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1E7-CE55-4309-AE43-B888EF3E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BF6-F587-4FD8-A8CA-7C730CC3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42A-7FFF-4B25-AF06-B4F10DE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0A8-FEE0-4189-9252-8670E60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B57-CD22-48DB-B81B-740D15B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E5AD-F0B6-476C-A76B-72D61BF40F2F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hyperlink" Target="http://www.google.co.th/url?sa=i&amp;rct=j&amp;q=&amp;esrc=s&amp;frm=1&amp;source=images&amp;cd=&amp;cad=rja&amp;uact=8&amp;ved=0CAcQjRw&amp;url=http://obecrobot.circlecamp.com/index.php?page=robotcompettion2014&amp;ei=dXZGVLroBMygugT3rIAo&amp;bvm=bv.77880786,d.dGY&amp;psig=AFQjCNES1kU7bYxb36D4iOyDZ7EK2XxYvA&amp;ust=1413990238162661" TargetMode="External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01400"/>
            <a:ext cx="91440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3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ะหว่างวันที่ </a:t>
            </a:r>
            <a:r>
              <a:rPr b="1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8 – 31 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กฎาคม </a:t>
            </a:r>
            <a:r>
              <a:rPr b="1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ณ ศูนย์ประชุมวายุภักษ์  โรงแรมเซ็นทรา  ศูนย์ราชการและคอนเวนชันเซ็นเตอร์  แจ้งวัฒ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875040" y="357120"/>
            <a:ext cx="12686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0" y="2900520"/>
            <a:ext cx="9144000" cy="3862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H SarabunPSK"/>
                <a:ea typeface="TH SarabunPS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1203480" y="1068480"/>
            <a:ext cx="70149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ิธีเปิด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8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ประชุมวิชาการนานาชาติ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8 -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0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จัดนิทรรศการ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8 -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0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ประชุมโต๊ะกลม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SEAMEO – SEN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8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ประชุมปฏิบัติการ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workshop)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0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จัดงานเลี้ยงต้อนรั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รั้งที่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งานเลี้ยงต้อนรับ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Welcome Reception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7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รั้งที่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งานเลี้ยงต้อนรับอย่างเป็นทางการ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nternational Banqu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รั้งที่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งานเลี้ยงบนเรือ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Dinner Cruise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9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.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ศึกษาดูงาน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1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8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1301760" y="0"/>
            <a:ext cx="7842240" cy="765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ิจกรรมหลักในงา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4" descr=""/>
          <p:cNvPicPr/>
          <p:nvPr/>
        </p:nvPicPr>
        <p:blipFill>
          <a:blip r:embed="rId1"/>
          <a:stretch/>
        </p:blipFill>
        <p:spPr>
          <a:xfrm>
            <a:off x="622440" y="658800"/>
            <a:ext cx="7899120" cy="5699160"/>
          </a:xfrm>
          <a:prstGeom prst="rect">
            <a:avLst/>
          </a:prstGeom>
          <a:ln w="0">
            <a:noFill/>
          </a:ln>
        </p:spPr>
      </p:pic>
      <p:sp>
        <p:nvSpPr>
          <p:cNvPr id="124" name="Title 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ัวข้อ การประชุมวิชากา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4" descr=""/>
          <p:cNvPicPr/>
          <p:nvPr/>
        </p:nvPicPr>
        <p:blipFill>
          <a:blip r:embed="rId1"/>
          <a:stretch/>
        </p:blipFill>
        <p:spPr>
          <a:xfrm>
            <a:off x="622440" y="890640"/>
            <a:ext cx="7899120" cy="5254560"/>
          </a:xfrm>
          <a:prstGeom prst="rect">
            <a:avLst/>
          </a:prstGeom>
          <a:ln w="0">
            <a:noFill/>
          </a:ln>
        </p:spPr>
      </p:pic>
      <p:sp>
        <p:nvSpPr>
          <p:cNvPr id="129" name="Title 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ัวข้อ การประชุมปฏิบัติกา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4" descr=""/>
          <p:cNvPicPr/>
          <p:nvPr/>
        </p:nvPicPr>
        <p:blipFill>
          <a:blip r:embed="rId1"/>
          <a:stretch/>
        </p:blipFill>
        <p:spPr>
          <a:xfrm>
            <a:off x="682560" y="1219320"/>
            <a:ext cx="7894800" cy="4352760"/>
          </a:xfrm>
          <a:prstGeom prst="rect">
            <a:avLst/>
          </a:prstGeom>
          <a:ln w="0">
            <a:noFill/>
          </a:ln>
        </p:spPr>
      </p:pic>
      <p:sp>
        <p:nvSpPr>
          <p:cNvPr id="134" name="Title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ิทรรศการและแหล่งเรียนรู้ภายในงา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4" descr=""/>
          <p:cNvPicPr/>
          <p:nvPr/>
        </p:nvPicPr>
        <p:blipFill>
          <a:blip r:embed="rId1"/>
          <a:stretch/>
        </p:blipFill>
        <p:spPr>
          <a:xfrm>
            <a:off x="493560" y="957240"/>
            <a:ext cx="8028000" cy="510876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ศึกษาดูงา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0520" y="2185920"/>
            <a:ext cx="9123480" cy="2886120"/>
          </a:xfrm>
          <a:prstGeom prst="rect">
            <a:avLst/>
          </a:prstGeom>
          <a:ln w="0">
            <a:noFill/>
          </a:ln>
        </p:spPr>
      </p:pic>
      <p:sp>
        <p:nvSpPr>
          <p:cNvPr id="144" name="Title 1"/>
          <p:cNvSpPr/>
          <p:nvPr/>
        </p:nvSpPr>
        <p:spPr>
          <a:xfrm>
            <a:off x="0" y="0"/>
            <a:ext cx="9144000" cy="841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</a:t>
            </a:r>
            <a:r>
              <a:rPr b="1" lang="th-TH" sz="4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ผนผังการจัดพื้นที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714240" y="1116000"/>
            <a:ext cx="785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604a7b"/>
                </a:solidFill>
                <a:latin typeface="TH SarabunPSK"/>
                <a:cs typeface="TH SarabunPSK"/>
              </a:rPr>
              <a:t>ศูนย์ประชุมวายุภักษ์  โรงแรมเซ็นทรา ศูนย์ราชการและคอนเวนชันเซ็นเตอ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604a7b"/>
                </a:solidFill>
                <a:latin typeface="TH SarabunPSK"/>
                <a:cs typeface="TH SarabunPSK"/>
              </a:rPr>
              <a:t>แจ้งวัฒนะ กรุงเทพมหานค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ลที่คาดว่าจะเกิดจากการจัดประชุมวิชาการนานาชาต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285840" y="1143000"/>
          <a:ext cx="8643960" cy="2193840"/>
        </p:xfrm>
        <a:graphic>
          <a:graphicData uri="http://schemas.openxmlformats.org/drawingml/2006/table">
            <a:tbl>
              <a:tblPr/>
              <a:tblGrid>
                <a:gridCol w="86439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ยุทธศาสตร์การจัดการศึกษาพิเศษ จากการประชุมโต๊ะกล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ฏิญญาการจัดการศึกษาพิเศษ จากการประชุมโต๊ะกล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องค์ความรู้จากการประชุมวิชาการและการประชุมปฏิบัติ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ารแลกเปลี่ยนเรียนรู้  แสดงความคิดเห็น  ประสบการณ์ด้านวิชาการ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พื่อยกระดับการจัดการศึกษาพิเศ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5" descr="Screen Shot 2558-05-12 at 5.04.11 AM.png"/>
          <p:cNvPicPr/>
          <p:nvPr/>
        </p:nvPicPr>
        <p:blipFill>
          <a:blip r:embed="rId1"/>
          <a:srcRect l="0" t="0" r="0" b="49876"/>
          <a:stretch/>
        </p:blipFill>
        <p:spPr>
          <a:xfrm>
            <a:off x="328680" y="1432080"/>
            <a:ext cx="3940200" cy="39495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sp>
        <p:nvSpPr>
          <p:cNvPr id="155" name="TextBox 4"/>
          <p:cNvSpPr/>
          <p:nvPr/>
        </p:nvSpPr>
        <p:spPr>
          <a:xfrm>
            <a:off x="4979880" y="3332160"/>
            <a:ext cx="369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ใช้รูปแบบตัวอักษรที่เรียบง่ายแสดงถึงความเป็นสาก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979880" y="714240"/>
            <a:ext cx="394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สร้างจุดเด่นของโลโก้ด้วยอักษร 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S” </a:t>
            </a: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ี่มีลักษณะไม่สมบูรณ์ เปรียบเสมือนความไม่สมบูรณ์ในตัวมนุษย์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ศึกษาช่วยขจัดความเลื่อมล้ำ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ห้ทุกคนได้มีโอกาสที่เท่าเทียมก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979880" y="4572000"/>
            <a:ext cx="405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ีม่วง เพื่อเฉลิมพระเกียรติ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มเด็จพระเทพรัตน์ฯ ราชสุดาสยามบรมราชกุมารีที่มีต่อการศึกษาพิเศ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9"/>
          <p:cNvSpPr/>
          <p:nvPr/>
        </p:nvSpPr>
        <p:spPr>
          <a:xfrm>
            <a:off x="2873520" y="1989000"/>
            <a:ext cx="2073240" cy="360"/>
          </a:xfrm>
          <a:custGeom>
            <a:avLst/>
            <a:gdLst/>
            <a:ahLst/>
            <a:rect l="l" t="t" r="r" b="b"/>
            <a:pathLst>
              <a:path w="2071916" h="0">
                <a:moveTo>
                  <a:pt x="0" y="0"/>
                </a:moveTo>
                <a:lnTo>
                  <a:pt x="2071916" y="0"/>
                </a:lnTo>
                <a:lnTo>
                  <a:pt x="207191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 flipV="1">
            <a:off x="4143240" y="3622680"/>
            <a:ext cx="803520" cy="46080"/>
          </a:xfrm>
          <a:custGeom>
            <a:avLst/>
            <a:gdLst/>
            <a:ahLst/>
            <a:rect l="l" t="t" r="r" b="b"/>
            <a:pathLst>
              <a:path w="2071916" h="46038">
                <a:moveTo>
                  <a:pt x="0" y="0"/>
                </a:moveTo>
                <a:lnTo>
                  <a:pt x="2071916" y="0"/>
                </a:lnTo>
                <a:lnTo>
                  <a:pt x="207191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2873520" y="5286240"/>
            <a:ext cx="2073240" cy="360"/>
          </a:xfrm>
          <a:custGeom>
            <a:avLst/>
            <a:gdLst/>
            <a:ahLst/>
            <a:rect l="l" t="t" r="r" b="b"/>
            <a:pathLst>
              <a:path w="2071916" h="0">
                <a:moveTo>
                  <a:pt x="0" y="0"/>
                </a:moveTo>
                <a:lnTo>
                  <a:pt x="2071916" y="0"/>
                </a:lnTo>
                <a:lnTo>
                  <a:pt x="207191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179280" y="-1440"/>
            <a:ext cx="9144000" cy="75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LO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le 1"/>
          <p:cNvSpPr/>
          <p:nvPr/>
        </p:nvSpPr>
        <p:spPr>
          <a:xfrm>
            <a:off x="179280" y="-19080"/>
            <a:ext cx="9144000" cy="80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Masc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Screen Shot 2558-05-12 at 5.14.22 AM.png"/>
          <p:cNvPicPr/>
          <p:nvPr/>
        </p:nvPicPr>
        <p:blipFill>
          <a:blip r:embed="rId1"/>
          <a:stretch/>
        </p:blipFill>
        <p:spPr>
          <a:xfrm>
            <a:off x="484200" y="1039680"/>
            <a:ext cx="7680240" cy="47102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1693800" y="5830920"/>
            <a:ext cx="5622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Good By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0" y="14760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13880" y="1415520"/>
            <a:ext cx="765828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080" indent="10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้วยความตระหนักถึงปัญหาความเท่าเทียมในการเข้าถึงการศึกษา        ที่มีคุณภาพสำหรับนักเรียนที่มีความต้องการจำเป็นพิเศษ ในภูมิภาคเอเชียตะวันออกเฉียงใต้ ที่ประชุมสภารัฐมนตรีศึกษาแห่งเอเชีย   ตะวันออกเฉียงใต้ </a:t>
            </a:r>
            <a:r>
              <a:rPr b="1" lang="en-US" sz="3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SEAMEC) </a:t>
            </a:r>
            <a:r>
              <a:rPr b="1" lang="th-TH" sz="3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รั้งที่</a:t>
            </a:r>
            <a:r>
              <a:rPr b="1" lang="en-US" sz="3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4 </a:t>
            </a:r>
            <a:r>
              <a:rPr b="1" lang="th-TH" sz="3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ึงมีมติให้ก่อตั้งองค์การรัฐมนตรีศึกษาแห่งเอเชียตะวันออกเฉียงใต้ ด้านการศึกษาพิเศษ </a:t>
            </a:r>
            <a:r>
              <a:rPr b="1" lang="en-US" sz="3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SEAMEO-SEN) </a:t>
            </a:r>
            <a:r>
              <a:rPr b="1" lang="th-TH" sz="3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โดยมีวัตถุประสงค์เพื่อส่งเสริมและสร้างความเข้มแข็งในการจัดการศึกษาพิเศษในกลุ่มประเทศสมาชิกซีมีโอ เพื่อสร้างความเท่าเทียมกัน           ในการเข้าถึงบริการด้านการศึกษาที่มีคุณภาพสำหรับนักเรียนที่มี      ความต้องการจำเป็นพิเศษ และนักเรียนที่มีความสามารถพิเศษ          ในภูมิภาคเอเชียตะวันออกเฉียงใต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080" indent="10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Calibri"/>
                <a:cs typeface="TH SarabunPSK"/>
              </a:rPr>
              <a:t>ความเป็นมาของซีมีโอ</a:t>
            </a:r>
            <a:r>
              <a:rPr b="1" lang="th-TH" sz="5400" spc="-1" strike="noStrike">
                <a:solidFill>
                  <a:srgbClr val="000000"/>
                </a:solidFill>
                <a:latin typeface="Calibri"/>
                <a:ea typeface="TH SarabunPSK"/>
              </a:rPr>
              <a:t>-</a:t>
            </a:r>
            <a:r>
              <a:rPr b="1" lang="th-TH" sz="5400" spc="-1" strike="noStrike">
                <a:solidFill>
                  <a:srgbClr val="000000"/>
                </a:solidFill>
                <a:latin typeface="Calibri"/>
                <a:cs typeface="TH SarabunPSK"/>
              </a:rPr>
              <a:t>เซ็น</a:t>
            </a:r>
            <a:r>
              <a:rPr b="1" lang="en-US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SEAMEO-S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785880" y="1139760"/>
            <a:ext cx="7199280" cy="51087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ลักษณะการดำเนินการความร่วมมื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ตัวยึดเนื้อหา 3" descr=""/>
          <p:cNvPicPr/>
          <p:nvPr/>
        </p:nvPicPr>
        <p:blipFill>
          <a:blip r:embed="rId1"/>
          <a:stretch/>
        </p:blipFill>
        <p:spPr>
          <a:xfrm>
            <a:off x="469800" y="1390680"/>
            <a:ext cx="8229600" cy="34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D:\OBEC\Pictures\Perkins111111111111111.jpg"/>
          <p:cNvPicPr/>
          <p:nvPr/>
        </p:nvPicPr>
        <p:blipFill>
          <a:blip r:embed="rId2"/>
          <a:stretch/>
        </p:blipFill>
        <p:spPr>
          <a:xfrm>
            <a:off x="7256520" y="1428840"/>
            <a:ext cx="1298520" cy="97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bangkokbiznews.com/home/media/2014/02/25/images/news_img_565410_1.jpg"/>
          <p:cNvPicPr/>
          <p:nvPr/>
        </p:nvPicPr>
        <p:blipFill>
          <a:blip r:embed="rId3"/>
          <a:stretch/>
        </p:blipFill>
        <p:spPr>
          <a:xfrm>
            <a:off x="7256520" y="2940120"/>
            <a:ext cx="1519200" cy="85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www.cbm.org/article/images/8331457_1d2cf95f74.jpg"/>
          <p:cNvPicPr/>
          <p:nvPr/>
        </p:nvPicPr>
        <p:blipFill>
          <a:blip r:embed="rId4"/>
          <a:stretch/>
        </p:blipFill>
        <p:spPr>
          <a:xfrm>
            <a:off x="324000" y="12366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aseanidpp.org/sites/default/files/idpp-for-the-asean-region_logo_highres.png"/>
          <p:cNvPicPr/>
          <p:nvPr/>
        </p:nvPicPr>
        <p:blipFill>
          <a:blip r:embed="rId5"/>
          <a:stretch/>
        </p:blipFill>
        <p:spPr>
          <a:xfrm>
            <a:off x="179280" y="3559320"/>
            <a:ext cx="2668680" cy="688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9"/>
          <p:cNvSpPr/>
          <p:nvPr/>
        </p:nvSpPr>
        <p:spPr>
          <a:xfrm>
            <a:off x="173160" y="69696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173160" y="69696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5" descr="https://encrypted-tbn2.gstatic.com/images?q=tbn:ANd9GcROVljIpvkktHqh8vD0BkDR936gvER5fHUu5FANZf-gUcaRLYX_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2478240"/>
            <a:ext cx="950760" cy="79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8"/>
          <a:stretch/>
        </p:blipFill>
        <p:spPr>
          <a:xfrm>
            <a:off x="1344600" y="4719600"/>
            <a:ext cx="1711440" cy="6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9"/>
          <a:stretch/>
        </p:blipFill>
        <p:spPr>
          <a:xfrm>
            <a:off x="6970680" y="4506840"/>
            <a:ext cx="1560600" cy="44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10"/>
          <a:stretch/>
        </p:blipFill>
        <p:spPr>
          <a:xfrm>
            <a:off x="3701880" y="4451400"/>
            <a:ext cx="752760" cy="752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G-accredited-logo"/>
          <p:cNvPicPr/>
          <p:nvPr/>
        </p:nvPicPr>
        <p:blipFill>
          <a:blip r:embed="rId11"/>
          <a:stretch/>
        </p:blipFill>
        <p:spPr>
          <a:xfrm>
            <a:off x="5929200" y="1498680"/>
            <a:ext cx="1143000" cy="67932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</a:rPr>
              <a:t>หน่วยงานความร่วมมือ </a:t>
            </a:r>
            <a:r>
              <a:rPr b="1" lang="en-US" sz="3200" spc="-1" strike="noStrike">
                <a:solidFill>
                  <a:srgbClr val="000000"/>
                </a:solidFill>
                <a:latin typeface="TH SarabunPSK"/>
              </a:rPr>
              <a:t>(Collaborative Partn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2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141120"/>
            <a:ext cx="788688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ลักษณะความร่วมมือ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5" descr=""/>
          <p:cNvPicPr/>
          <p:nvPr/>
        </p:nvPicPr>
        <p:blipFill>
          <a:blip r:embed="rId1"/>
          <a:stretch/>
        </p:blipFill>
        <p:spPr>
          <a:xfrm>
            <a:off x="1216080" y="971640"/>
            <a:ext cx="795240" cy="116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222120" y="974880"/>
            <a:ext cx="812880" cy="1160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192400" y="857160"/>
            <a:ext cx="6615000" cy="1163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ประสานงานประเทศสมาชิกซีมีโอ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ับและคัดเลือกผลงานวิชาการ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สนับสนุนด้านพัฒนาระบบ </a:t>
            </a:r>
            <a:r>
              <a:rPr b="1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CT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ำหรับการประชุมฯ</a:t>
            </a:r>
            <a:r>
              <a:rPr b="1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2192400" y="2071800"/>
            <a:ext cx="6615000" cy="1234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ค่าเดินทางของวิทยากรหลักจากสหรัฐอเมริกา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่าน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วิทยากรประชุมปฏิบัติการ ด้านการจัดการเรียนรวม และวิทยากรร่วมอภิปร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"/>
          <p:cNvPicPr/>
          <p:nvPr/>
        </p:nvPicPr>
        <p:blipFill>
          <a:blip r:embed="rId3"/>
          <a:stretch/>
        </p:blipFill>
        <p:spPr>
          <a:xfrm>
            <a:off x="222120" y="2255760"/>
            <a:ext cx="1295640" cy="1395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9"/>
          <p:cNvSpPr/>
          <p:nvPr/>
        </p:nvSpPr>
        <p:spPr>
          <a:xfrm>
            <a:off x="2192400" y="3357720"/>
            <a:ext cx="6615000" cy="1714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ค่าเดินทางวิทยากรของ </a:t>
            </a:r>
            <a:r>
              <a:rPr b="1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Perkins International Program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ำหรับการประชุมปฏิบัติการในหัวข้อนวัตกรรมในการจัดการศึกษาสำหรับเด็กหูหนวกตาบอด และพิการซ้อน จากสหรัฐอเมริกา อินเดีย และอินโดนีเซีย จำนวน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่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2192400" y="5143680"/>
            <a:ext cx="6615000" cy="116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วิทยากรจากประเทศสหรัฐอเมริกาในการบรรยายพิเศษ และการประชุมปฏิบัติกา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4"/>
          <a:stretch/>
        </p:blipFill>
        <p:spPr>
          <a:xfrm>
            <a:off x="243000" y="5576760"/>
            <a:ext cx="1585800" cy="6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"/>
          <p:cNvPicPr/>
          <p:nvPr/>
        </p:nvPicPr>
        <p:blipFill>
          <a:blip r:embed="rId5"/>
          <a:stretch/>
        </p:blipFill>
        <p:spPr>
          <a:xfrm>
            <a:off x="222120" y="4230720"/>
            <a:ext cx="1714680" cy="484200"/>
          </a:xfrm>
          <a:prstGeom prst="rect">
            <a:avLst/>
          </a:prstGeom>
          <a:ln w="0">
            <a:noFill/>
          </a:ln>
        </p:spPr>
      </p:pic>
      <p:sp>
        <p:nvSpPr>
          <p:cNvPr id="81" name="Title 1"/>
          <p:cNvSpPr/>
          <p:nvPr/>
        </p:nvSpPr>
        <p:spPr>
          <a:xfrm>
            <a:off x="0" y="42840"/>
            <a:ext cx="9144000" cy="689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ลักษณะความร่วมมื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6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2192400" y="785880"/>
            <a:ext cx="6615000" cy="938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ค่าเดินทางของสมาชิกในการเข้าร่วมประชุ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ละนำเสนอผลงา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2192400" y="1785960"/>
            <a:ext cx="661500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ค่าเดินทางของวิทยากรในการประชุมโต๊ะกล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2192400" y="2381400"/>
            <a:ext cx="6615000" cy="1333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ด้านการจัดนิทรรศการ ด้านการสอนวิทยาศาสตร์สำหรับนักเรียนตาบอดตามแนวพระราชดำริของสมเด็จพระเทพรัตนราชสุดาฯ สยามบรมราชกุมาร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2192400" y="3786120"/>
            <a:ext cx="6615000" cy="1352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ด้านการจัดนิทรรศการตามแนวพระราชดำริของสมเด็จพระเทพรัตนราชสุดาฯ สยามบรมราชกุมารี ที่เกี่ยวข้องกับการส่งเสริมการพัฒนาเทคโนโลยีอำนวยความสะดวกสำหรับคนพิการ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36600" y="714240"/>
            <a:ext cx="1576440" cy="871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36600" y="1643040"/>
            <a:ext cx="1708200" cy="851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806400" y="2714760"/>
            <a:ext cx="711360" cy="94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4"/>
          <a:stretch/>
        </p:blipFill>
        <p:spPr>
          <a:xfrm>
            <a:off x="336600" y="4143240"/>
            <a:ext cx="1558800" cy="59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5"/>
          <a:stretch/>
        </p:blipFill>
        <p:spPr>
          <a:xfrm>
            <a:off x="644400" y="5353200"/>
            <a:ext cx="752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2192400" y="5214960"/>
            <a:ext cx="6615000" cy="1239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ด้านการประสานงานกับการท่าอากาศยาน เพื่ออำนวยความสะดวกในการต้อนรับวิทยาการและแขกคนสำคัญ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ที่ระลึก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ชาสัมพันธ์สถานที่ท่องเที่ย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0" y="0"/>
            <a:ext cx="9144000" cy="696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ลักษณะความร่วมมื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6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649440" y="17319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พื่อเฉลิมฉลองการก้าวเข้าสู่ประชาคมอาเซียน </a:t>
            </a:r>
            <a:r>
              <a:rPr b="0" lang="en-US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 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พื่อส่งเสริมการพัฒนานวัตกรรมทางการศึกษาสำหรับนักเร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ี่มีความต้องการจำเป็นพิเศ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พื่อสร้างเครือข่ายความร่วมมือของกลุ่มประเทศสมาชิกใน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ยกระดับการจัดการศึกษาสำหรับเด็กที่มีความต้องการจำเป็นพิเศ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301760" y="0"/>
            <a:ext cx="7842240" cy="765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วัตถุประสงค์หลัก</a:t>
            </a:r>
            <a:r>
              <a:rPr b="0" lang="th-TH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214200" y="642960"/>
            <a:ext cx="864396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่างประเทศ รวม </a:t>
            </a:r>
            <a:r>
              <a:rPr b="1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37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ณะกรรมการบริหารของประเทศสมาชิก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SEAMEO-SEN 11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ทศ จำนวน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1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 ประกอบด้วย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บรูไน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ัมพูชา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ินโดนีเซีย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ลาว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มียนมาร์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ิงคโปร์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วียดนาม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าเลเซีย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ฟิลิปปินส์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ทย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ิมอร์</a:t>
            </a:r>
            <a:r>
              <a:rPr b="0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-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ลสเ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แทนกระทรวงศึกษาธิการ ด้านการศึกษาพิเศษของประเทศสมาชิกซีมีโอ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1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ทศ จำนวน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4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ณะทำงานฝ่าย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SEAMEO  7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ณะทำงานฝ่าย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SEAMEO-SEN 10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ทศอื่นที่เข้าร่ว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น่วยงานของประเทศที่ให้ความร่วมมือ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บรรยายหลัก ผู้ร่วมอภิปราย และวิทยากรประชุมปฏิบัติการ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น่วยงานของประเทศที่ร่วมงาน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นำเสนอผลงาน และผู้เข้าร่วมประชุม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ำนวน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4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ท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       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กอบด้วย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ภูฎาน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ญี่ปุ่น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บังคลาเทศ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ากีสถาน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ินเดีย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ิหร่าน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ศรีลังกา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หราชอาณาจักร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         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หรัฐอเมริกา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ฮ่องกง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นมาร์ก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นประเทศ ประมาณ </a:t>
            </a:r>
            <a:r>
              <a:rPr b="1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,200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บริหารระดับสูงในกระทรวงศึกษาธิการ และผู้แทน สสวท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อศ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ศน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ช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กอ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บุคลากรที่จัดการศึกษาสำหรับคนพิการทุกสังกั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งค์กรภาครัฐ และเอกชน รวมทั้งสมาคม ที่ทำงานด้านการจัดการศึกษาสำหรับคนพิ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นำเสนอผลงานและคณะทำงา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1301760" y="0"/>
            <a:ext cx="7842240" cy="765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ลุ่มเป้าหมาย</a:t>
            </a:r>
            <a:r>
              <a:rPr b="1" lang="en-US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ำนวนประมาณ </a:t>
            </a:r>
            <a:r>
              <a:rPr b="0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,500 </a:t>
            </a:r>
            <a:r>
              <a:rPr b="0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</a:t>
            </a:r>
            <a:r>
              <a:rPr b="0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57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1346040" y="2087640"/>
            <a:ext cx="7309080" cy="62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วัตกรรมการเรียนรู้และการสอนสำหรับนักเรียนที่มีความต้องการจำเป็นพิเศษ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Learning and Teaching Innovation for Students with Special Educational Needs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วัตกรรมในงานการให้บริการช่วยเหลือในระยะแรกเริ่ม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nnovation in Early Intervention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วัตกรรมในงานการจัดการเรียนร่วม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nnovation in Inclusive Education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จัดการศึกษาเพื่อการมีงานทำ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ransition from School to Employment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ฝึกอาชีพ และอาชีวศึกษาสำหรับเด็กที่มีความต้องการจำเป็นพิเศษ </a:t>
            </a:r>
            <a:br>
              <a:rPr sz="2200"/>
            </a:b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VET: Technical Vocational Education Training for SEN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.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วัตกรรมการจัดการศึกษาสำหรับนักเรียนหูหนวกตาบอดและนักเรียนพิการซ้อน</a:t>
            </a:r>
            <a:br>
              <a:rPr sz="2200"/>
            </a:b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nnovation in Deaf blind and Multiple Disabilities Education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สร้างเครือข่ายในงานการศึกษาพิเศษ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Networking in Special Education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.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โยบายที่เกี่ยวข้องกับการศึกษาพิเศษ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Policy on Disabilities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9.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ปัญญาเลิศ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วามสามารถพิเศษ 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Gifted and Talented</a:t>
            </a:r>
            <a:r>
              <a:rPr b="0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1301760" y="0"/>
            <a:ext cx="7842240" cy="642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ัวข้อหลัก และ </a:t>
            </a:r>
            <a:r>
              <a:rPr b="1" lang="en-US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9</a:t>
            </a:r>
            <a:r>
              <a:rPr b="1" lang="th-TH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ัวข้อย่อยในการประชุ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360440" y="857160"/>
            <a:ext cx="7731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วัตกรรมเสริมสร้างการเรียนรู้และการจัดการเรียนการสอนสำหรับเด็กที่มีความต้องการจำเป็นพิเศ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nnovation to Enhance Learning Initiatives and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255600" y="857160"/>
            <a:ext cx="106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ัวข้อหลัก </a:t>
            </a:r>
            <a:r>
              <a:rPr b="1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264960" y="2000160"/>
            <a:ext cx="10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ัวข้อย่อย </a:t>
            </a:r>
            <a:r>
              <a:rPr b="1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ตัวเชื่อมต่อตรง 13"/>
          <p:cNvSpPr/>
          <p:nvPr/>
        </p:nvSpPr>
        <p:spPr>
          <a:xfrm>
            <a:off x="1477800" y="1785960"/>
            <a:ext cx="709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01760" cy="6350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0" y="65199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95959"/>
                </a:solidFill>
                <a:latin typeface="TH SarabunPSK"/>
                <a:cs typeface="TH SarabunPSK"/>
              </a:rPr>
              <a:t>การประชุมวิชาการนานาชาติด้านการศึกษาพิเศษ ครั้งที่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1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(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The 1</a:t>
            </a:r>
            <a:r>
              <a:rPr b="0" lang="en-US" sz="1600" spc="-1" strike="noStrike" baseline="30000">
                <a:solidFill>
                  <a:srgbClr val="595959"/>
                </a:solidFill>
                <a:latin typeface="TH SarabunPSK"/>
                <a:ea typeface="TH SarabunPSK"/>
              </a:rPr>
              <a:t>st</a:t>
            </a:r>
            <a:r>
              <a:rPr b="0" lang="en-US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 International Conference on Special Education</a:t>
            </a:r>
            <a:r>
              <a:rPr b="0" lang="th-TH" sz="1600" spc="-1" strike="noStrike">
                <a:solidFill>
                  <a:srgbClr val="595959"/>
                </a:solidFill>
                <a:latin typeface="TH SarabunPSK"/>
                <a:ea typeface="TH SarabunPS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992160" y="6416640"/>
            <a:ext cx="309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07:13:47Z</dcterms:created>
  <dc:creator>Windows User</dc:creator>
  <dc:description/>
  <dc:language>en-US</dc:language>
  <cp:lastModifiedBy>User</cp:lastModifiedBy>
  <cp:lastPrinted>2015-05-19T08:14:55Z</cp:lastPrinted>
  <dcterms:modified xsi:type="dcterms:W3CDTF">2015-05-29T04:19:57Z</dcterms:modified>
  <cp:revision>176</cp:revision>
  <dc:subject/>
  <dc:title>ภาพนิ่ง 1</dc:title>
</cp:coreProperties>
</file>